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E0F-729B-45C5-9D28-181D7466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CC7-2A85-4FF5-9364-129320F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3DF-EB0E-4270-9624-AE209768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5DB-7B76-490F-9960-4F85ECD8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75A-F784-40BF-824D-5323CDA2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20E-1A10-4DC5-8F54-27916E65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906-E865-49D1-96E4-4629CEF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2C8-7FCE-4581-81ED-8FCF7E31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CFB-F01B-49C6-A375-A8337E6D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14D-7F45-440B-AD0E-EB1F456E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394-8FF3-49E0-BB0C-0C3DFA1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115-9A2F-4E2D-BE6C-90C71C5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F57-BB76-47AF-9D51-917B2233E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Monotype Corsiva"/>
                <a:ea typeface="Arial Unicode MS"/>
              </a:rPr>
              <a:t>Wint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500120" y="357120"/>
            <a:ext cx="68580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еян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57200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Подготовила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иностран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Алексеева Светлан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26520" y="6286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Выгнутая вправо стрелка 4">
            <a:hlinkClick r:id="rId1" action="ppaction://hlinksldjump"/>
          </p:cNvPr>
          <p:cNvSpPr/>
          <p:nvPr/>
        </p:nvSpPr>
        <p:spPr>
          <a:xfrm>
            <a:off x="8072280" y="5429160"/>
            <a:ext cx="500400" cy="714600"/>
          </a:xfrm>
          <a:custGeom>
            <a:avLst/>
            <a:gdLst>
              <a:gd name="textAreaLeft" fmla="*/ 66960 w 500400"/>
              <a:gd name="textAreaRight" fmla="*/ 433440 w 500400"/>
              <a:gd name="textAreaTop" fmla="*/ 131760 h 714600"/>
              <a:gd name="textAreaBottom" fmla="*/ 5205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 rot="20875800">
            <a:off x="3504600" y="4778280"/>
            <a:ext cx="221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Baskerville Old Face"/>
              </a:rPr>
              <a:t>Falsch</a:t>
            </a:r>
            <a:r>
              <a:rPr b="1" lang="en-US" sz="5400" spc="-1" strike="noStrike">
                <a:solidFill>
                  <a:srgbClr val="10253f"/>
                </a:solidFill>
                <a:latin typeface="Baskerville Old Face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emocii-2198.gif"/>
          <p:cNvPicPr/>
          <p:nvPr/>
        </p:nvPicPr>
        <p:blipFill>
          <a:blip r:embed="rId2"/>
          <a:stretch/>
        </p:blipFill>
        <p:spPr>
          <a:xfrm>
            <a:off x="2927520" y="1714680"/>
            <a:ext cx="241596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V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1169640" y="4786200"/>
            <a:ext cx="583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) Ein Vogel läuft S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2) Ein Vogel läuft Schlittschu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10" descr="sporta-672.gif"/>
          <p:cNvPicPr/>
          <p:nvPr/>
        </p:nvPicPr>
        <p:blipFill>
          <a:blip r:embed="rId3"/>
          <a:stretch/>
        </p:blipFill>
        <p:spPr>
          <a:xfrm>
            <a:off x="2786040" y="1643040"/>
            <a:ext cx="280044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Выгнутая вправо стрелка 4">
            <a:hlinkClick r:id="rId1" action="ppaction://hlinksldjump"/>
          </p:cNvPr>
          <p:cNvSpPr/>
          <p:nvPr/>
        </p:nvSpPr>
        <p:spPr>
          <a:xfrm>
            <a:off x="8072280" y="5429160"/>
            <a:ext cx="500400" cy="714600"/>
          </a:xfrm>
          <a:custGeom>
            <a:avLst/>
            <a:gdLst>
              <a:gd name="textAreaLeft" fmla="*/ 66960 w 500400"/>
              <a:gd name="textAreaRight" fmla="*/ 433440 w 500400"/>
              <a:gd name="textAreaTop" fmla="*/ 131760 h 714600"/>
              <a:gd name="textAreaBottom" fmla="*/ 5205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 rot="21378600">
            <a:off x="3844440" y="413352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7" descr="emocii-2154.gif"/>
          <p:cNvPicPr/>
          <p:nvPr/>
        </p:nvPicPr>
        <p:blipFill>
          <a:blip r:embed="rId2"/>
          <a:stretch/>
        </p:blipFill>
        <p:spPr>
          <a:xfrm>
            <a:off x="3214800" y="1714680"/>
            <a:ext cx="25257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Выгнутая вправо стрелка 6">
            <a:hlinkClick r:id="rId1" action="ppaction://hlinksldjump"/>
          </p:cNvPr>
          <p:cNvSpPr/>
          <p:nvPr/>
        </p:nvSpPr>
        <p:spPr>
          <a:xfrm>
            <a:off x="8143920" y="5500800"/>
            <a:ext cx="571320" cy="714240"/>
          </a:xfrm>
          <a:custGeom>
            <a:avLst/>
            <a:gdLst>
              <a:gd name="textAreaLeft" fmla="*/ 76320 w 571320"/>
              <a:gd name="textAreaRight" fmla="*/ 495000 w 571320"/>
              <a:gd name="textAreaTop" fmla="*/ 124920 h 714240"/>
              <a:gd name="textAreaBottom" fmla="*/ 518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 rot="21081600">
            <a:off x="3269160" y="35676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5" descr="emocii-1912.gif"/>
          <p:cNvPicPr/>
          <p:nvPr/>
        </p:nvPicPr>
        <p:blipFill>
          <a:blip r:embed="rId2"/>
          <a:stretch/>
        </p:blipFill>
        <p:spPr>
          <a:xfrm>
            <a:off x="3571920" y="15476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zimaa-244.gif"/>
          <p:cNvPicPr/>
          <p:nvPr/>
        </p:nvPicPr>
        <p:blipFill>
          <a:blip r:embed="rId1"/>
          <a:stretch/>
        </p:blipFill>
        <p:spPr>
          <a:xfrm>
            <a:off x="2357280" y="2143080"/>
            <a:ext cx="4667400" cy="2392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57120" y="5000760"/>
            <a:ext cx="812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) Ein Junge  macht eine Schneeballschl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) Ein Junge baut einen Schneema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гнутая вправо стрелка 4">
            <a:hlinkClick r:id="rId1" action="ppaction://hlinksldjump"/>
          </p:cNvPr>
          <p:cNvSpPr/>
          <p:nvPr/>
        </p:nvSpPr>
        <p:spPr>
          <a:xfrm>
            <a:off x="8072280" y="5429160"/>
            <a:ext cx="500400" cy="714600"/>
          </a:xfrm>
          <a:custGeom>
            <a:avLst/>
            <a:gdLst>
              <a:gd name="textAreaLeft" fmla="*/ 66960 w 500400"/>
              <a:gd name="textAreaRight" fmla="*/ 433440 w 500400"/>
              <a:gd name="textAreaTop" fmla="*/ 131760 h 714600"/>
              <a:gd name="textAreaBottom" fmla="*/ 5205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 rot="21126600">
            <a:off x="3357360" y="407196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7" descr="emocii-2198.gif"/>
          <p:cNvPicPr/>
          <p:nvPr/>
        </p:nvPicPr>
        <p:blipFill>
          <a:blip r:embed="rId2"/>
          <a:stretch/>
        </p:blipFill>
        <p:spPr>
          <a:xfrm>
            <a:off x="3075120" y="1357200"/>
            <a:ext cx="275436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Выгнутая вправо стрелка 6">
            <a:hlinkClick r:id="rId1" action="ppaction://hlinksldjump"/>
          </p:cNvPr>
          <p:cNvSpPr/>
          <p:nvPr/>
        </p:nvSpPr>
        <p:spPr>
          <a:xfrm>
            <a:off x="8143920" y="5500800"/>
            <a:ext cx="571320" cy="714240"/>
          </a:xfrm>
          <a:custGeom>
            <a:avLst/>
            <a:gdLst>
              <a:gd name="textAreaLeft" fmla="*/ 76320 w 571320"/>
              <a:gd name="textAreaRight" fmla="*/ 495000 w 571320"/>
              <a:gd name="textAreaTop" fmla="*/ 124920 h 714240"/>
              <a:gd name="textAreaBottom" fmla="*/ 518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20739600">
            <a:off x="3304440" y="3917520"/>
            <a:ext cx="235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5" descr="emocii-1912.gif"/>
          <p:cNvPicPr/>
          <p:nvPr/>
        </p:nvPicPr>
        <p:blipFill>
          <a:blip r:embed="rId2"/>
          <a:stretch/>
        </p:blipFill>
        <p:spPr>
          <a:xfrm>
            <a:off x="3357720" y="126216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I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detia-856.gif"/>
          <p:cNvPicPr/>
          <p:nvPr/>
        </p:nvPicPr>
        <p:blipFill>
          <a:blip r:embed="rId1"/>
          <a:stretch/>
        </p:blipFill>
        <p:spPr>
          <a:xfrm>
            <a:off x="3571920" y="1500120"/>
            <a:ext cx="2619360" cy="2619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2500200" y="478620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) Ein Junge rod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) Ein Junge läuft S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Выгнутая вправо стрелка 4">
            <a:hlinkClick r:id="rId1" action="ppaction://hlinksldjump"/>
          </p:cNvPr>
          <p:cNvSpPr/>
          <p:nvPr/>
        </p:nvSpPr>
        <p:spPr>
          <a:xfrm>
            <a:off x="8072280" y="5429160"/>
            <a:ext cx="500400" cy="714600"/>
          </a:xfrm>
          <a:custGeom>
            <a:avLst/>
            <a:gdLst>
              <a:gd name="textAreaLeft" fmla="*/ 66960 w 500400"/>
              <a:gd name="textAreaRight" fmla="*/ 433440 w 500400"/>
              <a:gd name="textAreaTop" fmla="*/ 131760 h 714600"/>
              <a:gd name="textAreaBottom" fmla="*/ 5205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 rot="21049200">
            <a:off x="3888000" y="385308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7" descr="emocii-2154.gif"/>
          <p:cNvPicPr/>
          <p:nvPr/>
        </p:nvPicPr>
        <p:blipFill>
          <a:blip r:embed="rId2"/>
          <a:stretch/>
        </p:blipFill>
        <p:spPr>
          <a:xfrm>
            <a:off x="3500280" y="1643040"/>
            <a:ext cx="24084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Выгнутая вправо стрелка 6">
            <a:hlinkClick r:id="rId1" action="ppaction://hlinksldjump"/>
          </p:cNvPr>
          <p:cNvSpPr/>
          <p:nvPr/>
        </p:nvSpPr>
        <p:spPr>
          <a:xfrm>
            <a:off x="8143920" y="5500800"/>
            <a:ext cx="571320" cy="714240"/>
          </a:xfrm>
          <a:custGeom>
            <a:avLst/>
            <a:gdLst>
              <a:gd name="textAreaLeft" fmla="*/ 76320 w 571320"/>
              <a:gd name="textAreaRight" fmla="*/ 495000 w 571320"/>
              <a:gd name="textAreaTop" fmla="*/ 124920 h 714240"/>
              <a:gd name="textAreaBottom" fmla="*/ 518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 rot="20902800">
            <a:off x="3343320" y="4307400"/>
            <a:ext cx="208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5" descr="emocii-1855.gif"/>
          <p:cNvPicPr/>
          <p:nvPr/>
        </p:nvPicPr>
        <p:blipFill>
          <a:blip r:embed="rId2"/>
          <a:stretch/>
        </p:blipFill>
        <p:spPr>
          <a:xfrm>
            <a:off x="3000240" y="1562040"/>
            <a:ext cx="27338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286000" y="485784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) Der Herbst ist 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2) Der Winter ist 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5" descr="377333013.gif"/>
          <p:cNvPicPr/>
          <p:nvPr/>
        </p:nvPicPr>
        <p:blipFill>
          <a:blip r:embed="rId3"/>
          <a:srcRect l="0" t="0" r="683" b="23669"/>
          <a:stretch/>
        </p:blipFill>
        <p:spPr>
          <a:xfrm>
            <a:off x="1785960" y="1357200"/>
            <a:ext cx="5264280" cy="34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) Es regnet._x000b_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2) Es schne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zimaa-278.gif"/>
          <p:cNvPicPr/>
          <p:nvPr/>
        </p:nvPicPr>
        <p:blipFill>
          <a:blip r:embed="rId3"/>
          <a:stretch/>
        </p:blipFill>
        <p:spPr>
          <a:xfrm>
            <a:off x="2000160" y="100008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1928880" y="4287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I.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elch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ntwort pas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Выгнутая вправо стрелка 4">
            <a:hlinkClick r:id="rId1" action="ppaction://hlinksldjump"/>
          </p:cNvPr>
          <p:cNvSpPr/>
          <p:nvPr/>
        </p:nvSpPr>
        <p:spPr>
          <a:xfrm>
            <a:off x="7858080" y="5429160"/>
            <a:ext cx="714600" cy="857520"/>
          </a:xfrm>
          <a:custGeom>
            <a:avLst/>
            <a:gdLst>
              <a:gd name="textAreaLeft" fmla="*/ 95760 w 714600"/>
              <a:gd name="textAreaRight" fmla="*/ 618840 w 714600"/>
              <a:gd name="textAreaTop" fmla="*/ 147240 h 857520"/>
              <a:gd name="textAreaBottom" fmla="*/ 62100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5" stAng="-5400000" swAng="5400000"/>
                <a:lnTo>
                  <a:pt x="21600" y="11925"/>
                </a:lnTo>
                <a:arcTo wR="21600" hR="7425" stAng="0" swAng="3185334"/>
                <a:lnTo>
                  <a:pt x="5400" y="21364"/>
                </a:lnTo>
                <a:lnTo>
                  <a:pt x="0" y="17100"/>
                </a:lnTo>
                <a:lnTo>
                  <a:pt x="5400" y="12364"/>
                </a:lnTo>
                <a:lnTo>
                  <a:pt x="5400" y="14614"/>
                </a:lnTo>
                <a:arcTo wR="21600" hR="7425" stAng="3185334" swAng="-2811053"/>
                <a:lnTo>
                  <a:pt x="20584" y="9675"/>
                </a:lnTo>
                <a:arcTo wR="21600" hR="7425" stAng="-374281" swAng="-5025719"/>
                <a:close/>
              </a:path>
              <a:path fill="darkenLess" w="21600" h="21600">
                <a:moveTo>
                  <a:pt x="0" y="0"/>
                </a:moveTo>
                <a:arcTo wR="21600" hR="7425" stAng="-5400000" swAng="5400000"/>
                <a:lnTo>
                  <a:pt x="21600" y="11925"/>
                </a:lnTo>
                <a:arcTo wR="21600" hR="7425" stAng="0" swAng="-374281"/>
                <a:lnTo>
                  <a:pt x="20584" y="9675"/>
                </a:lnTo>
                <a:arcTo wR="21600" hR="7425" stAng="-374281" swAng="-50257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 rot="21061200">
            <a:off x="3480840" y="3638880"/>
            <a:ext cx="214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6" descr="emocii-1855.gif"/>
          <p:cNvPicPr/>
          <p:nvPr/>
        </p:nvPicPr>
        <p:blipFill>
          <a:blip r:embed="rId2"/>
          <a:stretch/>
        </p:blipFill>
        <p:spPr>
          <a:xfrm>
            <a:off x="2786040" y="1071720"/>
            <a:ext cx="32148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Выгнутая вправо стрелка 4">
            <a:hlinkClick r:id="rId1" action="ppaction://hlinksldjump"/>
          </p:cNvPr>
          <p:cNvSpPr/>
          <p:nvPr/>
        </p:nvSpPr>
        <p:spPr>
          <a:xfrm>
            <a:off x="7929720" y="5429160"/>
            <a:ext cx="785520" cy="928800"/>
          </a:xfrm>
          <a:custGeom>
            <a:avLst/>
            <a:gdLst>
              <a:gd name="textAreaLeft" fmla="*/ 105120 w 785520"/>
              <a:gd name="textAreaRight" fmla="*/ 680400 w 785520"/>
              <a:gd name="textAreaTop" fmla="*/ 158400 h 928800"/>
              <a:gd name="textAreaBottom" fmla="*/ 672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73" stAng="-5400000" swAng="5400000"/>
                <a:lnTo>
                  <a:pt x="21600" y="11943"/>
                </a:lnTo>
                <a:arcTo wR="21600" hR="7373" stAng="0" swAng="3173721"/>
                <a:lnTo>
                  <a:pt x="5400" y="21366"/>
                </a:lnTo>
                <a:lnTo>
                  <a:pt x="0" y="17031"/>
                </a:lnTo>
                <a:lnTo>
                  <a:pt x="5400" y="12228"/>
                </a:lnTo>
                <a:lnTo>
                  <a:pt x="5400" y="14512"/>
                </a:lnTo>
                <a:arcTo wR="21600" hR="7373" stAng="3173721" swAng="-2792786"/>
                <a:lnTo>
                  <a:pt x="20537" y="9658"/>
                </a:lnTo>
                <a:arcTo wR="21600" hR="7373" stAng="-380935" swAng="-5019065"/>
                <a:close/>
              </a:path>
              <a:path fill="darkenLess" w="21600" h="21600">
                <a:moveTo>
                  <a:pt x="0" y="0"/>
                </a:moveTo>
                <a:arcTo wR="21600" hR="7373" stAng="-5400000" swAng="5400000"/>
                <a:lnTo>
                  <a:pt x="21600" y="11943"/>
                </a:lnTo>
                <a:arcTo wR="21600" hR="7373" stAng="0" swAng="-380935"/>
                <a:lnTo>
                  <a:pt x="20537" y="9658"/>
                </a:lnTo>
                <a:arcTo wR="21600" hR="7373" stAng="-380935" swAng="-50190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 rot="20680800">
            <a:off x="3943800" y="3923280"/>
            <a:ext cx="177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7" descr="emocii-2154.gif"/>
          <p:cNvPicPr/>
          <p:nvPr/>
        </p:nvPicPr>
        <p:blipFill>
          <a:blip r:embed="rId2"/>
          <a:stretch/>
        </p:blipFill>
        <p:spPr>
          <a:xfrm>
            <a:off x="3357720" y="1571760"/>
            <a:ext cx="248904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) Der Schneemann</a:t>
            </a: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läuft Schi.</a:t>
            </a:r>
            <a:br>
              <a:rPr sz="3200"/>
            </a:b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)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Der Schneemann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cht eine Schneeballschlac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zimaa-108.gif"/>
          <p:cNvPicPr/>
          <p:nvPr/>
        </p:nvPicPr>
        <p:blipFill>
          <a:blip r:embed="rId5"/>
          <a:stretch/>
        </p:blipFill>
        <p:spPr>
          <a:xfrm>
            <a:off x="3357720" y="128592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928880" y="21420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II. Welche Antwort pas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Выгнутая вправо стрелка 4"/>
          <p:cNvSpPr/>
          <p:nvPr/>
        </p:nvSpPr>
        <p:spPr>
          <a:xfrm>
            <a:off x="8215200" y="5857920"/>
            <a:ext cx="642960" cy="571320"/>
          </a:xfrm>
          <a:custGeom>
            <a:avLst/>
            <a:gdLst>
              <a:gd name="textAreaLeft" fmla="*/ 86040 w 642960"/>
              <a:gd name="textAreaRight" fmla="*/ 556920 w 642960"/>
              <a:gd name="textAreaTop" fmla="*/ 89280 h 571320"/>
              <a:gd name="textAreaBottom" fmla="*/ 410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3697"/>
                <a:lnTo>
                  <a:pt x="4800" y="21431"/>
                </a:lnTo>
                <a:lnTo>
                  <a:pt x="0" y="16200"/>
                </a:lnTo>
                <a:lnTo>
                  <a:pt x="4800" y="10631"/>
                </a:lnTo>
                <a:lnTo>
                  <a:pt x="4800" y="13331"/>
                </a:lnTo>
                <a:arcTo wR="21600" hR="6750" stAng="3233697" swAng="-276771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 rot="21103800">
            <a:off x="3130560" y="385308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6" descr="emocii-1855.gif"/>
          <p:cNvPicPr/>
          <p:nvPr/>
        </p:nvPicPr>
        <p:blipFill>
          <a:blip r:embed="rId1"/>
          <a:stretch/>
        </p:blipFill>
        <p:spPr>
          <a:xfrm>
            <a:off x="2928960" y="1214280"/>
            <a:ext cx="309564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Выгнутая вправо стрелка 4"/>
          <p:cNvSpPr/>
          <p:nvPr/>
        </p:nvSpPr>
        <p:spPr>
          <a:xfrm>
            <a:off x="8001000" y="5715000"/>
            <a:ext cx="857160" cy="857160"/>
          </a:xfrm>
          <a:custGeom>
            <a:avLst/>
            <a:gdLst>
              <a:gd name="textAreaLeft" fmla="*/ 114840 w 857160"/>
              <a:gd name="textAreaRight" fmla="*/ 742320 w 85716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 rot="20633400">
            <a:off x="3571200" y="40719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7" descr="emocii-2198.gif"/>
          <p:cNvPicPr/>
          <p:nvPr/>
        </p:nvPicPr>
        <p:blipFill>
          <a:blip r:embed="rId1"/>
          <a:stretch/>
        </p:blipFill>
        <p:spPr>
          <a:xfrm>
            <a:off x="3429000" y="1643040"/>
            <a:ext cx="204300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37800" y="114300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ttp://www.smayli.ru/det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28800" y="16099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ww.smayli.ru/zimaa_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28800" y="18223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ww.smayli.ru/sport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929240" y="71424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28800" y="226152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stihoff.ucoz.ru/photo/vremena_goda/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943200" y="271476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smayli.ru/emocii_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587200">
            <a:off x="2369880" y="3952440"/>
            <a:ext cx="378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ыгнутая вправо стрелка 3">
            <a:hlinkClick r:id="rId1" action="ppaction://hlinksldjump"/>
          </p:cNvPr>
          <p:cNvSpPr/>
          <p:nvPr/>
        </p:nvSpPr>
        <p:spPr>
          <a:xfrm>
            <a:off x="7715160" y="5357880"/>
            <a:ext cx="857520" cy="642960"/>
          </a:xfrm>
          <a:custGeom>
            <a:avLst/>
            <a:gdLst>
              <a:gd name="textAreaLeft" fmla="*/ 114840 w 857520"/>
              <a:gd name="textAreaRight" fmla="*/ 742680 w 857520"/>
              <a:gd name="textAreaTop" fmla="*/ 100440 h 642960"/>
              <a:gd name="textAreaBottom" fmla="*/ 4622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14921"/>
                <a:lnTo>
                  <a:pt x="4050" y="21480"/>
                </a:lnTo>
                <a:lnTo>
                  <a:pt x="0" y="16200"/>
                </a:lnTo>
                <a:lnTo>
                  <a:pt x="4050" y="10680"/>
                </a:lnTo>
                <a:lnTo>
                  <a:pt x="4050" y="13380"/>
                </a:lnTo>
                <a:arcTo wR="21600" hR="6750" stAng="3514921" swAng="-304893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5" descr="emocii-2198.gif"/>
          <p:cNvPicPr/>
          <p:nvPr/>
        </p:nvPicPr>
        <p:blipFill>
          <a:blip r:embed="rId2"/>
          <a:stretch/>
        </p:blipFill>
        <p:spPr>
          <a:xfrm>
            <a:off x="3286080" y="142884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 rot="20979600">
            <a:off x="3288600" y="444744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Выгнутая вправо стрелка 3">
            <a:hlinkClick r:id="rId1" action="ppaction://hlinksldjump"/>
          </p:cNvPr>
          <p:cNvSpPr/>
          <p:nvPr/>
        </p:nvSpPr>
        <p:spPr>
          <a:xfrm>
            <a:off x="7643880" y="5572080"/>
            <a:ext cx="857160" cy="714600"/>
          </a:xfrm>
          <a:custGeom>
            <a:avLst/>
            <a:gdLst>
              <a:gd name="textAreaLeft" fmla="*/ 114840 w 857160"/>
              <a:gd name="textAreaRight" fmla="*/ 742320 w 857160"/>
              <a:gd name="textAreaTop" fmla="*/ 111600 h 714600"/>
              <a:gd name="textAreaBottom" fmla="*/ 5137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43246"/>
                <a:lnTo>
                  <a:pt x="4500" y="21452"/>
                </a:lnTo>
                <a:lnTo>
                  <a:pt x="0" y="16200"/>
                </a:lnTo>
                <a:lnTo>
                  <a:pt x="4500" y="10652"/>
                </a:lnTo>
                <a:lnTo>
                  <a:pt x="4500" y="13352"/>
                </a:lnTo>
                <a:arcTo wR="21600" hR="6750" stAng="3343246" swAng="-287726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5" descr="emocii-1855.gif"/>
          <p:cNvPicPr/>
          <p:nvPr/>
        </p:nvPicPr>
        <p:blipFill>
          <a:blip r:embed="rId2"/>
          <a:stretch/>
        </p:blipFill>
        <p:spPr>
          <a:xfrm>
            <a:off x="3143160" y="1785960"/>
            <a:ext cx="2814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I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zimaa-114.gif"/>
          <p:cNvPicPr/>
          <p:nvPr/>
        </p:nvPicPr>
        <p:blipFill>
          <a:blip r:embed="rId1"/>
          <a:stretch/>
        </p:blipFill>
        <p:spPr>
          <a:xfrm>
            <a:off x="7500960" y="142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zimaa-114.gif"/>
          <p:cNvPicPr/>
          <p:nvPr/>
        </p:nvPicPr>
        <p:blipFill>
          <a:blip r:embed="rId2"/>
          <a:stretch/>
        </p:blipFill>
        <p:spPr>
          <a:xfrm>
            <a:off x="4500720" y="4000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zimaa-114.gif"/>
          <p:cNvPicPr/>
          <p:nvPr/>
        </p:nvPicPr>
        <p:blipFill>
          <a:blip r:embed="rId3"/>
          <a:stretch/>
        </p:blipFill>
        <p:spPr>
          <a:xfrm>
            <a:off x="3429000" y="13572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zimaa-114.gif"/>
          <p:cNvPicPr/>
          <p:nvPr/>
        </p:nvPicPr>
        <p:blipFill>
          <a:blip r:embed="rId4"/>
          <a:stretch/>
        </p:blipFill>
        <p:spPr>
          <a:xfrm>
            <a:off x="7500960" y="3429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zimaa-114.gif"/>
          <p:cNvPicPr/>
          <p:nvPr/>
        </p:nvPicPr>
        <p:blipFill>
          <a:blip r:embed="rId5"/>
          <a:stretch/>
        </p:blipFill>
        <p:spPr>
          <a:xfrm>
            <a:off x="6643800" y="17859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zimaa-114.gif"/>
          <p:cNvPicPr/>
          <p:nvPr/>
        </p:nvPicPr>
        <p:blipFill>
          <a:blip r:embed="rId6"/>
          <a:stretch/>
        </p:blipFill>
        <p:spPr>
          <a:xfrm>
            <a:off x="1357200" y="39290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571680" y="257184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1) Die Schneeflocken fallen auf die E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2) Die Blätter fallen auf die E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Выгнутая вправо стрелка 4">
            <a:hlinkClick r:id="rId1" action="ppaction://hlinksldjump"/>
          </p:cNvPr>
          <p:cNvSpPr/>
          <p:nvPr/>
        </p:nvSpPr>
        <p:spPr>
          <a:xfrm>
            <a:off x="7643880" y="5429160"/>
            <a:ext cx="928800" cy="7146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11600 h 714600"/>
              <a:gd name="textAreaBottom" fmla="*/ 5137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74457"/>
                <a:lnTo>
                  <a:pt x="4154" y="21474"/>
                </a:lnTo>
                <a:lnTo>
                  <a:pt x="0" y="16200"/>
                </a:lnTo>
                <a:lnTo>
                  <a:pt x="4154" y="10674"/>
                </a:lnTo>
                <a:lnTo>
                  <a:pt x="4154" y="13374"/>
                </a:lnTo>
                <a:arcTo wR="21600" hR="6750" stAng="3474457" swAng="-300847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 rot="20765400">
            <a:off x="3515760" y="4642200"/>
            <a:ext cx="196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Baskerville Old Face"/>
              </a:rPr>
              <a:t>Falsc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7" descr="emocii-2198.gif"/>
          <p:cNvPicPr/>
          <p:nvPr/>
        </p:nvPicPr>
        <p:blipFill>
          <a:blip r:embed="rId2"/>
          <a:stretch/>
        </p:blipFill>
        <p:spPr>
          <a:xfrm>
            <a:off x="2786040" y="1501920"/>
            <a:ext cx="26542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Выгнутая вправо стрелка 6">
            <a:hlinkClick r:id="rId1" action="ppaction://hlinksldjump"/>
          </p:cNvPr>
          <p:cNvSpPr/>
          <p:nvPr/>
        </p:nvSpPr>
        <p:spPr>
          <a:xfrm>
            <a:off x="7786800" y="5500800"/>
            <a:ext cx="928440" cy="714240"/>
          </a:xfrm>
          <a:custGeom>
            <a:avLst/>
            <a:gdLst>
              <a:gd name="textAreaLeft" fmla="*/ 124200 w 928440"/>
              <a:gd name="textAreaRight" fmla="*/ 804240 w 928440"/>
              <a:gd name="textAreaTop" fmla="*/ 111600 h 714240"/>
              <a:gd name="textAreaBottom" fmla="*/ 513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74457"/>
                <a:lnTo>
                  <a:pt x="4154" y="21474"/>
                </a:lnTo>
                <a:lnTo>
                  <a:pt x="0" y="16200"/>
                </a:lnTo>
                <a:lnTo>
                  <a:pt x="4154" y="10674"/>
                </a:lnTo>
                <a:lnTo>
                  <a:pt x="4154" y="13374"/>
                </a:lnTo>
                <a:arcTo wR="21600" hR="6750" stAng="3474457" swAng="-300847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 rot="21221400">
            <a:off x="3302280" y="4272480"/>
            <a:ext cx="245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8" descr="emocii-1912.gif"/>
          <p:cNvPicPr/>
          <p:nvPr/>
        </p:nvPicPr>
        <p:blipFill>
          <a:blip r:embed="rId2"/>
          <a:stretch/>
        </p:blipFill>
        <p:spPr>
          <a:xfrm>
            <a:off x="3643200" y="1928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II. Welche Antwort pas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sporta-1315.gif"/>
          <p:cNvPicPr/>
          <p:nvPr/>
        </p:nvPicPr>
        <p:blipFill>
          <a:blip r:embed="rId1"/>
          <a:stretch/>
        </p:blipFill>
        <p:spPr>
          <a:xfrm>
            <a:off x="2571840" y="1500120"/>
            <a:ext cx="2990880" cy="223848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402560" y="4786200"/>
            <a:ext cx="623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) Ein Sportler  läuft S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) Ein Sportler läuft Schlittschu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гнутая вправо стрелка 6">
            <a:hlinkClick r:id="rId1" action="ppaction://hlinksldjump"/>
          </p:cNvPr>
          <p:cNvSpPr/>
          <p:nvPr/>
        </p:nvSpPr>
        <p:spPr>
          <a:xfrm>
            <a:off x="8143920" y="5500800"/>
            <a:ext cx="571320" cy="714240"/>
          </a:xfrm>
          <a:custGeom>
            <a:avLst/>
            <a:gdLst>
              <a:gd name="textAreaLeft" fmla="*/ 76320 w 571320"/>
              <a:gd name="textAreaRight" fmla="*/ 495000 w 571320"/>
              <a:gd name="textAreaTop" fmla="*/ 124920 h 714240"/>
              <a:gd name="textAreaBottom" fmla="*/ 518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 rot="20635800">
            <a:off x="3529440" y="3771720"/>
            <a:ext cx="215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Baskerville Old Face"/>
              </a:rPr>
              <a:t>Richti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emocii-1855.gif"/>
          <p:cNvPicPr/>
          <p:nvPr/>
        </p:nvPicPr>
        <p:blipFill>
          <a:blip r:embed="rId2"/>
          <a:stretch/>
        </p:blipFill>
        <p:spPr>
          <a:xfrm>
            <a:off x="2986200" y="1500120"/>
            <a:ext cx="2871720" cy="218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9:29Z</dcterms:created>
  <dc:creator>SamLab.ws</dc:creator>
  <dc:description/>
  <dc:language>en-US</dc:language>
  <cp:lastModifiedBy>SamLab.ws</cp:lastModifiedBy>
  <dcterms:modified xsi:type="dcterms:W3CDTF">2011-02-27T13:13:15Z</dcterms:modified>
  <cp:revision>41</cp:revision>
  <dc:subject/>
  <dc:title>Слайд 1</dc:title>
</cp:coreProperties>
</file>