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D1E-9F67-4754-B23E-CB8AC93E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887-57E2-40C5-A256-FB05CAB9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4C8-0AE1-4797-B6E1-A782CB82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78B-1D57-4B07-8CC7-6E57B78A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B7C-FAB5-4F06-93B4-F09C2909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E5E-F886-484B-B4D5-0746218D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2BA-D8BB-4C14-964F-B68BF369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01A-9966-47BE-AFC5-28FB2FF9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B83-6942-4DBB-AC8F-3FE1272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BD5-141F-4423-9CB3-ACEA7821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FCF-0A56-4139-8C50-B16AB1C3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328-CFBE-4094-BC68-B66D7B4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3A00-D4AA-44BF-8767-96556AE45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484280"/>
            <a:ext cx="619272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активные таблицы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русскому язык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класс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1640" y="3716280"/>
            <a:ext cx="324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ГОВ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92360" y="1341360"/>
            <a:ext cx="568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лько в слове гласных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олько и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16000" y="765000"/>
            <a:ext cx="403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 переноси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24360" y="98100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ЛОГА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2060640"/>
            <a:ext cx="655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переносе слов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двойными согласным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а буква согласног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19280" y="4437000"/>
            <a:ext cx="58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ТАЁТСЯ НА СТРОЧКЕ,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7280" y="5373720"/>
            <a:ext cx="23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друга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56000" y="5300640"/>
            <a:ext cx="2952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носится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42920" y="692280"/>
            <a:ext cx="47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переносе нельзя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одну букву               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2276640"/>
            <a:ext cx="6192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тавлять на строчк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</a:t>
            </a: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переносить на другую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00000" y="3860640"/>
            <a:ext cx="42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буквы Ь, Й             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71640" y="5013360"/>
            <a:ext cx="748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делять от стоящей впереди букв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620640"/>
            <a:ext cx="7620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в котором о чём-либ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общают (повествуют),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1844640"/>
            <a:ext cx="57625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СТВОВА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640" y="2492280"/>
            <a:ext cx="7620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в котором о чём-т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рашивают,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63640" y="3716280"/>
            <a:ext cx="56181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И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4292640"/>
            <a:ext cx="7620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в котором советуют что-либо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делать, побуждают к действию,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63640" y="5516640"/>
            <a:ext cx="5762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УДИ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55640" y="907920"/>
            <a:ext cx="7620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которое произносится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сильным чувством,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19280" y="2276640"/>
            <a:ext cx="5762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КЛИЦА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5640" y="3213000"/>
            <a:ext cx="76201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,  которое произноси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койно, без сильного чувства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835280" y="5157720"/>
            <a:ext cx="56181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ВОСКЛИЦАТЕЛЬ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403280" y="907920"/>
            <a:ext cx="6410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вные члены предложения -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16000" y="1700280"/>
            <a:ext cx="710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ЛЕЖАЩЕЕ И СКАЗУЕМО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5640" y="2997360"/>
            <a:ext cx="7839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лены предложения, которы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ясняют подлежащее, сказуем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другой второстепенный член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5157720"/>
            <a:ext cx="7105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СТЕПЕННЫЕ ЧЛЕ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26920" y="692280"/>
            <a:ext cx="7561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предложение состоит тольк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главных членов, то оно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6000" y="2133720"/>
            <a:ext cx="7105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РАСПРОСТРАНЁН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2924280"/>
            <a:ext cx="6265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предложение состоит из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лежащего, сказуемого 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степенных членов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 оно 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640" y="5516640"/>
            <a:ext cx="7105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СТ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РОСТРАНЁНН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76360" y="765000"/>
            <a:ext cx="59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е предложен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оит из простых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1640" y="2708280"/>
            <a:ext cx="71150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рело весеннее солнце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а лесной полянке растаял снег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3284640"/>
            <a:ext cx="1440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92360" y="3284640"/>
            <a:ext cx="1944720" cy="144360"/>
            <a:chOff x="1692360" y="3284640"/>
            <a:chExt cx="1944720" cy="144360"/>
          </a:xfrm>
        </p:grpSpPr>
        <p:sp>
          <p:nvSpPr>
            <p:cNvPr id="92" name=""/>
            <p:cNvSpPr/>
            <p:nvPr/>
          </p:nvSpPr>
          <p:spPr>
            <a:xfrm>
              <a:off x="1692360" y="3284640"/>
              <a:ext cx="19447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92360" y="3429000"/>
              <a:ext cx="19447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093080" y="4653000"/>
            <a:ext cx="1008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64000" y="4653000"/>
            <a:ext cx="1584360" cy="144360"/>
            <a:chOff x="5364000" y="4653000"/>
            <a:chExt cx="1584360" cy="144360"/>
          </a:xfrm>
        </p:grpSpPr>
        <p:sp>
          <p:nvSpPr>
            <p:cNvPr id="96" name=""/>
            <p:cNvSpPr/>
            <p:nvPr/>
          </p:nvSpPr>
          <p:spPr>
            <a:xfrm>
              <a:off x="5364000" y="4653000"/>
              <a:ext cx="1584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64000" y="4797360"/>
              <a:ext cx="1584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76360" y="765000"/>
            <a:ext cx="590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аждом простом предложени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ть главные члены, поэтом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е предложение можн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ить на простые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71640" y="3645000"/>
            <a:ext cx="7200720" cy="2089080"/>
            <a:chOff x="971640" y="3645000"/>
            <a:chExt cx="7200720" cy="2089080"/>
          </a:xfrm>
        </p:grpSpPr>
        <p:sp>
          <p:nvSpPr>
            <p:cNvPr id="100" name=""/>
            <p:cNvSpPr txBox="1"/>
            <p:nvPr/>
          </p:nvSpPr>
          <p:spPr>
            <a:xfrm>
              <a:off x="971640" y="3645000"/>
              <a:ext cx="7115040" cy="187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игрело весеннее солнце,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 на лесной полянке растаял снег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7280" y="4221000"/>
              <a:ext cx="144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763640" y="4221000"/>
              <a:ext cx="1944720" cy="144360"/>
              <a:chOff x="1763640" y="4221000"/>
              <a:chExt cx="1944720" cy="144360"/>
            </a:xfrm>
          </p:grpSpPr>
          <p:sp>
            <p:nvSpPr>
              <p:cNvPr id="103" name=""/>
              <p:cNvSpPr/>
              <p:nvPr/>
            </p:nvSpPr>
            <p:spPr>
              <a:xfrm>
                <a:off x="1763640" y="4221000"/>
                <a:ext cx="194472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63640" y="4365360"/>
                <a:ext cx="194472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7164360" y="5589720"/>
              <a:ext cx="1008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435640" y="5589720"/>
              <a:ext cx="1584360" cy="144360"/>
              <a:chOff x="5435640" y="5589720"/>
              <a:chExt cx="1584360" cy="144360"/>
            </a:xfrm>
          </p:grpSpPr>
          <p:sp>
            <p:nvSpPr>
              <p:cNvPr id="107" name=""/>
              <p:cNvSpPr/>
              <p:nvPr/>
            </p:nvSpPr>
            <p:spPr>
              <a:xfrm>
                <a:off x="5435640" y="5589720"/>
                <a:ext cx="158436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35640" y="5734080"/>
                <a:ext cx="158436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900000" y="3284640"/>
            <a:ext cx="7561440" cy="2808360"/>
            <a:chOff x="900000" y="3284640"/>
            <a:chExt cx="7561440" cy="2808360"/>
          </a:xfrm>
        </p:grpSpPr>
        <p:sp>
          <p:nvSpPr>
            <p:cNvPr id="110" name=""/>
            <p:cNvSpPr/>
            <p:nvPr/>
          </p:nvSpPr>
          <p:spPr>
            <a:xfrm>
              <a:off x="900000" y="3284640"/>
              <a:ext cx="7561440" cy="28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044360" y="3643200"/>
              <a:ext cx="7115400" cy="187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ригрело весеннее солнце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 лесной полянке растаял снег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0360" y="4219560"/>
              <a:ext cx="144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63640" y="4219560"/>
              <a:ext cx="20178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3640" y="4363920"/>
              <a:ext cx="20178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4360" y="5587920"/>
              <a:ext cx="1081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2720" y="5587920"/>
              <a:ext cx="180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2720" y="5732640"/>
              <a:ext cx="1800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58920" y="692280"/>
            <a:ext cx="6734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слова, связанные между собо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мыслу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11280" y="249228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СОЧЕТАНИ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19280" y="3716280"/>
            <a:ext cx="583236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лежащее и сказуемое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образуют словосочетани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76360" y="907920"/>
            <a:ext cx="62578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 или несколько слов,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орые связаны между собо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смыслу и выражаю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ченную мысль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ю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4221000"/>
            <a:ext cx="511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Е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2920" y="907920"/>
            <a:ext cx="7210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ной цветёт душистая черёмуха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1557360"/>
            <a:ext cx="1871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27280" y="1557360"/>
            <a:ext cx="1297080" cy="142920"/>
            <a:chOff x="2627280" y="1557360"/>
            <a:chExt cx="1297080" cy="142920"/>
          </a:xfrm>
        </p:grpSpPr>
        <p:sp>
          <p:nvSpPr>
            <p:cNvPr id="124" name=""/>
            <p:cNvSpPr/>
            <p:nvPr/>
          </p:nvSpPr>
          <p:spPr>
            <a:xfrm>
              <a:off x="2627280" y="1557360"/>
              <a:ext cx="12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27280" y="1700280"/>
              <a:ext cx="12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971640" y="2781360"/>
            <a:ext cx="34383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ёмуха  (какая?)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716360" y="2924280"/>
            <a:ext cx="20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ушиста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4005360"/>
            <a:ext cx="32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ёт  (когда?)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00720" y="4005360"/>
            <a:ext cx="140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но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517080" y="22050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360" y="328464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ист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720" y="429264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ко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522936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уффи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16000" y="333360"/>
            <a:ext cx="705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и части слова по порядку их разбора.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икни мышкой по словам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844640"/>
            <a:ext cx="342720" cy="366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32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L -0.59254 0.08379 E">
                                      <p:cBhvr>
                                        <p:cTn id="22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0.59792 -0.38866 E">
                                      <p:cBhvr>
                                        <p:cTn id="22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681 0.08403 E">
                                      <p:cBhvr>
                                        <p:cTn id="23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59844 -0.02084 E">
                                      <p:cBhvr>
                                        <p:cTn id="23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164360" y="14842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00720" y="1700280"/>
            <a:ext cx="647640" cy="144360"/>
            <a:chOff x="6300720" y="1700280"/>
            <a:chExt cx="647640" cy="144360"/>
          </a:xfrm>
        </p:grpSpPr>
        <p:sp>
          <p:nvSpPr>
            <p:cNvPr id="139" name=""/>
            <p:cNvSpPr/>
            <p:nvPr/>
          </p:nvSpPr>
          <p:spPr>
            <a:xfrm>
              <a:off x="6300720" y="1700280"/>
              <a:ext cx="647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48360" y="1700280"/>
              <a:ext cx="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135840" y="26557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72360" y="2636640"/>
            <a:ext cx="576000" cy="432000"/>
            <a:chOff x="6372360" y="2636640"/>
            <a:chExt cx="576000" cy="432000"/>
          </a:xfrm>
        </p:grpSpPr>
        <p:sp>
          <p:nvSpPr>
            <p:cNvPr id="143" name=""/>
            <p:cNvSpPr/>
            <p:nvPr/>
          </p:nvSpPr>
          <p:spPr>
            <a:xfrm flipV="1">
              <a:off x="6372360" y="2636640"/>
              <a:ext cx="287280" cy="431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2637000"/>
              <a:ext cx="288720" cy="431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424560" y="3635280"/>
            <a:ext cx="66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3860640"/>
            <a:ext cx="647640" cy="5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80200" y="5248440"/>
            <a:ext cx="1100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98600" y="5157720"/>
            <a:ext cx="1828800" cy="21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6" y="3282"/>
                </a:moveTo>
                <a:arcTo wR="10800" hR="10800" stAng="-8153006" swAng="5580890"/>
                <a:lnTo>
                  <a:pt x="10800" y="10800"/>
                </a:lnTo>
                <a:close/>
              </a:path>
              <a:path fill="none" w="21600" h="21600">
                <a:moveTo>
                  <a:pt x="3046" y="3282"/>
                </a:moveTo>
                <a:arcTo wR="10800" hR="10800" stAng="-8153006" swAng="5580890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03280" y="333360"/>
            <a:ext cx="6391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отнеси названия частей слова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их условных обозначений. Кликни мышкой по знакам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773360"/>
            <a:ext cx="262728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ончан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ен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ставк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ффикс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32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-0.33854 0.34653 E">
                                      <p:cBhvr>
                                        <p:cTn id="241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33073 0.35695 E">
                                      <p:cBhvr>
                                        <p:cTn id="246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4.07407E-006 L -0.35433 -0.31504 E">
                                      <p:cBhvr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5.92593E-006 L -0.33853 -0.36737 E">
                                      <p:cBhvr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2997360"/>
            <a:ext cx="1944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     В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3280" y="907920"/>
            <a:ext cx="28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И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95640" y="3860640"/>
            <a:ext cx="40006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ОБРА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КОРЕНН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32000" y="371628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8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87280" y="2924280"/>
            <a:ext cx="576360" cy="1081080"/>
            <a:chOff x="1187280" y="2924280"/>
            <a:chExt cx="576360" cy="1081080"/>
          </a:xfrm>
        </p:grpSpPr>
        <p:sp>
          <p:nvSpPr>
            <p:cNvPr id="158" name=""/>
            <p:cNvSpPr/>
            <p:nvPr/>
          </p:nvSpPr>
          <p:spPr>
            <a:xfrm>
              <a:off x="1187280" y="292428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301760" y="2997360"/>
              <a:ext cx="34596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rot="19051200">
            <a:off x="341640" y="26096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40360" y="216000"/>
            <a:ext cx="3528360" cy="3808800"/>
            <a:chOff x="4140360" y="216000"/>
            <a:chExt cx="3528360" cy="3808800"/>
          </a:xfrm>
        </p:grpSpPr>
        <p:sp>
          <p:nvSpPr>
            <p:cNvPr id="162" name=""/>
            <p:cNvSpPr/>
            <p:nvPr/>
          </p:nvSpPr>
          <p:spPr>
            <a:xfrm>
              <a:off x="4211640" y="763560"/>
              <a:ext cx="3457080" cy="17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140360" y="216000"/>
              <a:ext cx="3095280" cy="3808800"/>
              <a:chOff x="4140360" y="216000"/>
              <a:chExt cx="3095280" cy="3808800"/>
            </a:xfrm>
          </p:grpSpPr>
          <p:sp>
            <p:nvSpPr>
              <p:cNvPr id="164" name=""/>
              <p:cNvSpPr/>
              <p:nvPr/>
            </p:nvSpPr>
            <p:spPr>
              <a:xfrm>
                <a:off x="4140360" y="477720"/>
                <a:ext cx="3095280" cy="237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4714920" y="981000"/>
                <a:ext cx="2015640" cy="158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Ы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5579640" y="693360"/>
                <a:ext cx="215640" cy="2160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948600">
                <a:off x="4537440" y="59400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948600">
                <a:off x="4753440" y="181800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364000" y="1484280"/>
              <a:ext cx="433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1640" y="2708280"/>
              <a:ext cx="4327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62280" y="2592000"/>
            <a:ext cx="4581720" cy="5033520"/>
            <a:chOff x="3662280" y="2592000"/>
            <a:chExt cx="4581720" cy="5033520"/>
          </a:xfrm>
        </p:grpSpPr>
        <p:sp>
          <p:nvSpPr>
            <p:cNvPr id="172" name=""/>
            <p:cNvSpPr/>
            <p:nvPr/>
          </p:nvSpPr>
          <p:spPr>
            <a:xfrm>
              <a:off x="3780000" y="3789000"/>
              <a:ext cx="4464000" cy="20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662280" y="2592000"/>
              <a:ext cx="3861000" cy="5033520"/>
              <a:chOff x="3662280" y="2592000"/>
              <a:chExt cx="3861000" cy="5033520"/>
            </a:xfrm>
          </p:grpSpPr>
          <p:sp>
            <p:nvSpPr>
              <p:cNvPr id="174" name=""/>
              <p:cNvSpPr txBox="1"/>
              <p:nvPr/>
            </p:nvSpPr>
            <p:spPr>
              <a:xfrm>
                <a:off x="4283280" y="3357720"/>
                <a:ext cx="3240000" cy="28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КА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УШКА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РАВНИК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903600">
                <a:off x="4544280" y="297036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903600">
                <a:off x="4041000" y="412272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8903600">
                <a:off x="4328640" y="541836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62560" y="5516640"/>
                <a:ext cx="216000" cy="287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146560" y="4221000"/>
                <a:ext cx="215640" cy="28764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5578560" y="3068640"/>
                <a:ext cx="216000" cy="2872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435640" y="3860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04000" y="5084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19640" y="6308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 flipH="1">
            <a:off x="2340000" y="2565360"/>
            <a:ext cx="216000" cy="2872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5280" y="2781360"/>
            <a:ext cx="201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95640" y="3860640"/>
            <a:ext cx="40006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ОБРА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КОРЕНН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627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80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411280" y="2781360"/>
            <a:ext cx="576360" cy="1081080"/>
            <a:chOff x="2411280" y="2781360"/>
            <a:chExt cx="576360" cy="1081080"/>
          </a:xfrm>
        </p:grpSpPr>
        <p:sp>
          <p:nvSpPr>
            <p:cNvPr id="189" name=""/>
            <p:cNvSpPr/>
            <p:nvPr/>
          </p:nvSpPr>
          <p:spPr>
            <a:xfrm>
              <a:off x="2411280" y="2781360"/>
              <a:ext cx="57636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2525400" y="2854440"/>
              <a:ext cx="34632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</a:t>
              </a:r>
              <a:endPara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rot="17900400">
            <a:off x="490320" y="1946160"/>
            <a:ext cx="2510640" cy="295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0923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092382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427640" y="907920"/>
            <a:ext cx="287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И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-247320"/>
            <a:ext cx="4680000" cy="4602240"/>
            <a:chOff x="2987640" y="-247320"/>
            <a:chExt cx="4680000" cy="4602240"/>
          </a:xfrm>
        </p:grpSpPr>
        <p:sp>
          <p:nvSpPr>
            <p:cNvPr id="194" name=""/>
            <p:cNvSpPr/>
            <p:nvPr/>
          </p:nvSpPr>
          <p:spPr>
            <a:xfrm>
              <a:off x="2987640" y="216000"/>
              <a:ext cx="4680000" cy="23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521520" y="-247320"/>
              <a:ext cx="3642840" cy="4602240"/>
              <a:chOff x="3521520" y="-247320"/>
              <a:chExt cx="3642840" cy="46022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3521520" y="146160"/>
                <a:ext cx="3642840" cy="4208760"/>
                <a:chOff x="3521520" y="146160"/>
                <a:chExt cx="3642840" cy="4208760"/>
              </a:xfrm>
            </p:grpSpPr>
            <p:sp>
              <p:nvSpPr>
                <p:cNvPr id="197" name=""/>
                <p:cNvSpPr txBox="1"/>
                <p:nvPr/>
              </p:nvSpPr>
              <p:spPr>
                <a:xfrm>
                  <a:off x="4138560" y="907920"/>
                  <a:ext cx="2879640" cy="1297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333399"/>
                      </a:solidFill>
                      <a:effectLst>
                        <a:outerShdw dist="40186" dir="1096358" blurRad="0" rotWithShape="0">
                          <a:srgbClr val="b2b2b2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ИЗМЕНИТЬ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333399"/>
                      </a:solidFill>
                      <a:effectLst>
                        <a:outerShdw dist="40186" dir="1096358" blurRad="0" rotWithShape="0">
                          <a:srgbClr val="b2b2b2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СЛОВО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06560" y="431640"/>
                  <a:ext cx="3457800" cy="172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35280" y="146160"/>
                  <a:ext cx="3095640" cy="237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>
                  <a:off x="4209840" y="649440"/>
                  <a:ext cx="2594160" cy="1871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333399"/>
                      </a:solidFill>
                      <a:effectLst>
                        <a:outerShdw dist="40186" dir="1096358" blurRad="0" rotWithShape="0">
                          <a:srgbClr val="b2b2b2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МОРОЗЫ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333399"/>
                      </a:solidFill>
                      <a:effectLst>
                        <a:outerShdw dist="40186" dir="1096358" blurRad="0" rotWithShape="0">
                          <a:srgbClr val="b2b2b2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МОРОЗОВ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8986400">
                  <a:off x="3952080" y="1688760"/>
                  <a:ext cx="2304000" cy="217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27640" y="1268280"/>
                  <a:ext cx="43344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83280" y="2637000"/>
                  <a:ext cx="43308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rot="18986400">
                <a:off x="4096440" y="247320"/>
                <a:ext cx="2304000" cy="21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3088080" y="2245320"/>
            <a:ext cx="5227200" cy="5753880"/>
            <a:chOff x="3088080" y="2245320"/>
            <a:chExt cx="5227200" cy="5753880"/>
          </a:xfrm>
        </p:grpSpPr>
        <p:grpSp>
          <p:nvGrpSpPr>
            <p:cNvPr id="206" name=""/>
            <p:cNvGrpSpPr/>
            <p:nvPr/>
          </p:nvGrpSpPr>
          <p:grpSpPr>
            <a:xfrm>
              <a:off x="3088080" y="3141720"/>
              <a:ext cx="5227200" cy="4857480"/>
              <a:chOff x="3088080" y="3141720"/>
              <a:chExt cx="5227200" cy="48574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51280" y="3789360"/>
                <a:ext cx="4464000" cy="208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3851280" y="3141720"/>
                <a:ext cx="3743280" cy="302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ЗАМОРОЗИТ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МОРОЗИЛЬНИК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МОРОЗНЫЙ</a:t>
                </a:r>
                <a:endPara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514920" y="371628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920" y="501336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38920" y="6308640"/>
                <a:ext cx="360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986400">
                <a:off x="3518640" y="4036680"/>
                <a:ext cx="2304000" cy="217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6400">
                <a:off x="3950640" y="5331960"/>
                <a:ext cx="2304720" cy="217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rot="18986400">
              <a:off x="4384440" y="2739960"/>
              <a:ext cx="2304000" cy="21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04720" cy="64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635280" y="404640"/>
            <a:ext cx="574920" cy="719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647640" cy="79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940360" y="333360"/>
            <a:ext cx="71604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611280" y="1557360"/>
            <a:ext cx="33591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РА    СТВУ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2411280" y="333360"/>
            <a:ext cx="673200" cy="863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611280" y="2781360"/>
            <a:ext cx="230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    Ц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692360" y="2781360"/>
            <a:ext cx="431640" cy="64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55640" y="3933720"/>
            <a:ext cx="20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     НЦ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1403280" y="3860640"/>
            <a:ext cx="486000" cy="719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640" y="5157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ОС    НИК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2050920" y="5084640"/>
            <a:ext cx="503280" cy="79236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5076720" y="1628640"/>
            <a:ext cx="2664000" cy="668520"/>
            <a:chOff x="5076720" y="1628640"/>
            <a:chExt cx="2664000" cy="668520"/>
          </a:xfrm>
        </p:grpSpPr>
        <p:sp>
          <p:nvSpPr>
            <p:cNvPr id="228" name=""/>
            <p:cNvSpPr txBox="1"/>
            <p:nvPr/>
          </p:nvSpPr>
          <p:spPr>
            <a:xfrm>
              <a:off x="5076720" y="1628640"/>
              <a:ext cx="2664000" cy="66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ДРАВИЕ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8000" y="227664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76720" y="2708280"/>
            <a:ext cx="2519640" cy="792000"/>
            <a:chOff x="5076720" y="2708280"/>
            <a:chExt cx="2519640" cy="792000"/>
          </a:xfrm>
        </p:grpSpPr>
        <p:sp>
          <p:nvSpPr>
            <p:cNvPr id="231" name=""/>
            <p:cNvSpPr txBox="1"/>
            <p:nvPr/>
          </p:nvSpPr>
          <p:spPr>
            <a:xfrm>
              <a:off x="5076720" y="2708280"/>
              <a:ext cx="2519640" cy="73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ЕРДЕЧКО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0360" y="350028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48360" y="3789360"/>
            <a:ext cx="2950920" cy="792000"/>
            <a:chOff x="5148360" y="3789360"/>
            <a:chExt cx="2950920" cy="792000"/>
          </a:xfrm>
        </p:grpSpPr>
        <p:sp>
          <p:nvSpPr>
            <p:cNvPr id="234" name=""/>
            <p:cNvSpPr txBox="1"/>
            <p:nvPr/>
          </p:nvSpPr>
          <p:spPr>
            <a:xfrm>
              <a:off x="5148360" y="3789360"/>
              <a:ext cx="295092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ОЛНЫШКО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6000" y="458136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148360" y="5013360"/>
            <a:ext cx="2879640" cy="863640"/>
            <a:chOff x="5148360" y="5013360"/>
            <a:chExt cx="2879640" cy="863640"/>
          </a:xfrm>
        </p:grpSpPr>
        <p:sp>
          <p:nvSpPr>
            <p:cNvPr id="237" name=""/>
            <p:cNvSpPr txBox="1"/>
            <p:nvPr/>
          </p:nvSpPr>
          <p:spPr>
            <a:xfrm>
              <a:off x="5148360" y="5013360"/>
              <a:ext cx="287964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ТРОСТИНКА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360" y="5877000"/>
              <a:ext cx="360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71640" y="620640"/>
            <a:ext cx="7286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жду предлогом и словом, перед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орым он стоит, можно вставить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угое слово или вопрос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63640" y="2565360"/>
            <a:ext cx="293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за  из  стекл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763640" y="3357720"/>
            <a:ext cx="43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за  из   СИНЕГО  стекл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63640" y="4437000"/>
            <a:ext cx="374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тел  над  облакам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92360" y="5445000"/>
            <a:ext cx="554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тел  (НАД  ЧЕМ?)  над  облакам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348000" y="2924280"/>
            <a:ext cx="86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020000" y="620640"/>
            <a:ext cx="1368360" cy="1008000"/>
            <a:chOff x="7020000" y="620640"/>
            <a:chExt cx="1368360" cy="1008000"/>
          </a:xfrm>
        </p:grpSpPr>
        <p:sp>
          <p:nvSpPr>
            <p:cNvPr id="246" name=""/>
            <p:cNvSpPr txBox="1"/>
            <p:nvPr/>
          </p:nvSpPr>
          <p:spPr>
            <a:xfrm>
              <a:off x="7380360" y="620640"/>
              <a:ext cx="57636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Й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7020000" y="692280"/>
              <a:ext cx="136836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[   ]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11280" y="1628640"/>
            <a:ext cx="2162520" cy="4319640"/>
            <a:chOff x="4211280" y="1628640"/>
            <a:chExt cx="2162520" cy="4319640"/>
          </a:xfrm>
        </p:grpSpPr>
        <p:sp>
          <p:nvSpPr>
            <p:cNvPr id="249" name=""/>
            <p:cNvSpPr txBox="1"/>
            <p:nvPr/>
          </p:nvSpPr>
          <p:spPr>
            <a:xfrm>
              <a:off x="5292720" y="1628640"/>
              <a:ext cx="1081080" cy="431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Е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Ё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Ю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Я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55640" y="2060640"/>
              <a:ext cx="863640" cy="10810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4211280" y="4581360"/>
              <a:ext cx="1009800" cy="10065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572000" y="2997360"/>
              <a:ext cx="72072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4500360" y="4365360"/>
              <a:ext cx="64764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572000" y="3860640"/>
              <a:ext cx="720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11280" y="2852640"/>
            <a:ext cx="2520720" cy="1316160"/>
            <a:chOff x="611280" y="2852640"/>
            <a:chExt cx="2520720" cy="1316160"/>
          </a:xfrm>
        </p:grpSpPr>
        <p:sp>
          <p:nvSpPr>
            <p:cNvPr id="256" name=""/>
            <p:cNvSpPr txBox="1"/>
            <p:nvPr/>
          </p:nvSpPr>
          <p:spPr>
            <a:xfrm>
              <a:off x="611280" y="2852640"/>
              <a:ext cx="1946160" cy="13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огл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27280" y="3500280"/>
              <a:ext cx="504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708360" y="2924280"/>
            <a:ext cx="86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Ъ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076360" y="1125360"/>
            <a:ext cx="2737440" cy="4319640"/>
            <a:chOff x="5076360" y="1125360"/>
            <a:chExt cx="2737440" cy="4319640"/>
          </a:xfrm>
        </p:grpSpPr>
        <p:sp>
          <p:nvSpPr>
            <p:cNvPr id="260" name=""/>
            <p:cNvSpPr txBox="1"/>
            <p:nvPr/>
          </p:nvSpPr>
          <p:spPr>
            <a:xfrm>
              <a:off x="6732720" y="1125360"/>
              <a:ext cx="1081080" cy="431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Е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Ё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Ю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Я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076360" y="1700280"/>
              <a:ext cx="1368360" cy="1079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5148360" y="4437000"/>
              <a:ext cx="1512720" cy="720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076720" y="2997360"/>
              <a:ext cx="115272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5148360" y="3860640"/>
              <a:ext cx="1008000" cy="144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55640" y="2565360"/>
            <a:ext cx="2663640" cy="1603440"/>
            <a:chOff x="755640" y="2565360"/>
            <a:chExt cx="2663640" cy="1603440"/>
          </a:xfrm>
        </p:grpSpPr>
        <p:sp>
          <p:nvSpPr>
            <p:cNvPr id="266" name=""/>
            <p:cNvSpPr txBox="1"/>
            <p:nvPr/>
          </p:nvSpPr>
          <p:spPr>
            <a:xfrm>
              <a:off x="898560" y="2852640"/>
              <a:ext cx="1946160" cy="13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огл.</a:t>
              </a:r>
              <a:endPara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14560" y="3500280"/>
              <a:ext cx="504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5640" y="2565360"/>
              <a:ext cx="2016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1640" y="2565360"/>
              <a:ext cx="0" cy="3589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900000" y="1052640"/>
            <a:ext cx="7382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узнать, какой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ю речи является слово, нужн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00000" y="2421000"/>
            <a:ext cx="5429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ставить к нему вопро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00000" y="2924280"/>
            <a:ext cx="755964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определить, что обозначает слов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предмет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знак предмета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ие предмета,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знак действия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личество предметов)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1197000"/>
            <a:ext cx="748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лен предложения, который обозначает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ком или о чём говорится в предложени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твечает на вопросы КТО? или ЧТО?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00360" y="4724280"/>
            <a:ext cx="373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ЛЕЖАЩИ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187280" y="836640"/>
            <a:ext cx="69534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 речи, которая не называет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, а только на нег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ывает, называется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484360" y="2637000"/>
            <a:ext cx="424836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СТОИМЕНИЕМ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08000" y="3429000"/>
            <a:ext cx="532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чные местоимения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340000" y="4508640"/>
            <a:ext cx="468612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,  МЫ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,  ВЫ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,  ОНА,  ОНО,  ОН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755640" y="476280"/>
            <a:ext cx="7561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а существительные изменяю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числам. Существительно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единственном числе обозначае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700360" y="2349360"/>
            <a:ext cx="38862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ПРЕДМЕТ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1280" y="2852640"/>
            <a:ext cx="453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множественном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4360" y="3500280"/>
            <a:ext cx="7934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ИЛИ НЕСКОЛЬКО ПРЕДМЕТОВ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71640" y="4508640"/>
            <a:ext cx="713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изменении существительног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числам изменя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771640" y="5877000"/>
            <a:ext cx="352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го окончани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755640" y="907920"/>
            <a:ext cx="73454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а прилагательны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единственном числ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яются по родам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 имени прилагательног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яется по род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619280" y="3789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и существительного,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которым оно связан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684360" y="907920"/>
          <a:ext cx="7848360" cy="5113440"/>
        </p:xfrm>
        <a:graphic>
          <a:graphicData uri="http://schemas.openxmlformats.org/drawingml/2006/table">
            <a:tbl>
              <a:tblPr/>
              <a:tblGrid>
                <a:gridCol w="1439640"/>
                <a:gridCol w="2303640"/>
                <a:gridCol w="4105080"/>
              </a:tblGrid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расный  ш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ий  ш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олотой  ш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расная  лен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яя  лен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олубое  неб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ее  неб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 txBox="1"/>
          <p:nvPr/>
        </p:nvSpPr>
        <p:spPr>
          <a:xfrm>
            <a:off x="1042920" y="1413000"/>
            <a:ext cx="9144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. р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42920" y="321300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. р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42920" y="4797360"/>
            <a:ext cx="800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. р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484360" y="1413000"/>
            <a:ext cx="14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556000" y="3141720"/>
            <a:ext cx="146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627280" y="4797360"/>
            <a:ext cx="141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08720" y="981000"/>
            <a:ext cx="576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48360" y="155736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08720" y="206064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08720" y="270828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371628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44370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544500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324000" y="836640"/>
          <a:ext cx="5111640" cy="5184720"/>
        </p:xfrm>
        <a:graphic>
          <a:graphicData uri="http://schemas.openxmlformats.org/drawingml/2006/table">
            <a:tbl>
              <a:tblPr/>
              <a:tblGrid>
                <a:gridCol w="511164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 txBox="1"/>
          <p:nvPr/>
        </p:nvSpPr>
        <p:spPr>
          <a:xfrm>
            <a:off x="826920" y="2205000"/>
            <a:ext cx="14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26920" y="3500280"/>
            <a:ext cx="1467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35640" y="836640"/>
          <a:ext cx="3097080" cy="518436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13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 txBox="1"/>
          <p:nvPr/>
        </p:nvSpPr>
        <p:spPr>
          <a:xfrm>
            <a:off x="826920" y="4869000"/>
            <a:ext cx="141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156360" y="2349360"/>
            <a:ext cx="1466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ие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484360" y="1197000"/>
            <a:ext cx="113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. ч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300720" y="1125360"/>
            <a:ext cx="12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. ч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627280" y="227664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ой, -ый, -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700360" y="3573360"/>
            <a:ext cx="150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ая, -я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700360" y="4869000"/>
            <a:ext cx="136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ое, -е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156360" y="3068640"/>
            <a:ext cx="155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ые, -и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920" y="765000"/>
            <a:ext cx="68007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ы изменяются по числам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 в единственном числ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значает действ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68360" y="2565360"/>
            <a:ext cx="47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ГО ПРЕДМЕТ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58920" y="3645000"/>
            <a:ext cx="6743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 во множественном числ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значает действ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403280" y="4941720"/>
            <a:ext cx="6553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УХ И БОЛЕЕ ПРЕДМЕТОВ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187280" y="1268280"/>
            <a:ext cx="66484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ы в прошедшем времен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жно узнать п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00360" y="2637000"/>
            <a:ext cx="3600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ам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Л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СДЕЛАЛ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780000" y="429264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по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59280" y="5013360"/>
            <a:ext cx="28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ффиксу -Л-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32000" y="1844640"/>
            <a:ext cx="671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 в неопределённой форм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чает на вопрос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43280" y="3284640"/>
            <a:ext cx="36860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 ДЕЛАТЬ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 СДЕЛАТЬ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556000" y="1341360"/>
            <a:ext cx="4103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с глаголам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59280" y="3284640"/>
            <a:ext cx="32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ЬН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1197000"/>
            <a:ext cx="748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лен предложения, который обозначает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говорится о подлежащем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твечает на вопросы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ТЬ? или ЧТО СДЕЛАТЬ?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е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00360" y="4724280"/>
            <a:ext cx="373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УЕМЫМ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16000" y="1484280"/>
            <a:ext cx="71438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ложения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анные по смыслу общей темой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92360" y="3357720"/>
            <a:ext cx="20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КСТ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03280" y="1197000"/>
            <a:ext cx="655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, которые отвечают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вопросы КТО? или ЧТО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бозначают предметы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58920" y="4581360"/>
            <a:ext cx="69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А СУЩЕСТВИТЕЛЬНЫ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3280" y="1197000"/>
            <a:ext cx="655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, которые отвечают на вопросы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?  КАКАЯ?  КАКОЕ?  КАКИЕ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бозначают признаки предметов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58920" y="4581360"/>
            <a:ext cx="691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МЕНА ПРИЛАГАТЕЛЬНЫЕ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58920" y="1197000"/>
            <a:ext cx="655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, которые отвечают на вопросы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ТЬ?  ЧТО СДЕЛАТЬ?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бозначают действия предметов -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458136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197000"/>
            <a:ext cx="655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, которые имеют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-то общее по смысл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одинаковый корень,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ываются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79640" y="4437000"/>
            <a:ext cx="511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КОРЕННЫМИ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8:22:56Z</dcterms:created>
  <dc:creator>гaнжа</dc:creator>
  <dc:description/>
  <dc:language>en-US</dc:language>
  <cp:lastModifiedBy>a</cp:lastModifiedBy>
  <dcterms:modified xsi:type="dcterms:W3CDTF">2009-11-13T18:22:56Z</dcterms:modified>
  <cp:revision>1</cp:revision>
  <dc:subject/>
  <dc:title>Слайд 1</dc:title>
</cp:coreProperties>
</file>