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3279-C28B-4817-B4AE-AEB6529CC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0A9E-2268-4163-AF3A-16E0E381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04F9-A11F-45BD-8715-4C29627A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3522-6337-41A9-9759-740A5206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F702-2485-4886-9525-8DE82FAC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6294-3A5D-4FD3-B417-40C9D4B3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A38E-D7EB-4822-B667-517D7635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BBA0-70C7-4BDE-B1D9-0C03196F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04B7-82E8-4BFD-A4F4-6BC6393E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C904-A86E-4BD7-9D81-B287A071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9112-5A7B-4203-A398-E67C0BE8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11B6-3AFA-4694-AFDA-ABCF7684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0C09-3173-4519-9D2B-FF69C21598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1.gif"/><Relationship Id="rId6" Type="http://schemas.openxmlformats.org/officeDocument/2006/relationships/image" Target="../media/image2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32000" y="1484280"/>
            <a:ext cx="6192720" cy="31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активные таблицы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 русскому языку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 класс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771640" y="3716280"/>
            <a:ext cx="3240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ГОВ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692360" y="1341360"/>
            <a:ext cx="5688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колько в слове гласных,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олько и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116000" y="765000"/>
            <a:ext cx="4032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о переносится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724360" y="981000"/>
            <a:ext cx="273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 СЛОГАМ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332000" y="2060640"/>
            <a:ext cx="65530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 переносе слов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двойными согласными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дна буква согласного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619280" y="4437000"/>
            <a:ext cx="5867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ТАЁТСЯ НА СТРОЧКЕ,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87280" y="5373720"/>
            <a:ext cx="237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другая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356000" y="5300640"/>
            <a:ext cx="29527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еносится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042920" y="692280"/>
            <a:ext cx="4753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 переносе нельзя: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одну букву               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2276640"/>
            <a:ext cx="619272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тавлять на строчке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    </a:t>
            </a: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ли переносить на другую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00000" y="3860640"/>
            <a:ext cx="424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буквы Ь, Й             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71640" y="5013360"/>
            <a:ext cx="7486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делять от стоящей впереди буквы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755640" y="620640"/>
            <a:ext cx="76201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ложение, в котором о чём-либо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общают (повествуют), называется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619280" y="1844640"/>
            <a:ext cx="57625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ВЕСТВОВАТЕЛЬНЫМ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55640" y="2492280"/>
            <a:ext cx="76201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ложение, в котором о чём-то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рашивают, называется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763640" y="3716280"/>
            <a:ext cx="56181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ПРОСИТЕЛЬНЫМ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55640" y="4292640"/>
            <a:ext cx="76201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ложение, в котором советуют что-либо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делать, побуждают к действию, называется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63640" y="5516640"/>
            <a:ext cx="57625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БУДИТЕЛЬНЫМ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755640" y="907920"/>
            <a:ext cx="76201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ложение, которое произносится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сильным чувством, называется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619280" y="2276640"/>
            <a:ext cx="57625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СКЛИЦАТЕЛЬНЫМ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55640" y="3213000"/>
            <a:ext cx="76201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ложение,  которое произносится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койно, без сильного чувства,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зывается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835280" y="5157720"/>
            <a:ext cx="56181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ВОСКЛИЦАТЕЛЬНЫМ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403280" y="907920"/>
            <a:ext cx="64105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авные члены предложения -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116000" y="1700280"/>
            <a:ext cx="7105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ЛЕЖАЩЕЕ И СКАЗУЕМОЕ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55640" y="2997360"/>
            <a:ext cx="7839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лены предложения, которые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ясняют подлежащее, сказуемое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ли другой второстепенный член -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71640" y="5157720"/>
            <a:ext cx="71056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ТОРОСТЕПЕННЫЕ ЧЛЕНЫ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826920" y="692280"/>
            <a:ext cx="756144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сли предложение состоит только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 главных членов, то оно называется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116000" y="2133720"/>
            <a:ext cx="7105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СТЫМ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РАСПРОСТРАНЁННЫМ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619280" y="2924280"/>
            <a:ext cx="626580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сли предложение состоит из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лежащего, сказуемого и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торостепенных членов,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 оно называется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71640" y="5516640"/>
            <a:ext cx="71056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СТЫМ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ПРОСТРАНЁННЫМ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476360" y="765000"/>
            <a:ext cx="5904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жное предложение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стоит из простых.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71640" y="2708280"/>
            <a:ext cx="71150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грело весеннее солнце,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на лесной полянке растаял снег.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96000" y="3284640"/>
            <a:ext cx="1440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692360" y="3284640"/>
            <a:ext cx="1944720" cy="144360"/>
            <a:chOff x="1692360" y="3284640"/>
            <a:chExt cx="1944720" cy="144360"/>
          </a:xfrm>
        </p:grpSpPr>
        <p:sp>
          <p:nvSpPr>
            <p:cNvPr id="92" name=""/>
            <p:cNvSpPr/>
            <p:nvPr/>
          </p:nvSpPr>
          <p:spPr>
            <a:xfrm>
              <a:off x="1692360" y="3284640"/>
              <a:ext cx="194472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92360" y="3429000"/>
              <a:ext cx="194472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7093080" y="4653000"/>
            <a:ext cx="1008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364000" y="4653000"/>
            <a:ext cx="1584360" cy="144360"/>
            <a:chOff x="5364000" y="4653000"/>
            <a:chExt cx="1584360" cy="144360"/>
          </a:xfrm>
        </p:grpSpPr>
        <p:sp>
          <p:nvSpPr>
            <p:cNvPr id="96" name=""/>
            <p:cNvSpPr/>
            <p:nvPr/>
          </p:nvSpPr>
          <p:spPr>
            <a:xfrm>
              <a:off x="5364000" y="4653000"/>
              <a:ext cx="158436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64000" y="4797360"/>
              <a:ext cx="158436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476360" y="765000"/>
            <a:ext cx="5904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каждом простом предложении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сть главные члены, поэтому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жное предложение можно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делить на простые.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71640" y="3645000"/>
            <a:ext cx="7200720" cy="2089080"/>
            <a:chOff x="971640" y="3645000"/>
            <a:chExt cx="7200720" cy="2089080"/>
          </a:xfrm>
        </p:grpSpPr>
        <p:sp>
          <p:nvSpPr>
            <p:cNvPr id="100" name=""/>
            <p:cNvSpPr txBox="1"/>
            <p:nvPr/>
          </p:nvSpPr>
          <p:spPr>
            <a:xfrm>
              <a:off x="971640" y="3645000"/>
              <a:ext cx="7115040" cy="187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Пригрело весеннее солнце,</a:t>
              </a: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и на лесной полянке растаял снег.</a:t>
              </a: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7280" y="4221000"/>
              <a:ext cx="14400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1763640" y="4221000"/>
              <a:ext cx="1944720" cy="144360"/>
              <a:chOff x="1763640" y="4221000"/>
              <a:chExt cx="1944720" cy="144360"/>
            </a:xfrm>
          </p:grpSpPr>
          <p:sp>
            <p:nvSpPr>
              <p:cNvPr id="103" name=""/>
              <p:cNvSpPr/>
              <p:nvPr/>
            </p:nvSpPr>
            <p:spPr>
              <a:xfrm>
                <a:off x="1763640" y="4221000"/>
                <a:ext cx="1944720" cy="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763640" y="4365360"/>
                <a:ext cx="1944720" cy="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7164360" y="5589720"/>
              <a:ext cx="10080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5435640" y="5589720"/>
              <a:ext cx="1584360" cy="144360"/>
              <a:chOff x="5435640" y="5589720"/>
              <a:chExt cx="1584360" cy="144360"/>
            </a:xfrm>
          </p:grpSpPr>
          <p:sp>
            <p:nvSpPr>
              <p:cNvPr id="107" name=""/>
              <p:cNvSpPr/>
              <p:nvPr/>
            </p:nvSpPr>
            <p:spPr>
              <a:xfrm>
                <a:off x="5435640" y="5589720"/>
                <a:ext cx="1584360" cy="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435640" y="5734080"/>
                <a:ext cx="1584360" cy="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900000" y="3284640"/>
            <a:ext cx="7561440" cy="2808360"/>
            <a:chOff x="900000" y="3284640"/>
            <a:chExt cx="7561440" cy="2808360"/>
          </a:xfrm>
        </p:grpSpPr>
        <p:sp>
          <p:nvSpPr>
            <p:cNvPr id="110" name=""/>
            <p:cNvSpPr/>
            <p:nvPr/>
          </p:nvSpPr>
          <p:spPr>
            <a:xfrm>
              <a:off x="900000" y="3284640"/>
              <a:ext cx="7561440" cy="28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1044360" y="3643200"/>
              <a:ext cx="7115400" cy="187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Пригрело весеннее солнце.</a:t>
              </a: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На лесной полянке растаял снег.</a:t>
              </a: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40360" y="4219560"/>
              <a:ext cx="14400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63640" y="4219560"/>
              <a:ext cx="20178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63640" y="4363920"/>
              <a:ext cx="20178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64360" y="5587920"/>
              <a:ext cx="1081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92720" y="5587920"/>
              <a:ext cx="18000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2720" y="5732640"/>
              <a:ext cx="18000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258920" y="692280"/>
            <a:ext cx="67341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ва слова, связанные между собой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 смыслу -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411280" y="2492280"/>
            <a:ext cx="4343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ОСОЧЕТАНИЕ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619280" y="3716280"/>
            <a:ext cx="5832360" cy="140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лежащее и сказуемое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 образуют словосочетания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476360" y="907920"/>
            <a:ext cx="62578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о или несколько слов,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торые связаны между собой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 смыслу и выражают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конченную мысль,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зываются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68360" y="4221000"/>
            <a:ext cx="5112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ЛОЖЕНИЕМ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042920" y="907920"/>
            <a:ext cx="7210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сной цветёт душистая черёмуха.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00720" y="1557360"/>
            <a:ext cx="187164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627280" y="1557360"/>
            <a:ext cx="1297080" cy="142920"/>
            <a:chOff x="2627280" y="1557360"/>
            <a:chExt cx="1297080" cy="142920"/>
          </a:xfrm>
        </p:grpSpPr>
        <p:sp>
          <p:nvSpPr>
            <p:cNvPr id="124" name=""/>
            <p:cNvSpPr/>
            <p:nvPr/>
          </p:nvSpPr>
          <p:spPr>
            <a:xfrm>
              <a:off x="2627280" y="1557360"/>
              <a:ext cx="1297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27280" y="1700280"/>
              <a:ext cx="1297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 txBox="1"/>
          <p:nvPr/>
        </p:nvSpPr>
        <p:spPr>
          <a:xfrm>
            <a:off x="971640" y="2781360"/>
            <a:ext cx="343836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рёмуха  (какая?)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716360" y="2924280"/>
            <a:ext cx="20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ушистая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71640" y="4005360"/>
            <a:ext cx="327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ветёт  (когда?)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00720" y="4005360"/>
            <a:ext cx="1409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сной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517080" y="2205000"/>
            <a:ext cx="16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кор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16360" y="3284640"/>
            <a:ext cx="225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риста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8720" y="4292640"/>
            <a:ext cx="23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оконч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88000" y="5229360"/>
            <a:ext cx="20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уффик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116000" y="333360"/>
            <a:ext cx="7056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положи части слова по порядку их разбора.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ликни мышкой по словам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4360" y="1844640"/>
            <a:ext cx="342720" cy="366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.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.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.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.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324000" y="6093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59259E-006 L -0.59254 0.08379 E">
                                      <p:cBhvr>
                                        <p:cTn id="220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44444E-006 L -0.59792 -0.38866 E">
                                      <p:cBhvr>
                                        <p:cTn id="225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81481E-006 L -0.58681 0.08403 E">
                                      <p:cBhvr>
                                        <p:cTn id="23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48148E-006 L -0.59844 -0.02084 E">
                                      <p:cBhvr>
                                        <p:cTn id="235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164360" y="148428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300720" y="1700280"/>
            <a:ext cx="647640" cy="144360"/>
            <a:chOff x="6300720" y="1700280"/>
            <a:chExt cx="647640" cy="144360"/>
          </a:xfrm>
        </p:grpSpPr>
        <p:sp>
          <p:nvSpPr>
            <p:cNvPr id="139" name=""/>
            <p:cNvSpPr/>
            <p:nvPr/>
          </p:nvSpPr>
          <p:spPr>
            <a:xfrm>
              <a:off x="6300720" y="1700280"/>
              <a:ext cx="64764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48360" y="1700280"/>
              <a:ext cx="0" cy="1443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135840" y="2655720"/>
            <a:ext cx="95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372360" y="2636640"/>
            <a:ext cx="576000" cy="432000"/>
            <a:chOff x="6372360" y="2636640"/>
            <a:chExt cx="576000" cy="432000"/>
          </a:xfrm>
        </p:grpSpPr>
        <p:sp>
          <p:nvSpPr>
            <p:cNvPr id="143" name=""/>
            <p:cNvSpPr/>
            <p:nvPr/>
          </p:nvSpPr>
          <p:spPr>
            <a:xfrm flipV="1">
              <a:off x="6372360" y="2636640"/>
              <a:ext cx="287280" cy="43164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59640" y="2637000"/>
              <a:ext cx="288720" cy="43164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424560" y="3635280"/>
            <a:ext cx="66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3860640"/>
            <a:ext cx="647640" cy="505080"/>
          </a:xfrm>
          <a:prstGeom prst="rect">
            <a:avLst/>
          </a:prstGeom>
          <a:solidFill>
            <a:srgbClr val="ffffff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80200" y="5248440"/>
            <a:ext cx="1100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898600" y="5157720"/>
            <a:ext cx="1828800" cy="21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046" y="3282"/>
                </a:moveTo>
                <a:arcTo wR="10800" hR="10800" stAng="-8153006" swAng="5580890"/>
                <a:lnTo>
                  <a:pt x="10800" y="10800"/>
                </a:lnTo>
                <a:close/>
              </a:path>
              <a:path fill="none" w="21600" h="21600">
                <a:moveTo>
                  <a:pt x="3046" y="3282"/>
                </a:moveTo>
                <a:arcTo wR="10800" hR="10800" stAng="-8153006" swAng="5580890"/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403280" y="333360"/>
            <a:ext cx="6391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отнеси названия частей слова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их условных обозначений. Кликни мышкой по знакам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85928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1773360"/>
            <a:ext cx="262728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   </a:t>
            </a: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кончание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рень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</a:t>
            </a: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ставка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</a:t>
            </a: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уффикс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324000" y="6093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48148E-006 L -0.33854 0.34653 E">
                                      <p:cBhvr>
                                        <p:cTn id="241" dur="1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22222E-006 L -0.33073 0.35695 E">
                                      <p:cBhvr>
                                        <p:cTn id="246" dur="1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4.07407E-006 L -0.35433 -0.31504 E">
                                      <p:cBhvr>
                                        <p:cTn id="251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-5.92593E-006 L -0.33853 -0.36737 E">
                                      <p:cBhvr>
                                        <p:cTn id="256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9640" y="2997360"/>
            <a:ext cx="194472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     ВА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3280" y="907920"/>
            <a:ext cx="2880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МЕНИТЬ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О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95640" y="3860640"/>
            <a:ext cx="40006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ОБРАТЬ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ДНОКОРЕННОЕ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О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332000" y="3716280"/>
            <a:ext cx="215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</a:t>
            </a:r>
            <a:endParaRPr b="0" lang="en-US" sz="80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187280" y="2924280"/>
            <a:ext cx="576360" cy="1081080"/>
            <a:chOff x="1187280" y="2924280"/>
            <a:chExt cx="576360" cy="1081080"/>
          </a:xfrm>
        </p:grpSpPr>
        <p:sp>
          <p:nvSpPr>
            <p:cNvPr id="158" name=""/>
            <p:cNvSpPr/>
            <p:nvPr/>
          </p:nvSpPr>
          <p:spPr>
            <a:xfrm>
              <a:off x="1187280" y="2924280"/>
              <a:ext cx="576360" cy="10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1301760" y="2997360"/>
              <a:ext cx="345960" cy="88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А</a:t>
              </a:r>
              <a:endPara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 rot="19051200">
            <a:off x="341640" y="260964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140360" y="216000"/>
            <a:ext cx="3528360" cy="3808800"/>
            <a:chOff x="4140360" y="216000"/>
            <a:chExt cx="3528360" cy="3808800"/>
          </a:xfrm>
        </p:grpSpPr>
        <p:sp>
          <p:nvSpPr>
            <p:cNvPr id="162" name=""/>
            <p:cNvSpPr/>
            <p:nvPr/>
          </p:nvSpPr>
          <p:spPr>
            <a:xfrm>
              <a:off x="4211640" y="763560"/>
              <a:ext cx="3457080" cy="172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4140360" y="216000"/>
              <a:ext cx="3095280" cy="3808800"/>
              <a:chOff x="4140360" y="216000"/>
              <a:chExt cx="3095280" cy="3808800"/>
            </a:xfrm>
          </p:grpSpPr>
          <p:sp>
            <p:nvSpPr>
              <p:cNvPr id="164" name=""/>
              <p:cNvSpPr/>
              <p:nvPr/>
            </p:nvSpPr>
            <p:spPr>
              <a:xfrm>
                <a:off x="4140360" y="477720"/>
                <a:ext cx="3095280" cy="237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 txBox="1"/>
              <p:nvPr/>
            </p:nvSpPr>
            <p:spPr>
              <a:xfrm>
                <a:off x="4714920" y="981000"/>
                <a:ext cx="2015640" cy="1584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333399"/>
                      </a:solidFill>
                      <a:miter/>
                    </a:ln>
                    <a:solidFill>
                      <a:srgbClr val="333399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ТРАВЫ</a:t>
                </a:r>
                <a:endPara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333399"/>
                      </a:solidFill>
                      <a:miter/>
                    </a:ln>
                    <a:solidFill>
                      <a:srgbClr val="333399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ТРАВ</a:t>
                </a:r>
                <a:endPara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5579640" y="693360"/>
                <a:ext cx="215640" cy="21600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8948600">
                <a:off x="4537440" y="594000"/>
                <a:ext cx="182736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8948600">
                <a:off x="4753440" y="1818000"/>
                <a:ext cx="182736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5364000" y="1484280"/>
              <a:ext cx="4330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651640" y="2708280"/>
              <a:ext cx="43272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662280" y="2592000"/>
            <a:ext cx="4581720" cy="5033520"/>
            <a:chOff x="3662280" y="2592000"/>
            <a:chExt cx="4581720" cy="5033520"/>
          </a:xfrm>
        </p:grpSpPr>
        <p:sp>
          <p:nvSpPr>
            <p:cNvPr id="172" name=""/>
            <p:cNvSpPr/>
            <p:nvPr/>
          </p:nvSpPr>
          <p:spPr>
            <a:xfrm>
              <a:off x="3780000" y="3789000"/>
              <a:ext cx="4464000" cy="20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3662280" y="2592000"/>
              <a:ext cx="3861000" cy="5033520"/>
              <a:chOff x="3662280" y="2592000"/>
              <a:chExt cx="3861000" cy="5033520"/>
            </a:xfrm>
          </p:grpSpPr>
          <p:sp>
            <p:nvSpPr>
              <p:cNvPr id="174" name=""/>
              <p:cNvSpPr txBox="1"/>
              <p:nvPr/>
            </p:nvSpPr>
            <p:spPr>
              <a:xfrm>
                <a:off x="4283280" y="3357720"/>
                <a:ext cx="3240000" cy="2808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333399"/>
                      </a:solidFill>
                      <a:miter/>
                    </a:ln>
                    <a:solidFill>
                      <a:srgbClr val="333399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ТРАВКА</a:t>
                </a:r>
                <a:endPara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333399"/>
                      </a:solidFill>
                      <a:miter/>
                    </a:ln>
                    <a:solidFill>
                      <a:srgbClr val="333399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ТРАВУШКА</a:t>
                </a:r>
                <a:endPara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333399"/>
                      </a:solidFill>
                      <a:miter/>
                    </a:ln>
                    <a:solidFill>
                      <a:srgbClr val="333399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ТРАВНИК</a:t>
                </a:r>
                <a:endPara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8903600">
                <a:off x="4544280" y="2970360"/>
                <a:ext cx="182808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8903600">
                <a:off x="4041000" y="4122720"/>
                <a:ext cx="182808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8903600">
                <a:off x="4328640" y="5418360"/>
                <a:ext cx="182808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5362560" y="5516640"/>
                <a:ext cx="216000" cy="2872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5146560" y="4221000"/>
                <a:ext cx="215640" cy="28764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5578560" y="3068640"/>
                <a:ext cx="216000" cy="2872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435640" y="3860640"/>
                <a:ext cx="36036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004000" y="5084640"/>
                <a:ext cx="36036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219640" y="6308640"/>
                <a:ext cx="36036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"/>
          <p:cNvSpPr/>
          <p:nvPr/>
        </p:nvSpPr>
        <p:spPr>
          <a:xfrm flipH="1">
            <a:off x="2340000" y="2565360"/>
            <a:ext cx="216000" cy="28728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95280" y="2781360"/>
            <a:ext cx="2016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РО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995640" y="3860640"/>
            <a:ext cx="40006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ОБРАТЬ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ДНОКОРЕННОЕ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О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627280" y="357336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</a:t>
            </a:r>
            <a:endParaRPr b="0" lang="en-US" sz="80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411280" y="2781360"/>
            <a:ext cx="576360" cy="1081080"/>
            <a:chOff x="2411280" y="2781360"/>
            <a:chExt cx="576360" cy="1081080"/>
          </a:xfrm>
        </p:grpSpPr>
        <p:sp>
          <p:nvSpPr>
            <p:cNvPr id="189" name=""/>
            <p:cNvSpPr/>
            <p:nvPr/>
          </p:nvSpPr>
          <p:spPr>
            <a:xfrm>
              <a:off x="2411280" y="2781360"/>
              <a:ext cx="576360" cy="10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2525400" y="2854440"/>
              <a:ext cx="346320" cy="88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З</a:t>
              </a:r>
              <a:endPara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 rot="17900400">
            <a:off x="490320" y="1946160"/>
            <a:ext cx="2510640" cy="2959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09238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092382"/>
              </a:path>
            </a:pathLst>
          </a:cu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427640" y="907920"/>
            <a:ext cx="2879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МЕНИТЬ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О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987640" y="-247320"/>
            <a:ext cx="4680000" cy="4602240"/>
            <a:chOff x="2987640" y="-247320"/>
            <a:chExt cx="4680000" cy="4602240"/>
          </a:xfrm>
        </p:grpSpPr>
        <p:sp>
          <p:nvSpPr>
            <p:cNvPr id="194" name=""/>
            <p:cNvSpPr/>
            <p:nvPr/>
          </p:nvSpPr>
          <p:spPr>
            <a:xfrm>
              <a:off x="2987640" y="216000"/>
              <a:ext cx="4680000" cy="23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3521520" y="-247320"/>
              <a:ext cx="3642840" cy="4602240"/>
              <a:chOff x="3521520" y="-247320"/>
              <a:chExt cx="3642840" cy="460224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3521520" y="146160"/>
                <a:ext cx="3642840" cy="4208760"/>
                <a:chOff x="3521520" y="146160"/>
                <a:chExt cx="3642840" cy="4208760"/>
              </a:xfrm>
            </p:grpSpPr>
            <p:sp>
              <p:nvSpPr>
                <p:cNvPr id="197" name=""/>
                <p:cNvSpPr txBox="1"/>
                <p:nvPr/>
              </p:nvSpPr>
              <p:spPr>
                <a:xfrm>
                  <a:off x="4138560" y="907920"/>
                  <a:ext cx="2879640" cy="12970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333399"/>
                        </a:solidFill>
                        <a:miter/>
                      </a:ln>
                      <a:solidFill>
                        <a:srgbClr val="333399"/>
                      </a:solidFill>
                      <a:effectLst>
                        <a:outerShdw dist="40186" dir="1096358" blurRad="0" rotWithShape="0">
                          <a:srgbClr val="b2b2b2">
                            <a:alpha val="80000"/>
                          </a:srgbClr>
                        </a:outerShdw>
                      </a:effectLst>
                      <a:latin typeface="Times New Roman"/>
                    </a:rPr>
                    <a:t>ИЗМЕНИТЬ</a:t>
                  </a:r>
                  <a:endParaRPr b="1" lang="en-US" sz="1800" spc="1" strike="noStrike">
                    <a:ln w="9360">
                      <a:solidFill>
                        <a:srgbClr val="333399"/>
                      </a:solidFill>
                      <a:miter/>
                    </a:ln>
                    <a:solidFill>
                      <a:srgbClr val="333399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  <a:ea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333399"/>
                        </a:solidFill>
                        <a:miter/>
                      </a:ln>
                      <a:solidFill>
                        <a:srgbClr val="333399"/>
                      </a:solidFill>
                      <a:effectLst>
                        <a:outerShdw dist="40186" dir="1096358" blurRad="0" rotWithShape="0">
                          <a:srgbClr val="b2b2b2">
                            <a:alpha val="80000"/>
                          </a:srgbClr>
                        </a:outerShdw>
                      </a:effectLst>
                      <a:latin typeface="Times New Roman"/>
                    </a:rPr>
                    <a:t>СЛОВО</a:t>
                  </a:r>
                  <a:endParaRPr b="1" lang="en-US" sz="1800" spc="1" strike="noStrike">
                    <a:ln w="9360">
                      <a:solidFill>
                        <a:srgbClr val="333399"/>
                      </a:solidFill>
                      <a:miter/>
                    </a:ln>
                    <a:solidFill>
                      <a:srgbClr val="333399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706560" y="431640"/>
                  <a:ext cx="3457800" cy="1729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635280" y="146160"/>
                  <a:ext cx="3095640" cy="2374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 txBox="1"/>
                <p:nvPr/>
              </p:nvSpPr>
              <p:spPr>
                <a:xfrm>
                  <a:off x="4209840" y="649440"/>
                  <a:ext cx="2594160" cy="1871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333399"/>
                        </a:solidFill>
                        <a:miter/>
                      </a:ln>
                      <a:solidFill>
                        <a:srgbClr val="333399"/>
                      </a:solidFill>
                      <a:effectLst>
                        <a:outerShdw dist="40186" dir="1096358" blurRad="0" rotWithShape="0">
                          <a:srgbClr val="b2b2b2">
                            <a:alpha val="80000"/>
                          </a:srgbClr>
                        </a:outerShdw>
                      </a:effectLst>
                      <a:latin typeface="Times New Roman"/>
                    </a:rPr>
                    <a:t>МОРОЗЫ</a:t>
                  </a:r>
                  <a:endParaRPr b="1" lang="en-US" sz="1800" spc="1" strike="noStrike">
                    <a:ln w="9360">
                      <a:solidFill>
                        <a:srgbClr val="333399"/>
                      </a:solidFill>
                      <a:miter/>
                    </a:ln>
                    <a:solidFill>
                      <a:srgbClr val="333399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  <a:ea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1" strike="noStrike">
                    <a:ln w="9360">
                      <a:solidFill>
                        <a:srgbClr val="333399"/>
                      </a:solidFill>
                      <a:miter/>
                    </a:ln>
                    <a:solidFill>
                      <a:srgbClr val="333399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  <a:ea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333399"/>
                        </a:solidFill>
                        <a:miter/>
                      </a:ln>
                      <a:solidFill>
                        <a:srgbClr val="333399"/>
                      </a:solidFill>
                      <a:effectLst>
                        <a:outerShdw dist="40186" dir="1096358" blurRad="0" rotWithShape="0">
                          <a:srgbClr val="b2b2b2">
                            <a:alpha val="80000"/>
                          </a:srgbClr>
                        </a:outerShdw>
                      </a:effectLst>
                      <a:latin typeface="Times New Roman"/>
                    </a:rPr>
                    <a:t>МОРОЗОВ</a:t>
                  </a:r>
                  <a:endParaRPr b="1" lang="en-US" sz="1800" spc="1" strike="noStrike">
                    <a:ln w="9360">
                      <a:solidFill>
                        <a:srgbClr val="333399"/>
                      </a:solidFill>
                      <a:miter/>
                    </a:ln>
                    <a:solidFill>
                      <a:srgbClr val="333399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8986400">
                  <a:off x="3952080" y="1688760"/>
                  <a:ext cx="2304000" cy="2171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227640" y="1268280"/>
                  <a:ext cx="433440" cy="0"/>
                </a:xfrm>
                <a:prstGeom prst="line">
                  <a:avLst/>
                </a:prstGeom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83280" y="2637000"/>
                  <a:ext cx="433080" cy="0"/>
                </a:xfrm>
                <a:prstGeom prst="line">
                  <a:avLst/>
                </a:prstGeom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" name=""/>
              <p:cNvSpPr/>
              <p:nvPr/>
            </p:nvSpPr>
            <p:spPr>
              <a:xfrm rot="18986400">
                <a:off x="4096440" y="247320"/>
                <a:ext cx="2304000" cy="217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5" name=""/>
          <p:cNvGrpSpPr/>
          <p:nvPr/>
        </p:nvGrpSpPr>
        <p:grpSpPr>
          <a:xfrm>
            <a:off x="3088080" y="2245320"/>
            <a:ext cx="5227200" cy="5753880"/>
            <a:chOff x="3088080" y="2245320"/>
            <a:chExt cx="5227200" cy="5753880"/>
          </a:xfrm>
        </p:grpSpPr>
        <p:grpSp>
          <p:nvGrpSpPr>
            <p:cNvPr id="206" name=""/>
            <p:cNvGrpSpPr/>
            <p:nvPr/>
          </p:nvGrpSpPr>
          <p:grpSpPr>
            <a:xfrm>
              <a:off x="3088080" y="3141720"/>
              <a:ext cx="5227200" cy="4857480"/>
              <a:chOff x="3088080" y="3141720"/>
              <a:chExt cx="5227200" cy="4857480"/>
            </a:xfrm>
          </p:grpSpPr>
          <p:sp>
            <p:nvSpPr>
              <p:cNvPr id="207" name=""/>
              <p:cNvSpPr/>
              <p:nvPr/>
            </p:nvSpPr>
            <p:spPr>
              <a:xfrm>
                <a:off x="3851280" y="3789360"/>
                <a:ext cx="4464000" cy="208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 txBox="1"/>
              <p:nvPr/>
            </p:nvSpPr>
            <p:spPr>
              <a:xfrm>
                <a:off x="3851280" y="3141720"/>
                <a:ext cx="3743280" cy="3024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333399"/>
                      </a:solidFill>
                      <a:miter/>
                    </a:ln>
                    <a:solidFill>
                      <a:srgbClr val="333399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ЗАМОРОЗИТ</a:t>
                </a:r>
                <a:endPara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333399"/>
                      </a:solidFill>
                      <a:miter/>
                    </a:ln>
                    <a:solidFill>
                      <a:srgbClr val="333399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МОРОЗИЛЬНИК</a:t>
                </a:r>
                <a:endPara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333399"/>
                      </a:solidFill>
                      <a:miter/>
                    </a:ln>
                    <a:solidFill>
                      <a:srgbClr val="333399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МОРОЗНЫЙ</a:t>
                </a:r>
                <a:endPara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514920" y="3716280"/>
                <a:ext cx="36036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506920" y="5013360"/>
                <a:ext cx="36036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938920" y="6308640"/>
                <a:ext cx="36036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8986400">
                <a:off x="3518640" y="4036680"/>
                <a:ext cx="2304000" cy="217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8986400">
                <a:off x="3950640" y="5331960"/>
                <a:ext cx="2304720" cy="2171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 rot="18986400">
              <a:off x="4384440" y="2739960"/>
              <a:ext cx="2304000" cy="217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04720" cy="648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635280" y="404640"/>
            <a:ext cx="574920" cy="719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788000" y="333360"/>
            <a:ext cx="647640" cy="792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5940360" y="333360"/>
            <a:ext cx="716040" cy="792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611280" y="1557360"/>
            <a:ext cx="335916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ДРА    СТВУЙ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2411280" y="333360"/>
            <a:ext cx="673200" cy="8636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611280" y="2781360"/>
            <a:ext cx="2305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Р    ЦЕ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6"/>
          <a:stretch/>
        </p:blipFill>
        <p:spPr>
          <a:xfrm>
            <a:off x="1692360" y="2781360"/>
            <a:ext cx="431640" cy="647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755640" y="3933720"/>
            <a:ext cx="208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     НЦЕ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>
            <a:off x="1403280" y="3860640"/>
            <a:ext cx="486000" cy="7192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755640" y="5157720"/>
            <a:ext cx="287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ОС    НИК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8"/>
          <a:stretch/>
        </p:blipFill>
        <p:spPr>
          <a:xfrm>
            <a:off x="2050920" y="5084640"/>
            <a:ext cx="503280" cy="792360"/>
          </a:xfrm>
          <a:prstGeom prst="rect">
            <a:avLst/>
          </a:prstGeom>
          <a:ln w="0">
            <a:noFill/>
          </a:ln>
        </p:spPr>
      </p:pic>
      <p:grpSp>
        <p:nvGrpSpPr>
          <p:cNvPr id="227" name=""/>
          <p:cNvGrpSpPr/>
          <p:nvPr/>
        </p:nvGrpSpPr>
        <p:grpSpPr>
          <a:xfrm>
            <a:off x="5076720" y="1628640"/>
            <a:ext cx="2664000" cy="668520"/>
            <a:chOff x="5076720" y="1628640"/>
            <a:chExt cx="2664000" cy="668520"/>
          </a:xfrm>
        </p:grpSpPr>
        <p:sp>
          <p:nvSpPr>
            <p:cNvPr id="228" name=""/>
            <p:cNvSpPr txBox="1"/>
            <p:nvPr/>
          </p:nvSpPr>
          <p:spPr>
            <a:xfrm>
              <a:off x="5076720" y="1628640"/>
              <a:ext cx="2664000" cy="668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ЗДРАВИЕ</a:t>
              </a: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88000" y="2276640"/>
              <a:ext cx="360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076720" y="2708280"/>
            <a:ext cx="2519640" cy="792000"/>
            <a:chOff x="5076720" y="2708280"/>
            <a:chExt cx="2519640" cy="792000"/>
          </a:xfrm>
        </p:grpSpPr>
        <p:sp>
          <p:nvSpPr>
            <p:cNvPr id="231" name=""/>
            <p:cNvSpPr txBox="1"/>
            <p:nvPr/>
          </p:nvSpPr>
          <p:spPr>
            <a:xfrm>
              <a:off x="5076720" y="2708280"/>
              <a:ext cx="2519640" cy="739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СЕРДЕЧКО</a:t>
              </a: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40360" y="3500280"/>
              <a:ext cx="360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148360" y="3789360"/>
            <a:ext cx="2950920" cy="792000"/>
            <a:chOff x="5148360" y="3789360"/>
            <a:chExt cx="2950920" cy="792000"/>
          </a:xfrm>
        </p:grpSpPr>
        <p:sp>
          <p:nvSpPr>
            <p:cNvPr id="234" name=""/>
            <p:cNvSpPr txBox="1"/>
            <p:nvPr/>
          </p:nvSpPr>
          <p:spPr>
            <a:xfrm>
              <a:off x="5148360" y="3789360"/>
              <a:ext cx="2950920" cy="64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СОЛНЫШКО</a:t>
              </a: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96000" y="4581360"/>
              <a:ext cx="360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148360" y="5013360"/>
            <a:ext cx="2879640" cy="863640"/>
            <a:chOff x="5148360" y="5013360"/>
            <a:chExt cx="2879640" cy="863640"/>
          </a:xfrm>
        </p:grpSpPr>
        <p:sp>
          <p:nvSpPr>
            <p:cNvPr id="237" name=""/>
            <p:cNvSpPr txBox="1"/>
            <p:nvPr/>
          </p:nvSpPr>
          <p:spPr>
            <a:xfrm>
              <a:off x="5148360" y="5013360"/>
              <a:ext cx="2879640" cy="71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ТРОСТИНКА</a:t>
              </a: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72360" y="5877000"/>
              <a:ext cx="360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971640" y="620640"/>
            <a:ext cx="72864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жду предлогом и словом, перед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торым он стоит, можно вставить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ругое слово или вопрос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763640" y="2565360"/>
            <a:ext cx="293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аза  из  стекла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763640" y="3357720"/>
            <a:ext cx="432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аза  из   СИНЕГО  стекла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763640" y="4437000"/>
            <a:ext cx="374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етел  над  облаками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692360" y="5445000"/>
            <a:ext cx="5545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етел  (НАД  ЧЕМ?)  над  облаками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348000" y="2924280"/>
            <a:ext cx="863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7020000" y="620640"/>
            <a:ext cx="1368360" cy="1008000"/>
            <a:chOff x="7020000" y="620640"/>
            <a:chExt cx="1368360" cy="1008000"/>
          </a:xfrm>
        </p:grpSpPr>
        <p:sp>
          <p:nvSpPr>
            <p:cNvPr id="246" name=""/>
            <p:cNvSpPr txBox="1"/>
            <p:nvPr/>
          </p:nvSpPr>
          <p:spPr>
            <a:xfrm>
              <a:off x="7380360" y="620640"/>
              <a:ext cx="576360" cy="93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Й</a:t>
              </a: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7020000" y="692280"/>
              <a:ext cx="1368360" cy="93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[   ]</a:t>
              </a: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211280" y="1628640"/>
            <a:ext cx="2162520" cy="4319640"/>
            <a:chOff x="4211280" y="1628640"/>
            <a:chExt cx="2162520" cy="4319640"/>
          </a:xfrm>
        </p:grpSpPr>
        <p:sp>
          <p:nvSpPr>
            <p:cNvPr id="249" name=""/>
            <p:cNvSpPr txBox="1"/>
            <p:nvPr/>
          </p:nvSpPr>
          <p:spPr>
            <a:xfrm>
              <a:off x="5292720" y="1628640"/>
              <a:ext cx="1081080" cy="431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Е</a:t>
              </a: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Ё</a:t>
              </a: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И</a:t>
              </a: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Ю</a:t>
              </a: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Я</a:t>
              </a: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355640" y="2060640"/>
              <a:ext cx="863640" cy="108108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flipV="1">
              <a:off x="4211280" y="4581360"/>
              <a:ext cx="1009800" cy="100656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4572000" y="2997360"/>
              <a:ext cx="720720" cy="36036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4500360" y="4365360"/>
              <a:ext cx="647640" cy="36036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4572000" y="3860640"/>
              <a:ext cx="7207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611280" y="2852640"/>
            <a:ext cx="2520720" cy="1316160"/>
            <a:chOff x="611280" y="2852640"/>
            <a:chExt cx="2520720" cy="1316160"/>
          </a:xfrm>
        </p:grpSpPr>
        <p:sp>
          <p:nvSpPr>
            <p:cNvPr id="256" name=""/>
            <p:cNvSpPr txBox="1"/>
            <p:nvPr/>
          </p:nvSpPr>
          <p:spPr>
            <a:xfrm>
              <a:off x="611280" y="2852640"/>
              <a:ext cx="1946160" cy="131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согл.</a:t>
              </a: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27280" y="3500280"/>
              <a:ext cx="5047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708360" y="2924280"/>
            <a:ext cx="863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Ъ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076360" y="1125360"/>
            <a:ext cx="2737440" cy="4319640"/>
            <a:chOff x="5076360" y="1125360"/>
            <a:chExt cx="2737440" cy="4319640"/>
          </a:xfrm>
        </p:grpSpPr>
        <p:sp>
          <p:nvSpPr>
            <p:cNvPr id="260" name=""/>
            <p:cNvSpPr txBox="1"/>
            <p:nvPr/>
          </p:nvSpPr>
          <p:spPr>
            <a:xfrm>
              <a:off x="6732720" y="1125360"/>
              <a:ext cx="1081080" cy="431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Е</a:t>
              </a: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Ё</a:t>
              </a: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Ю</a:t>
              </a: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Я</a:t>
              </a: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5076360" y="1700280"/>
              <a:ext cx="1368360" cy="107928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flipV="1">
              <a:off x="5148360" y="4437000"/>
              <a:ext cx="1512720" cy="72072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5076720" y="2997360"/>
              <a:ext cx="1152720" cy="36036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5148360" y="3860640"/>
              <a:ext cx="1008000" cy="14472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755640" y="2565360"/>
            <a:ext cx="2663640" cy="1603440"/>
            <a:chOff x="755640" y="2565360"/>
            <a:chExt cx="2663640" cy="1603440"/>
          </a:xfrm>
        </p:grpSpPr>
        <p:sp>
          <p:nvSpPr>
            <p:cNvPr id="266" name=""/>
            <p:cNvSpPr txBox="1"/>
            <p:nvPr/>
          </p:nvSpPr>
          <p:spPr>
            <a:xfrm>
              <a:off x="898560" y="2852640"/>
              <a:ext cx="1946160" cy="131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согл.</a:t>
              </a: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14560" y="3500280"/>
              <a:ext cx="5047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5640" y="2565360"/>
              <a:ext cx="201600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71640" y="2565360"/>
              <a:ext cx="0" cy="35892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900000" y="1052640"/>
            <a:ext cx="73821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бы узнать, какой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астью речи является слово, нужно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00000" y="2421000"/>
            <a:ext cx="54295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поставить к нему вопрос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900000" y="2924280"/>
            <a:ext cx="755964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определить, что обозначает слов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предмет,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знак предмета,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йствие предмета, 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знак действия,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личество предметов)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4360" y="1197000"/>
            <a:ext cx="74880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лен предложения, который обозначает,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 ком или о чём говорится в предложении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отвечает на вопросы КТО? или ЧТО?,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зывается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700360" y="4724280"/>
            <a:ext cx="3733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ЛЕЖАЩИМ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1187280" y="836640"/>
            <a:ext cx="69534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асть речи, которая не называет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мет, а только на него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казывает, называется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484360" y="2637000"/>
            <a:ext cx="4248360" cy="40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СТОИМЕНИЕМ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908000" y="3429000"/>
            <a:ext cx="5328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ичные местоимения -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340000" y="4508640"/>
            <a:ext cx="468612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,  МЫ,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Ы,  ВЫ,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Н,  ОНА,  ОНО,  ОНИ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755640" y="476280"/>
            <a:ext cx="7561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мена существительные изменяются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 числам. Существительное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единственном числе обозначает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700360" y="2349360"/>
            <a:ext cx="38862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ДИН ПРЕДМЕТ,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411280" y="2852640"/>
            <a:ext cx="4535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 множественном -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4360" y="3500280"/>
            <a:ext cx="79340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ВА ИЛИ НЕСКОЛЬКО ПРЕДМЕТОВ.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71640" y="4508640"/>
            <a:ext cx="71341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 изменении существительного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 числам изменяется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771640" y="5877000"/>
            <a:ext cx="3529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го окончани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755640" y="907920"/>
            <a:ext cx="7345440" cy="26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мена прилагательные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единственном числе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меняются по родам.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д имени прилагательного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ределяется по роду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619280" y="3789360"/>
            <a:ext cx="561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мени существительного,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которым оно связан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684360" y="907920"/>
          <a:ext cx="7848360" cy="5113440"/>
        </p:xfrm>
        <a:graphic>
          <a:graphicData uri="http://schemas.openxmlformats.org/drawingml/2006/table">
            <a:tbl>
              <a:tblPr/>
              <a:tblGrid>
                <a:gridCol w="1439640"/>
                <a:gridCol w="2303640"/>
                <a:gridCol w="4105080"/>
              </a:tblGrid>
              <a:tr h="170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расный  ша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иний  ша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олотой  ша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расная  лен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иняя  лен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голубое  неб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инее  неб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"/>
          <p:cNvSpPr txBox="1"/>
          <p:nvPr/>
        </p:nvSpPr>
        <p:spPr>
          <a:xfrm>
            <a:off x="1042920" y="1413000"/>
            <a:ext cx="9144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. р.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042920" y="3213000"/>
            <a:ext cx="914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. р.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042920" y="4797360"/>
            <a:ext cx="800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. р.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484360" y="1413000"/>
            <a:ext cx="1486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ой?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2556000" y="3141720"/>
            <a:ext cx="1466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ая?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627280" y="4797360"/>
            <a:ext cx="1419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ое?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08720" y="981000"/>
            <a:ext cx="576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148360" y="1557360"/>
            <a:ext cx="503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508720" y="2060640"/>
            <a:ext cx="503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08720" y="2708280"/>
            <a:ext cx="503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48360" y="3716280"/>
            <a:ext cx="503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08720" y="4437000"/>
            <a:ext cx="503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48360" y="5445000"/>
            <a:ext cx="503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324000" y="836640"/>
          <a:ext cx="5111640" cy="5184720"/>
        </p:xfrm>
        <a:graphic>
          <a:graphicData uri="http://schemas.openxmlformats.org/drawingml/2006/table">
            <a:tbl>
              <a:tblPr/>
              <a:tblGrid>
                <a:gridCol w="5111640"/>
              </a:tblGrid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 txBox="1"/>
          <p:nvPr/>
        </p:nvSpPr>
        <p:spPr>
          <a:xfrm>
            <a:off x="826920" y="2205000"/>
            <a:ext cx="1486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ой?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826920" y="3500280"/>
            <a:ext cx="1467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ая?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35640" y="836640"/>
          <a:ext cx="3097080" cy="5184360"/>
        </p:xfrm>
        <a:graphic>
          <a:graphicData uri="http://schemas.openxmlformats.org/drawingml/2006/table">
            <a:tbl>
              <a:tblPr/>
              <a:tblGrid>
                <a:gridCol w="3097080"/>
              </a:tblGrid>
              <a:tr h="13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"/>
          <p:cNvSpPr txBox="1"/>
          <p:nvPr/>
        </p:nvSpPr>
        <p:spPr>
          <a:xfrm>
            <a:off x="826920" y="4869000"/>
            <a:ext cx="1419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ое?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156360" y="2349360"/>
            <a:ext cx="1466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ие?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484360" y="1197000"/>
            <a:ext cx="113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д. ч.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300720" y="1125360"/>
            <a:ext cx="1295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н. ч.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627280" y="2276640"/>
            <a:ext cx="2562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ой, -ый, -ий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700360" y="3573360"/>
            <a:ext cx="1504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ая, -яя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700360" y="4869000"/>
            <a:ext cx="1361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ое, -е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156360" y="3068640"/>
            <a:ext cx="1552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ые, -и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258920" y="765000"/>
            <a:ext cx="680076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аголы изменяются по числам.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агол в единственном числе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означает действие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268360" y="2565360"/>
            <a:ext cx="4753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ДНОГО ПРЕДМЕТ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258920" y="3645000"/>
            <a:ext cx="67435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агол во множественном числе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означает действие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403280" y="4941720"/>
            <a:ext cx="6553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ВУХ И БОЛЕЕ ПРЕДМЕТОВ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187280" y="1268280"/>
            <a:ext cx="66484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аголы в прошедшем времени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жно узнать по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700360" y="2637000"/>
            <a:ext cx="360036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просам 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ДЕЛАЛ?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СДЕЛАЛ?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780000" y="4292640"/>
            <a:ext cx="1152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по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59280" y="5013360"/>
            <a:ext cx="280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уффиксу -Л-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1332000" y="1844640"/>
            <a:ext cx="6715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агол в неопределённой форме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вечает на вопрос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843280" y="3284640"/>
            <a:ext cx="368604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 ДЕЛАТЬ?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ли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 СДЕЛАТЬ?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2556000" y="1341360"/>
            <a:ext cx="41036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 с глаголами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шется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59280" y="3284640"/>
            <a:ext cx="324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ДЕЛЬН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4360" y="1197000"/>
            <a:ext cx="74880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лен предложения, который обозначает,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говорится о подлежащем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отвечает на вопросы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ДЕЛАТЬ? или ЧТО СДЕЛАТЬ?,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зывается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700360" y="4724280"/>
            <a:ext cx="3733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КАЗУЕМЫМ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116000" y="1484280"/>
            <a:ext cx="71438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ложения,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вязанные по смыслу общей темой -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492360" y="3357720"/>
            <a:ext cx="201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КСТ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403280" y="1197000"/>
            <a:ext cx="6553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а, которые отвечают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вопросы КТО? или ЧТО?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обозначают предметы -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258920" y="4581360"/>
            <a:ext cx="6913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МЕНА СУЩЕСТВИТЕЛЬНЫЕ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403280" y="1197000"/>
            <a:ext cx="6553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а, которые отвечают на вопросы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ОЙ?  КАКАЯ?  КАКОЕ?  КАКИЕ?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обозначают признаки предметов -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258920" y="4581360"/>
            <a:ext cx="691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МЕНА ПРИЛАГАТЕЛЬНЫЕ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258920" y="1197000"/>
            <a:ext cx="65530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а, которые отвечают на вопросы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ДЕЛАТЬ?  ЧТО СДЕЛАТЬ?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обозначают действия предметов -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627280" y="458136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АГОЛЫ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258920" y="1197000"/>
            <a:ext cx="65530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а, которые имеют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-то общее по смыслу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одинаковый корень,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зываются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979640" y="4437000"/>
            <a:ext cx="5113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ДНОКОРЕННЫМИ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8:22:56Z</dcterms:created>
  <dc:creator>гaнжа</dc:creator>
  <dc:description/>
  <dc:language>en-US</dc:language>
  <cp:lastModifiedBy>a</cp:lastModifiedBy>
  <dcterms:modified xsi:type="dcterms:W3CDTF">2009-11-13T18:22:56Z</dcterms:modified>
  <cp:revision>1</cp:revision>
  <dc:subject/>
  <dc:title>Слайд 1</dc:title>
</cp:coreProperties>
</file>