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34A8-95FD-416D-AC8C-C9E84709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E7FF-CA24-40E8-B869-3AC66C0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34DB-306E-44EE-ADFA-7A34AF17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BE20-4D46-4525-AA08-FA320C02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A03B-065F-4366-B182-B8E2FA48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029-1F1E-45FE-8B53-CA380DD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12C1-6E98-4C47-8BCB-1848F49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C8D4-CFA5-4A62-BE9F-8801E2F9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9F8-CA5C-46FF-8C4D-967A6E7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B75-C322-487C-B308-1A42079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4989-8E72-472F-914F-F8897AE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50F1-06EB-47E1-9180-91A4140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6090-457B-414B-A3B8-1CFD534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D60-7203-4AAF-98CD-7CB5F43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45A-E130-4FE1-98F0-E88F5CA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420-EA36-4AFD-B0A3-22E275F0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AFA4-4330-4022-BA36-E3693B52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9975-D4AE-46A6-B0C2-14E8E5C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49FD-B1A1-4EC6-8000-7BD2AB8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EBC5-E06A-463D-BCEF-026ED71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D961-C661-47A9-8419-59F4A338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A4F3-CEE0-4C0B-8FA1-9A75420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B4E9-6AC3-4AAE-8052-99AC8CC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7FBB-54AF-45BE-B977-753E9A35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2D42-E483-4778-AC2C-1BEDEA6F13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EA2-B2F9-443D-B03E-6B8B5B7D66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ворческий проект по предмету технолог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aa68"/>
                </a:solidFill>
                <a:latin typeface="Tahoma"/>
              </a:rPr>
              <a:t>«Матрёшка-душа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втор проекта 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ченица 5 «В» класса МОУ СОШ № 8 г.Туап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опян Сирарп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Научный руководит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читель техноло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СОШ № 8 г.Туап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вакина Н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0437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асчёт стоимости издел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14960" y="1999800"/>
            <a:ext cx="3471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686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Клей  «Дракон»-5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Рамка для фотографий- 35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Ситцевые лоскутки разного цвета у меня есть, их покупать не надо-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Ножницы, копировальная бумага, портновский мел у меня тоже есть-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того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5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title"/>
          <p:cNvPicPr/>
          <p:nvPr/>
        </p:nvPicPr>
        <p:blipFill>
          <a:blip r:embed="rId1"/>
          <a:stretch/>
        </p:blipFill>
        <p:spPr>
          <a:xfrm>
            <a:off x="5429160" y="2071800"/>
            <a:ext cx="29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тапы изготовления аппликации «Русская матрёшк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000112_catalogue_main"/>
          <p:cNvPicPr/>
          <p:nvPr/>
        </p:nvPicPr>
        <p:blipFill>
          <a:blip r:embed="rId1"/>
          <a:stretch/>
        </p:blipFill>
        <p:spPr>
          <a:xfrm>
            <a:off x="1476360" y="1628640"/>
            <a:ext cx="63054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Оценка и контроль каче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mat9"/>
          <p:cNvPicPr/>
          <p:nvPr/>
        </p:nvPicPr>
        <p:blipFill>
          <a:blip r:embed="rId1"/>
          <a:stretch/>
        </p:blipFill>
        <p:spPr>
          <a:xfrm>
            <a:off x="2556000" y="1628640"/>
            <a:ext cx="45720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Дополнительное оформлени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s-2977--31"/>
          <p:cNvPicPr/>
          <p:nvPr/>
        </p:nvPicPr>
        <p:blipFill>
          <a:blip r:embed="rId1"/>
          <a:stretch/>
        </p:blipFill>
        <p:spPr>
          <a:xfrm>
            <a:off x="2340000" y="1628640"/>
            <a:ext cx="494352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Самооценка и защита проекта. Фото получившего издел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E:\Users\Наталья\Desktop\29112010061.jpg"/>
          <p:cNvPicPr/>
          <p:nvPr/>
        </p:nvPicPr>
        <p:blipFill>
          <a:blip r:embed="rId1"/>
          <a:stretch/>
        </p:blipFill>
        <p:spPr>
          <a:xfrm>
            <a:off x="2743200" y="1785960"/>
            <a:ext cx="36576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Крупенская Н.П. Поделки в русском стиле.-М.: Айрис-пресс,2009.-3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болева О.Л.Оригинальные поделки в стиле «Аппликация»,Изд-во «Академия развития»,Ярославль,200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Учебное практическое пособие «Тканевая пластика»,Е.Н.Андрюкова.-М.:Педагогическое общество России,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Садилова Л.А. Поделки из ткани.-М.:Скрипторий»,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497196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Цель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7840" y="1214280"/>
            <a:ext cx="3828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ценить свои возможности в проект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амостоятельно изготовить изделие декоративно-прикладного творчества «Русскую матрёш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Разработать этапы выполнения проек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Оценить проделанную мною рабо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38410262_112edca047fd46348ff068833b0637eb_M28251"/>
          <p:cNvPicPr/>
          <p:nvPr/>
        </p:nvPicPr>
        <p:blipFill>
          <a:blip r:embed="rId1"/>
          <a:stretch/>
        </p:blipFill>
        <p:spPr>
          <a:xfrm>
            <a:off x="142920" y="2071800"/>
            <a:ext cx="46432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Этапы выполнения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38411246_mak2"/>
          <p:cNvPicPr/>
          <p:nvPr/>
        </p:nvPicPr>
        <p:blipFill>
          <a:blip r:embed="rId1"/>
          <a:stretch/>
        </p:blipFill>
        <p:spPr>
          <a:xfrm>
            <a:off x="2195640" y="1628640"/>
            <a:ext cx="5234040" cy="46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f69c"/>
                </a:solidFill>
                <a:latin typeface="Tahoma"/>
              </a:rPr>
              <a:t>Опорная схема выполнения проек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я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опас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Апплик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«Русская матрёш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гиена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 кач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крашение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ка рабочего ме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оборуд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стетич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курат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гото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2d050"/>
                </a:solidFill>
                <a:latin typeface="Tahoma"/>
              </a:rPr>
              <a:t>Почему я решил изготовить именно это издели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38411340_ms137"/>
          <p:cNvPicPr/>
          <p:nvPr/>
        </p:nvPicPr>
        <p:blipFill>
          <a:blip r:embed="rId1"/>
          <a:stretch/>
        </p:blipFill>
        <p:spPr>
          <a:xfrm>
            <a:off x="2268360" y="1700280"/>
            <a:ext cx="437040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000"/>
                </a:solidFill>
                <a:latin typeface="Tahoma"/>
              </a:rPr>
              <a:t>История появления русской матрёшк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mat27"/>
          <p:cNvPicPr/>
          <p:nvPr/>
        </p:nvPicPr>
        <p:blipFill>
          <a:blip r:embed="rId1"/>
          <a:stretch/>
        </p:blipFill>
        <p:spPr>
          <a:xfrm>
            <a:off x="2428920" y="2000160"/>
            <a:ext cx="4398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b0f0"/>
                </a:solidFill>
                <a:latin typeface="Tahoma"/>
              </a:rPr>
              <a:t>История появления апплик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PICT0068"/>
          <p:cNvPicPr/>
          <p:nvPr/>
        </p:nvPicPr>
        <p:blipFill>
          <a:blip r:embed="rId1"/>
          <a:stretch/>
        </p:blipFill>
        <p:spPr>
          <a:xfrm>
            <a:off x="2195640" y="1628640"/>
            <a:ext cx="48974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400880" cy="108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ор материалов для изготовления издел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4800" y="1642680"/>
            <a:ext cx="5111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итцевые лоскуты ткан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ёрный  цвет- 12х17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ный цвет-  8х10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цвет- 5х6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лоскуток в зелёный горошек- 6х4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цветный лоскуток -8х13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untitled"/>
          <p:cNvPicPr/>
          <p:nvPr/>
        </p:nvPicPr>
        <p:blipFill>
          <a:blip r:embed="rId1"/>
          <a:stretch/>
        </p:blipFill>
        <p:spPr>
          <a:xfrm>
            <a:off x="214200" y="2214720"/>
            <a:ext cx="3429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5:21Z</dcterms:created>
  <dc:creator>Наталья</dc:creator>
  <dc:description/>
  <dc:language>en-US</dc:language>
  <cp:lastModifiedBy>Natali</cp:lastModifiedBy>
  <dcterms:modified xsi:type="dcterms:W3CDTF">2011-04-11T05:17:13Z</dcterms:modified>
  <cp:revision>6</cp:revision>
  <dc:subject/>
  <dc:title>Творческий проект по предмету технология</dc:title>
</cp:coreProperties>
</file>