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E372-8918-4372-A8D8-BEA65AE7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8777-1273-4092-8555-E3ACF9CB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F681-B8C1-429F-BBE5-D9DB17E4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DE4A2-E465-4773-9407-1DAF6CA5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C43E-E21F-462D-AE4E-C872584C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1D35-0AB6-47AF-A511-4ACE3C13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D3EC-CDD6-4948-92CF-887B0F16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219C-14A1-489C-B785-EF7E253E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03A6-F1D4-4127-8BD8-F164CB3B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872-3460-4BC2-A4FB-38AE0894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57D-243F-4A92-82E8-2C9E95A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F6E5-4E40-4668-B9A2-85EA3C38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B6BE-E062-4E24-885B-9B99A85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51C4-3879-425A-BD6B-3215D471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1B18-193F-4DF5-A814-F417352F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DA0C-C913-4EEF-9ADD-4969FC3F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867F-1740-431E-972B-57B61266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611A-C663-42BC-A6EC-93BC2DFE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214B-AED8-4BFE-AD58-2F328C26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6AEE-CE7D-4766-8AAD-EFC8F96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2D45-CB84-4744-A77E-51D2BFD9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C2EA-69F9-4B79-9951-4294714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FC54-54F6-4CBD-895A-E7CC9E7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909D-B9EF-4BA1-A353-22F87243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DC26-1878-4F85-B4D1-02F4D8BFBB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6AD-2E42-412A-8CB7-4B0A751629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ворческий проект по предмету технолог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aa68"/>
                </a:solidFill>
                <a:latin typeface="Tahoma"/>
              </a:rPr>
              <a:t>«Матрёшка-душа Росс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втор проекта 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ченица 5 «В» класса МОУ СОШ № 8 г.Туап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копян Сирарп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Научный руководител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читель технологи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СОШ № 8 г.Туап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вакина Н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0437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асчёт стоимости издел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14960" y="1999800"/>
            <a:ext cx="34718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686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Клей  «Дракон»-5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Рамка для фотографий- 35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Ситцевые лоскутки разного цвета у меня есть, их покупать не надо-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Ножницы, копировальная бумага, портновский мел у меня тоже есть-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того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85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title"/>
          <p:cNvPicPr/>
          <p:nvPr/>
        </p:nvPicPr>
        <p:blipFill>
          <a:blip r:embed="rId1"/>
          <a:stretch/>
        </p:blipFill>
        <p:spPr>
          <a:xfrm>
            <a:off x="5429160" y="2071800"/>
            <a:ext cx="2986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Этапы изготовления аппликации «Русская матрёшк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" descr="000112_catalogue_main"/>
          <p:cNvPicPr/>
          <p:nvPr/>
        </p:nvPicPr>
        <p:blipFill>
          <a:blip r:embed="rId1"/>
          <a:stretch/>
        </p:blipFill>
        <p:spPr>
          <a:xfrm>
            <a:off x="1476360" y="1628640"/>
            <a:ext cx="63054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Оценка и контроль качест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" descr="mat9"/>
          <p:cNvPicPr/>
          <p:nvPr/>
        </p:nvPicPr>
        <p:blipFill>
          <a:blip r:embed="rId1"/>
          <a:stretch/>
        </p:blipFill>
        <p:spPr>
          <a:xfrm>
            <a:off x="2556000" y="1628640"/>
            <a:ext cx="457200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Дополнительное оформлени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s-2977--31"/>
          <p:cNvPicPr/>
          <p:nvPr/>
        </p:nvPicPr>
        <p:blipFill>
          <a:blip r:embed="rId1"/>
          <a:stretch/>
        </p:blipFill>
        <p:spPr>
          <a:xfrm>
            <a:off x="2340000" y="1628640"/>
            <a:ext cx="494352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0"/>
                </a:solidFill>
                <a:latin typeface="Tahoma"/>
              </a:rPr>
              <a:t>Самооценка и защита проекта. Фото получившего изделия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E:\Users\Наталья\Desktop\29112010061.jpg"/>
          <p:cNvPicPr/>
          <p:nvPr/>
        </p:nvPicPr>
        <p:blipFill>
          <a:blip r:embed="rId1"/>
          <a:stretch/>
        </p:blipFill>
        <p:spPr>
          <a:xfrm>
            <a:off x="2743200" y="1785960"/>
            <a:ext cx="365760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Крупенская Н.П. Поделки в русском стиле.-М.: Айрис-пресс,2009.-32 с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болева О.Л.Оригинальные поделки в стиле «Аппликация»,Изд-во «Академия развития»,Ярославль,200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Учебное практическое пособие «Тканевая пластика»,Е.Н.Андрюкова.-М.:Педагогическое общество России,200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Садилова Л.А. Поделки из ткани.-М.:Скрипторий»,200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4971960" cy="870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Цель проекта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7840" y="1214280"/>
            <a:ext cx="3828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Оценить свои возможности в проект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амостоятельно изготовить изделие декоративно-прикладного творчества «Русскую матрёшку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Разработать этапы выполнения проек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Оценить проделанную мною работ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38410262_112edca047fd46348ff068833b0637eb_M28251"/>
          <p:cNvPicPr/>
          <p:nvPr/>
        </p:nvPicPr>
        <p:blipFill>
          <a:blip r:embed="rId1"/>
          <a:stretch/>
        </p:blipFill>
        <p:spPr>
          <a:xfrm>
            <a:off x="142920" y="2071800"/>
            <a:ext cx="464328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ahoma"/>
              </a:rPr>
              <a:t>Этапы выполнения проекта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38411246_mak2"/>
          <p:cNvPicPr/>
          <p:nvPr/>
        </p:nvPicPr>
        <p:blipFill>
          <a:blip r:embed="rId1"/>
          <a:stretch/>
        </p:blipFill>
        <p:spPr>
          <a:xfrm>
            <a:off x="2195640" y="1628640"/>
            <a:ext cx="5234040" cy="46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af69c"/>
                </a:solidFill>
                <a:latin typeface="Tahoma"/>
              </a:rPr>
              <a:t>Опорная схема выполнения проек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олнения 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опас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Апплик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«Русская матрёш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гиена тру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а кач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крашение издел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готовка рабочего ме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бор оборуд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стетич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ккурат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гото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2d050"/>
                </a:solidFill>
                <a:latin typeface="Tahoma"/>
              </a:rPr>
              <a:t>Почему я решил изготовить именно это издели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38411340_ms137"/>
          <p:cNvPicPr/>
          <p:nvPr/>
        </p:nvPicPr>
        <p:blipFill>
          <a:blip r:embed="rId1"/>
          <a:stretch/>
        </p:blipFill>
        <p:spPr>
          <a:xfrm>
            <a:off x="2268360" y="1700280"/>
            <a:ext cx="437040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000"/>
                </a:solidFill>
                <a:latin typeface="Tahoma"/>
              </a:rPr>
              <a:t>История появления русской матрёшк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mat27"/>
          <p:cNvPicPr/>
          <p:nvPr/>
        </p:nvPicPr>
        <p:blipFill>
          <a:blip r:embed="rId1"/>
          <a:stretch/>
        </p:blipFill>
        <p:spPr>
          <a:xfrm>
            <a:off x="2428920" y="2000160"/>
            <a:ext cx="4398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b0f0"/>
                </a:solidFill>
                <a:latin typeface="Tahoma"/>
              </a:rPr>
              <a:t>История появления апплик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PICT0068"/>
          <p:cNvPicPr/>
          <p:nvPr/>
        </p:nvPicPr>
        <p:blipFill>
          <a:blip r:embed="rId1"/>
          <a:stretch/>
        </p:blipFill>
        <p:spPr>
          <a:xfrm>
            <a:off x="2195640" y="1628640"/>
            <a:ext cx="48974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400880" cy="1084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Выбор материалов для изготовления издел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74800" y="1642680"/>
            <a:ext cx="51116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Ситцевые лоскуты ткани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ёрный  цвет- 12х17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ный цвет-  8х10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цвет- 5х6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лый лоскуток в зелёный горошек- 6х4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ноцветный лоскуток -8х13 с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untitled"/>
          <p:cNvPicPr/>
          <p:nvPr/>
        </p:nvPicPr>
        <p:blipFill>
          <a:blip r:embed="rId1"/>
          <a:stretch/>
        </p:blipFill>
        <p:spPr>
          <a:xfrm>
            <a:off x="214200" y="2214720"/>
            <a:ext cx="34290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2:15:21Z</dcterms:created>
  <dc:creator>Наталья</dc:creator>
  <dc:description/>
  <dc:language>en-US</dc:language>
  <cp:lastModifiedBy>Natali</cp:lastModifiedBy>
  <dcterms:modified xsi:type="dcterms:W3CDTF">2011-04-11T05:17:13Z</dcterms:modified>
  <cp:revision>6</cp:revision>
  <dc:subject/>
  <dc:title>Творческий проект по предмету технология</dc:title>
</cp:coreProperties>
</file>