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E3A-A0FF-4D5B-8A26-13DC8056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E55-7302-4C62-8D9D-4554907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69D-35AD-402F-9FC0-89810BDB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D5E-FE5A-49C0-99B3-4B0D5257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43E-04E0-49D2-8E35-9C67DF07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C41-315D-4879-9C94-4BE0D896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D1A-8261-4F0D-8F0C-3D6F15C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8EFA-B616-4D5C-B09A-7FF420EC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B09-DF97-4EF0-A4D9-D452CD55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71EB-5D20-4D81-9929-6F48137E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763-6826-4A2A-8791-AD70501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788-D9B1-4B37-B748-314998E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31EF-AF39-4871-A787-F37684B3F0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a400"/>
            </a:gs>
            <a:gs pos="50000">
              <a:srgbClr val="ffff00"/>
            </a:gs>
            <a:gs pos="100000">
              <a:srgbClr val="a4a4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Arial"/>
              </a:rPr>
              <a:t>Презентация на тему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Работу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МОУ СОШ №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г. Минеральные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Клименкова Ири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116000" y="2349360"/>
            <a:ext cx="684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Животноводство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ветеринар"/>
          <p:cNvPicPr/>
          <p:nvPr/>
        </p:nvPicPr>
        <p:blipFill>
          <a:blip r:embed="rId2"/>
          <a:stretch/>
        </p:blipFill>
        <p:spPr>
          <a:xfrm>
            <a:off x="1547640" y="476280"/>
            <a:ext cx="5977080" cy="4597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2050920" y="522936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на свете он добр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ит он больных звер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Что дает животноводство людя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ясо, шерсть, пух, кож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фрукты, овощи, злаковые куль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хлопок, лен, кормовые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Домашние сельскохозяйственные животные –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млекопитающие, птицы, рыбы, насеком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звери, птицы, земноводные, ры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птицы, пресмыкающиеся, земноводные, ры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Домашние птицы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азаны, куропатки, страу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авлины, орлы, берку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индейки, куры, г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Пчел разводят 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фер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асе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птицефаб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 « Животноводство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Для корма домашних животных заготавливаю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картофель, зерно, тимофеев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арбузы, дыни, тыкв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асилек, подснежник, гиаци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Какие отрасли животноводства особенно развиты в Вашем кра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тице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рыбо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овце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. Ю. Целоусова, Т. В. Максимова. Поурочные разработки по курсу «Окружающий мир», М. «Вако» 2004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 А. Плешаков. Мир вокруг нас. 3 класс. М. «Просвещение» 201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. А. Плешаков. Зелёные страницы. М. «Просвещение» 2008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. И. Жукова. Часы занимательной зоологии. М. «Просвещение» 197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нциклопедия. «Я познаю мир. Животны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Arial"/>
              </a:rPr>
              <a:t>Аннотац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зентация на заданную тему используется на уроках окружающего мира в 3 классе с целью ознакомления с отраслью сельск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зентация соответствует утверждённому минимуму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етодика обучения по УМК «Школа России», используемая в работе, учитывает индивидуальные особенности учащихся, активизирует познавательн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ользованные современные технологии помогают учащимся усвоить изучаемый материал на более высоком уро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орова"/>
          <p:cNvPicPr/>
          <p:nvPr/>
        </p:nvPicPr>
        <p:blipFill>
          <a:blip r:embed="rId2"/>
          <a:stretch/>
        </p:blipFill>
        <p:spPr>
          <a:xfrm>
            <a:off x="160200" y="333360"/>
            <a:ext cx="5007240" cy="612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148360" y="1125360"/>
            <a:ext cx="324000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ма пёстра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т зелёно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ёт б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овца"/>
          <p:cNvPicPr/>
          <p:nvPr/>
        </p:nvPicPr>
        <p:blipFill>
          <a:blip r:embed="rId2"/>
          <a:stretch/>
        </p:blipFill>
        <p:spPr>
          <a:xfrm>
            <a:off x="250920" y="177840"/>
            <a:ext cx="5329080" cy="6502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6156360" y="1052640"/>
            <a:ext cx="216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424560" y="1432080"/>
            <a:ext cx="203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не пря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тк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вает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Koza_zagadki"/>
          <p:cNvPicPr/>
          <p:nvPr/>
        </p:nvPicPr>
        <p:blipFill>
          <a:blip r:embed="rId2"/>
          <a:stretch/>
        </p:blipFill>
        <p:spPr>
          <a:xfrm>
            <a:off x="179280" y="1170000"/>
            <a:ext cx="5905440" cy="4780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156360" y="2266920"/>
            <a:ext cx="187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У кого 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длиннее хв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свинья"/>
          <p:cNvPicPr/>
          <p:nvPr/>
        </p:nvPicPr>
        <p:blipFill>
          <a:blip r:embed="rId2"/>
          <a:stretch/>
        </p:blipFill>
        <p:spPr>
          <a:xfrm>
            <a:off x="395280" y="844560"/>
            <a:ext cx="5761080" cy="496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300720" y="213372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588000" y="1989000"/>
            <a:ext cx="2305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Хвост крю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Нос пята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курица"/>
          <p:cNvPicPr/>
          <p:nvPr/>
        </p:nvPicPr>
        <p:blipFill>
          <a:blip r:embed="rId1"/>
          <a:stretch/>
        </p:blipFill>
        <p:spPr>
          <a:xfrm>
            <a:off x="0" y="2970360"/>
            <a:ext cx="3673440" cy="388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утка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4803840" y="5002200"/>
            <a:ext cx="29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4192560" y="4673520"/>
            <a:ext cx="36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ился в жёлтой шуб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щайте две скорлупк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рыбка"/>
          <p:cNvPicPr/>
          <p:nvPr/>
        </p:nvPicPr>
        <p:blipFill>
          <a:blip r:embed="rId1"/>
          <a:stretch/>
        </p:blipFill>
        <p:spPr>
          <a:xfrm>
            <a:off x="1908000" y="1268280"/>
            <a:ext cx="532944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124000" y="5229360"/>
            <a:ext cx="50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хвостом, а не звер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перьями, а не пт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пчела"/>
          <p:cNvPicPr/>
          <p:nvPr/>
        </p:nvPicPr>
        <p:blipFill>
          <a:blip r:embed="rId1"/>
          <a:stretch/>
        </p:blipFill>
        <p:spPr>
          <a:xfrm>
            <a:off x="0" y="620640"/>
            <a:ext cx="58672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75280" y="1844640"/>
            <a:ext cx="3168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мовитая хозя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летела над лужай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хлопочет над цветком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делится мед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1:04:19Z</dcterms:created>
  <dc:creator>2169</dc:creator>
  <dc:description/>
  <dc:language>en-US</dc:language>
  <cp:lastModifiedBy>Ксю</cp:lastModifiedBy>
  <dcterms:modified xsi:type="dcterms:W3CDTF">2011-07-05T13:26:45Z</dcterms:modified>
  <cp:revision>9</cp:revision>
  <dc:subject/>
  <dc:title>Презентация на тему: «Животноводство»</dc:title>
</cp:coreProperties>
</file>