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C1B-3EF5-4620-ABD8-EF136C42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1FD-1606-47A4-8293-60AAE3AD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43D-E468-46B3-B118-F02912BC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5F6-2FCA-4F44-80ED-32FFE674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075-6237-4D7F-B324-715C0F03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F00-871D-4145-8728-E9CB577F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01C-F9B3-49A5-B1FB-65BC9F79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0A9-E2AA-4C1B-A54B-233F27A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ACD-3EAD-4CFF-A04B-9E584692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472-7191-4021-8AE9-B4FC991E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64A-3752-41D6-AA1E-FFACEAE9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666-D8F2-4AE8-916A-2171D3AE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901E-050E-4234-9F79-81B7F152B1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00"/>
            </a:gs>
            <a:gs pos="50000">
              <a:srgbClr val="ffff00"/>
            </a:gs>
            <a:gs pos="100000">
              <a:srgbClr val="a4a4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Презентация на тему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МОУ СОШ №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г. Минераль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Клименкова Ири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116000" y="2349360"/>
            <a:ext cx="684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Животноводство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ветеринар"/>
          <p:cNvPicPr/>
          <p:nvPr/>
        </p:nvPicPr>
        <p:blipFill>
          <a:blip r:embed="rId2"/>
          <a:stretch/>
        </p:blipFill>
        <p:spPr>
          <a:xfrm>
            <a:off x="1547640" y="476280"/>
            <a:ext cx="5977080" cy="4597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2050920" y="5229360"/>
            <a:ext cx="51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на свете он доб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ит он больных звер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 Животноводст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Что дает животноводство люд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ясо, шерсть, пух, кож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фрукты, овощи, злаковые куль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хлопок, лен, кормовые тр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Домашние сельскохозяйственные животные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лекопитающие, птицы, рыбы, насеком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звери, птицы, земноводные, ры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птицы, пресмыкающиеся, земноводные, ры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 Животноводст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Домашние птиц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азаны, куропатки, страу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авлины, орлы, берку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индейки, куры, г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Пчел разводят 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ер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асе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тицефабр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 Животноводст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Для корма домашних животных заготавливаю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картофель, зерно, тимофеев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арбузы, дыни, тыкв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асилек, подснежник, гиаци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Какие отрасли животноводства особенно развиты в Вашем кра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тице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рыбо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вце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. Ю. Целоусова, Т. В. Максимова. Поурочные разработки по курсу «Окружающий мир», М. «Вако» 2004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. А. Плешаков. Мир вокруг нас. 3 класс. М. «Просвещение» 201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. А. Плешаков. Зелёные страницы. М. «Просвещение» 2008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. И. Жукова. Часы занимательной зоологии. М. «Просвещение» 1973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нциклопедия. «Я познаю мир. Животны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Arial"/>
              </a:rPr>
              <a:t>Аннотац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зентация на заданную тему используется на уроках окружающего мира в 3 классе с целью ознакомления с отраслью сельск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зентация соответствует утверждённому минимуму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етодика обучения по УМК «Школа России», используемая в работе, учитывает индивидуальные особенности учащихся, активизирует позна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ользованные современные технологии помогают учащимся усвоить изучаемый материал на более высоком уро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орова"/>
          <p:cNvPicPr/>
          <p:nvPr/>
        </p:nvPicPr>
        <p:blipFill>
          <a:blip r:embed="rId2"/>
          <a:stretch/>
        </p:blipFill>
        <p:spPr>
          <a:xfrm>
            <a:off x="160200" y="333360"/>
            <a:ext cx="5007240" cy="612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148360" y="1125360"/>
            <a:ext cx="324000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ма пёстр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 зелён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ёт б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овца"/>
          <p:cNvPicPr/>
          <p:nvPr/>
        </p:nvPicPr>
        <p:blipFill>
          <a:blip r:embed="rId2"/>
          <a:stretch/>
        </p:blipFill>
        <p:spPr>
          <a:xfrm>
            <a:off x="250920" y="177840"/>
            <a:ext cx="5329080" cy="6502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6156360" y="1052640"/>
            <a:ext cx="21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424560" y="1432080"/>
            <a:ext cx="203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не пря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к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евает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Koza_zagadki"/>
          <p:cNvPicPr/>
          <p:nvPr/>
        </p:nvPicPr>
        <p:blipFill>
          <a:blip r:embed="rId2"/>
          <a:stretch/>
        </p:blipFill>
        <p:spPr>
          <a:xfrm>
            <a:off x="179280" y="1170000"/>
            <a:ext cx="5905440" cy="4780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156360" y="2266920"/>
            <a:ext cx="1871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У кого 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длиннее хво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свинья"/>
          <p:cNvPicPr/>
          <p:nvPr/>
        </p:nvPicPr>
        <p:blipFill>
          <a:blip r:embed="rId2"/>
          <a:stretch/>
        </p:blipFill>
        <p:spPr>
          <a:xfrm>
            <a:off x="395280" y="844560"/>
            <a:ext cx="576108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300720" y="213372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588000" y="1989000"/>
            <a:ext cx="230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Хвост крюч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Нос пятач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курица"/>
          <p:cNvPicPr/>
          <p:nvPr/>
        </p:nvPicPr>
        <p:blipFill>
          <a:blip r:embed="rId1"/>
          <a:stretch/>
        </p:blipFill>
        <p:spPr>
          <a:xfrm>
            <a:off x="0" y="2970360"/>
            <a:ext cx="3673440" cy="388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утка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4803840" y="5002200"/>
            <a:ext cx="29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192560" y="4673520"/>
            <a:ext cx="36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ился в жёлтой шуб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щайте две скорлуп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ыбка"/>
          <p:cNvPicPr/>
          <p:nvPr/>
        </p:nvPicPr>
        <p:blipFill>
          <a:blip r:embed="rId1"/>
          <a:stretch/>
        </p:blipFill>
        <p:spPr>
          <a:xfrm>
            <a:off x="1908000" y="1268280"/>
            <a:ext cx="5329440" cy="3456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124000" y="5229360"/>
            <a:ext cx="50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хвостом, а не з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перьями, а не пт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пчела"/>
          <p:cNvPicPr/>
          <p:nvPr/>
        </p:nvPicPr>
        <p:blipFill>
          <a:blip r:embed="rId1"/>
          <a:stretch/>
        </p:blipFill>
        <p:spPr>
          <a:xfrm>
            <a:off x="0" y="620640"/>
            <a:ext cx="58672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75280" y="1844640"/>
            <a:ext cx="3168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мовитая хозя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летела над лужай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хлопочет над цветком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делится мед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1:04:19Z</dcterms:created>
  <dc:creator>2169</dc:creator>
  <dc:description/>
  <dc:language>en-US</dc:language>
  <cp:lastModifiedBy>Ксю</cp:lastModifiedBy>
  <dcterms:modified xsi:type="dcterms:W3CDTF">2011-07-05T13:26:45Z</dcterms:modified>
  <cp:revision>9</cp:revision>
  <dc:subject/>
  <dc:title>Презентация на тему: «Животноводство»</dc:title>
</cp:coreProperties>
</file>