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D50-E921-4484-BDFD-B480524B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DE6-00CF-4503-A048-9DA869F4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C2F-D5D2-4E14-99A4-E4F8AA3F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15F-7A14-4469-9397-1ADB850D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FD16-4221-4660-BA2F-C43B5CCB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B5BB-D988-46D1-BC51-05A795C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F447-2482-4909-AC1B-82D644E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D6D4-75E5-4CCC-A30C-3DB47DC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EA9-9DBE-4DB6-94CE-862F4FB9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8ADA-19AD-4D87-B713-56BA28C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5F3E-C0C8-4EEB-BCA0-DF0E286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26C-F283-4041-A060-9FBED0B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795B-261B-412F-9F79-8F398FE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799A-2A3C-4F80-AC05-CB75094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4C4-55B3-436A-B080-2E0CD586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E1DF-B530-487D-8009-2C840493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7627-FBFB-4BD5-863C-238FC4EF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C0F-EA1D-491E-A19D-B0990E7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1F9-804E-45D1-8AFE-0693FED4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399-D1B7-435C-A65F-F3593F4C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48C-D5C6-4D92-8F0F-8F33CC0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576-CCF8-48E3-9049-65D8C1A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BAA-6D67-483A-AB02-B3F7472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F33-5DF2-4444-956D-7E505E8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9CC6-202F-4961-8332-6C9FB617C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FD32-DE2A-447C-B806-4BDD7F874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142920"/>
            <a:ext cx="791532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к учили школьников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         на Руси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Урок окружающего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Как учили школьников на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  Руси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Урок окружающего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мира в 3 «А» классе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в 3 «А» класс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Булдакова Наталья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учитель начальных классов МОУ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МОУ «СОШ № 73» г. Сарат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200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черн.jpg"/>
          <p:cNvPicPr/>
          <p:nvPr/>
        </p:nvPicPr>
        <p:blipFill>
          <a:blip r:embed="rId1"/>
          <a:stretch/>
        </p:blipFill>
        <p:spPr>
          <a:xfrm>
            <a:off x="6143760" y="1285920"/>
            <a:ext cx="144756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Азбуковник.bmp"/>
          <p:cNvPicPr/>
          <p:nvPr/>
        </p:nvPicPr>
        <p:blipFill>
          <a:blip r:embed="rId1"/>
          <a:stretch/>
        </p:blipFill>
        <p:spPr>
          <a:xfrm>
            <a:off x="1071720" y="857160"/>
            <a:ext cx="3585960" cy="3632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000080" y="4929120"/>
            <a:ext cx="76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 Азбуковник»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а  состоял из слогов, прописей, сведений по грамматике и арифме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букварь Истомина.bmp"/>
          <p:cNvPicPr/>
          <p:nvPr/>
        </p:nvPicPr>
        <p:blipFill>
          <a:blip r:embed="rId1"/>
          <a:stretch/>
        </p:blipFill>
        <p:spPr>
          <a:xfrm>
            <a:off x="928800" y="714240"/>
            <a:ext cx="4071960" cy="52419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5945400" y="1143000"/>
            <a:ext cx="305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ица из буква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иона Исто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9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л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ированный букв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смотрим в книгах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499760"/>
            <a:ext cx="82152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татьи из учебника «Мы и окружающий мир» на страниц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й вопрос товарищу по содержанию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учились в старину счит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- два – го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- четыре – прицеп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ь – шесть – в ряд се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ь – восемь – сено кос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ять – десять – сено вес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книги.jpg"/>
          <p:cNvPicPr/>
          <p:nvPr/>
        </p:nvPicPr>
        <p:blipFill>
          <a:blip r:embed="rId1"/>
          <a:stretch/>
        </p:blipFill>
        <p:spPr>
          <a:xfrm>
            <a:off x="6929280" y="642960"/>
            <a:ext cx="1175040" cy="1000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учебник М.jpg"/>
          <p:cNvPicPr/>
          <p:nvPr/>
        </p:nvPicPr>
        <p:blipFill>
          <a:blip r:embed="rId2"/>
          <a:stretch/>
        </p:blipFill>
        <p:spPr>
          <a:xfrm>
            <a:off x="5214960" y="2928960"/>
            <a:ext cx="2500200" cy="2058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4857840" y="55008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учебник по матема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рифметика» Л.Ф.Магниц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школа.jpg"/>
          <p:cNvPicPr/>
          <p:nvPr/>
        </p:nvPicPr>
        <p:blipFill>
          <a:blip r:embed="rId1"/>
          <a:stretch/>
        </p:blipFill>
        <p:spPr>
          <a:xfrm>
            <a:off x="285840" y="642960"/>
            <a:ext cx="8215200" cy="5440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85880" y="6500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24440" y="635796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М.Кустодиев «Школа в Московской Ру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ведем эксперимен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 – «Аз»                      М –«Мыслите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- «Буки»                    Ш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Ша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– «Веди»                 К – «Како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 – «Глаголь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 – «Добро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читайте: «Добро»  «Он»  «Мыслите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Ша»  «Како»   «Он»  «Люди»     «Аз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Мыслите»   «Аз»   «Мыслите»   «Аз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ладошки.gif"/>
          <p:cNvPicPr/>
          <p:nvPr/>
        </p:nvPicPr>
        <p:blipFill>
          <a:blip r:embed="rId1"/>
          <a:stretch/>
        </p:blipFill>
        <p:spPr>
          <a:xfrm>
            <a:off x="7572240" y="785880"/>
            <a:ext cx="129708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просим у других люде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714320"/>
            <a:ext cx="7924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ПЕРЕ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 Не за тридевять земел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ду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блио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сти в студ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кольный библиотека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н.в..jpg"/>
          <p:cNvPicPr/>
          <p:nvPr/>
        </p:nvPicPr>
        <p:blipFill>
          <a:blip r:embed="rId1"/>
          <a:stretch/>
        </p:blipFill>
        <p:spPr>
          <a:xfrm>
            <a:off x="4643280" y="3000240"/>
            <a:ext cx="3071880" cy="20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СМОТРИМ В КОМПЬЮТЕР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етская энциклопедия Кирилла и Мефодия:  статья «Письменность»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компьютер.jpg"/>
          <p:cNvPicPr/>
          <p:nvPr/>
        </p:nvPicPr>
        <p:blipFill>
          <a:blip r:embed="rId1"/>
          <a:stretch/>
        </p:blipFill>
        <p:spPr>
          <a:xfrm>
            <a:off x="3786120" y="29289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ПОДВЕДЕНИЕ ИТОГОВ ИССЛЕДОВАНИЯ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удно ли было учиться школьникам на Рус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ему ты удивился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то открыл для себ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ового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обучение грамоте.jpg"/>
          <p:cNvPicPr/>
          <p:nvPr/>
        </p:nvPicPr>
        <p:blipFill>
          <a:blip r:embed="rId1"/>
          <a:stretch/>
        </p:blipFill>
        <p:spPr>
          <a:xfrm>
            <a:off x="5214960" y="2857680"/>
            <a:ext cx="2786040" cy="2496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428760" y="5357880"/>
            <a:ext cx="47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грамоте.  Миниатюра из «Ж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ония  Сийского»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ОМАШНЕЕ  ЗАД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бусы и кроссворды по те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берите древние пословицы, загадки, в которых встречаются сведения о том, как учили школь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ие материалы использовали люди для письма и используют сейчас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Выполните одно задание по выбор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ОКР.gif"/>
          <p:cNvPicPr/>
          <p:nvPr/>
        </p:nvPicPr>
        <p:blipFill>
          <a:blip r:embed="rId1"/>
          <a:stretch/>
        </p:blipFill>
        <p:spPr>
          <a:xfrm>
            <a:off x="7740720" y="447840"/>
            <a:ext cx="10461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люч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вы потруд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е, как на Руси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ложках поигр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лотушку постуч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иральная д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же в музыке ну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вс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дыхат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ую масленицу встреч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огда на Руси, приглашаю на б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блины.jpg"/>
          <p:cNvPicPr/>
          <p:nvPr/>
        </p:nvPicPr>
        <p:blipFill>
          <a:blip r:embed="rId1"/>
          <a:stretch/>
        </p:blipFill>
        <p:spPr>
          <a:xfrm>
            <a:off x="6143760" y="285840"/>
            <a:ext cx="2824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одерж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к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ование темы 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лан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я в 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экспери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в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 в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писок литерату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. Ишимова А.О. История России в рассказах для детей.- М.: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стория России.  Энциклопедия для детей.  Том 5.  История России и её ближайших соседей. Часть 1.  От древних славян до Петра Великого.- ЗАО Издательский дом «Аванта+», М.: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Утевская П.  Слов драгоценные клады. - Издательство «Детская литература»,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Читаем, учимся, играем.  Журнал-сборник сценариев для школьных библиотек.- Выпуск 6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Читаем, учимся, играем. Журнал-сборник сценариев для школьных библиотек. -  Выпуск 1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2800" y="25992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дведение к проблем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йте предло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грамотой вскачь, без грамоты хоть пла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ожете о нём сказат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е смысл послов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К и М.jpg"/>
          <p:cNvPicPr/>
          <p:nvPr/>
        </p:nvPicPr>
        <p:blipFill>
          <a:blip r:embed="rId1"/>
          <a:stretch/>
        </p:blipFill>
        <p:spPr>
          <a:xfrm>
            <a:off x="5214960" y="2857680"/>
            <a:ext cx="29289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Тема урок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Как учили школьников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на Руси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</a:t>
            </a:r>
            <a:br>
              <a:rPr sz="3300"/>
            </a:b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оставим план исследования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                      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857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умаем сами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!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наблюдаем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мотрим в книг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ведем эксперимен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росим у других люд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мотрим в компьютер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лупа.jpg"/>
          <p:cNvPicPr/>
          <p:nvPr/>
        </p:nvPicPr>
        <p:blipFill>
          <a:blip r:embed="rId1"/>
          <a:stretch/>
        </p:blipFill>
        <p:spPr>
          <a:xfrm rot="17653800">
            <a:off x="4638240" y="2138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книги.jpg"/>
          <p:cNvPicPr/>
          <p:nvPr/>
        </p:nvPicPr>
        <p:blipFill>
          <a:blip r:embed="rId2"/>
          <a:stretch/>
        </p:blipFill>
        <p:spPr>
          <a:xfrm>
            <a:off x="5715000" y="2428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компьютер.jpg"/>
          <p:cNvPicPr/>
          <p:nvPr/>
        </p:nvPicPr>
        <p:blipFill>
          <a:blip r:embed="rId3"/>
          <a:stretch/>
        </p:blipFill>
        <p:spPr>
          <a:xfrm>
            <a:off x="6143760" y="45720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ицо.jpg"/>
          <p:cNvPicPr/>
          <p:nvPr/>
        </p:nvPicPr>
        <p:blipFill>
          <a:blip r:embed="rId4"/>
          <a:stretch/>
        </p:blipFill>
        <p:spPr>
          <a:xfrm>
            <a:off x="7500960" y="3643200"/>
            <a:ext cx="719280" cy="949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ладошки.gif"/>
          <p:cNvPicPr/>
          <p:nvPr/>
        </p:nvPicPr>
        <p:blipFill>
          <a:blip r:embed="rId5"/>
          <a:stretch/>
        </p:blipFill>
        <p:spPr>
          <a:xfrm>
            <a:off x="5572080" y="3357720"/>
            <a:ext cx="150192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наблюдае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Содержимое 3" descr="грамота2.jpg"/>
          <p:cNvPicPr/>
          <p:nvPr/>
        </p:nvPicPr>
        <p:blipFill>
          <a:blip r:embed="rId1"/>
          <a:stretch/>
        </p:blipFill>
        <p:spPr>
          <a:xfrm>
            <a:off x="0" y="1357200"/>
            <a:ext cx="4276800" cy="4911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4786200" y="171468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ая азбука, вырез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боротной стороне дощечк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городской восковой табли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II-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исало.jpg"/>
          <p:cNvPicPr/>
          <p:nvPr/>
        </p:nvPicPr>
        <p:blipFill>
          <a:blip r:embed="rId1"/>
          <a:stretch/>
        </p:blipFill>
        <p:spPr>
          <a:xfrm>
            <a:off x="1214280" y="1357200"/>
            <a:ext cx="1795680" cy="4043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писало 14в.jpg"/>
          <p:cNvPicPr/>
          <p:nvPr/>
        </p:nvPicPr>
        <p:blipFill>
          <a:blip r:embed="rId2"/>
          <a:stretch/>
        </p:blipFill>
        <p:spPr>
          <a:xfrm>
            <a:off x="4786200" y="1428840"/>
            <a:ext cx="1785960" cy="402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1667880" y="5929200"/>
            <a:ext cx="52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нзовые писала, найденные в Кие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ревняя Рус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X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грамота.jpg"/>
          <p:cNvPicPr/>
          <p:nvPr/>
        </p:nvPicPr>
        <p:blipFill>
          <a:blip r:embed="rId1"/>
          <a:stretch/>
        </p:blipFill>
        <p:spPr>
          <a:xfrm>
            <a:off x="1143000" y="1214280"/>
            <a:ext cx="6431040" cy="3786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857160" y="52862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ценкам археологов под мостовыми Новгорода лежит около 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сяч грам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грамота Онфима.gif"/>
          <p:cNvPicPr/>
          <p:nvPr/>
        </p:nvPicPr>
        <p:blipFill>
          <a:blip r:embed="rId1"/>
          <a:stretch/>
        </p:blipFill>
        <p:spPr>
          <a:xfrm>
            <a:off x="571680" y="0"/>
            <a:ext cx="7643520" cy="5214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927360" y="5643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естяная грамота мальчика Онфима, жившего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8:13:20Z</dcterms:created>
  <dc:creator>User</dc:creator>
  <dc:description/>
  <dc:language>en-US</dc:language>
  <cp:lastModifiedBy>user</cp:lastModifiedBy>
  <dcterms:modified xsi:type="dcterms:W3CDTF">2009-12-02T16:18:27Z</dcterms:modified>
  <cp:revision>51</cp:revision>
  <dc:subject/>
  <dc:title> Урок окружающего мира  в 3 «А»  классе  МОУ «СОШ № 73» по теме  «Как учили школьников на Руси» </dc:title>
</cp:coreProperties>
</file>