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240-B4FE-4B64-BFFC-2DF5C67D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DE5-BD3E-4DB9-8F6F-D85256A6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65B-E220-4963-AA66-DA7EC058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CCB-CB5A-4C89-9BA5-22A1A911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BE28-10FD-4787-9FD9-E9B132C4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13FF-5A04-46EA-B225-4AB29020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9FC4-3187-4163-8D31-64D12A0A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990D-35DE-434E-97D5-5C6176BF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ABC4-3B1B-4E36-B9C0-E35CD0E7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75A9-9112-457A-985C-F3BB3E31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0C81-D963-4B3E-85BE-2F6CC8D3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C6E-D884-4112-B949-B84F2E87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ADAB-A29E-48E1-8677-B2014BF5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8F57-95FC-43AD-8192-1CBB7300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5B8F-0955-4D13-9DD9-EECCC48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2513-824A-46ED-A2D1-729FD171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65BE-9D56-4A58-95AE-27F385F2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50A-8039-406F-9E39-C3B85AF7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DB2-3D20-4D53-A637-DA2E8FEE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5E2-ED3A-458E-B002-61B09D23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49A-2C4A-431C-B482-81E6E497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119-C7EB-43BF-AF05-180934C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672-0417-455E-9A97-5CF524A4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A54E-D187-4B2D-9067-6F80771B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9874-D694-46D0-9CE4-3C0764668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D15B-3558-4544-9DC9-0592B4C242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142920"/>
            <a:ext cx="791532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ак учили школьников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          на Руси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Урок окружающего</a:t>
            </a: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Как учили школьников на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   Руси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Урок окружающего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мира в 3 «А» классе</a:t>
            </a: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в 3 «А» класс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88908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Булдакова Наталья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учитель начальных классов МОУ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МОУ «СОШ № 73» г. Сарат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200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черн.jpg"/>
          <p:cNvPicPr/>
          <p:nvPr/>
        </p:nvPicPr>
        <p:blipFill>
          <a:blip r:embed="rId1"/>
          <a:stretch/>
        </p:blipFill>
        <p:spPr>
          <a:xfrm>
            <a:off x="6143760" y="1285920"/>
            <a:ext cx="1447560" cy="11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Азбуковник.bmp"/>
          <p:cNvPicPr/>
          <p:nvPr/>
        </p:nvPicPr>
        <p:blipFill>
          <a:blip r:embed="rId1"/>
          <a:stretch/>
        </p:blipFill>
        <p:spPr>
          <a:xfrm>
            <a:off x="1071720" y="857160"/>
            <a:ext cx="3585960" cy="36324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1000080" y="4929120"/>
            <a:ext cx="766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 Азбуковник»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а  состоял из слогов, прописей, сведений по грамматике и арифме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букварь Истомина.bmp"/>
          <p:cNvPicPr/>
          <p:nvPr/>
        </p:nvPicPr>
        <p:blipFill>
          <a:blip r:embed="rId1"/>
          <a:stretch/>
        </p:blipFill>
        <p:spPr>
          <a:xfrm>
            <a:off x="928800" y="714240"/>
            <a:ext cx="4071960" cy="52419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5945400" y="1143000"/>
            <a:ext cx="305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ица из буквар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иона Истом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9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ыл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люстрированный буква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смотрим в книгах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499760"/>
            <a:ext cx="82152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татьи из учебника «Мы и окружающий мир» на страниц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й вопрос товарищу по содержанию тек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т как учились в старину счит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 - два – го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- четыре – прицеп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ять – шесть – в ряд се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мь – восемь – сено кос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вять – десять – сено вес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3" descr="книги.jpg"/>
          <p:cNvPicPr/>
          <p:nvPr/>
        </p:nvPicPr>
        <p:blipFill>
          <a:blip r:embed="rId1"/>
          <a:stretch/>
        </p:blipFill>
        <p:spPr>
          <a:xfrm>
            <a:off x="6929280" y="642960"/>
            <a:ext cx="1175040" cy="1000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учебник М.jpg"/>
          <p:cNvPicPr/>
          <p:nvPr/>
        </p:nvPicPr>
        <p:blipFill>
          <a:blip r:embed="rId2"/>
          <a:stretch/>
        </p:blipFill>
        <p:spPr>
          <a:xfrm>
            <a:off x="5214960" y="2928960"/>
            <a:ext cx="2500200" cy="2058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4857840" y="55008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учебник по математи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рифметика» Л.Ф.Магниц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3" descr="школа.jpg"/>
          <p:cNvPicPr/>
          <p:nvPr/>
        </p:nvPicPr>
        <p:blipFill>
          <a:blip r:embed="rId1"/>
          <a:stretch/>
        </p:blipFill>
        <p:spPr>
          <a:xfrm>
            <a:off x="285840" y="642960"/>
            <a:ext cx="8215200" cy="54403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785880" y="6500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24440" y="6357960"/>
            <a:ext cx="44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.М.Кустодиев «Школа в Московской Рус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роведем эксперимент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 – «Аз»                      М –«Мыслите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- «Буки»                    Ш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Ша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– «Веди»                 К – «Како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Г – «Глаголь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 – «Добро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читайте: «Добро»  «Он»  «Мыслите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Ша»  «Како»   «Он»  «Люди»     «Аз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Мыслите»   «Аз»   «Мыслите»   «Аз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ладошки.gif"/>
          <p:cNvPicPr/>
          <p:nvPr/>
        </p:nvPicPr>
        <p:blipFill>
          <a:blip r:embed="rId1"/>
          <a:stretch/>
        </p:blipFill>
        <p:spPr>
          <a:xfrm>
            <a:off x="7572240" y="785880"/>
            <a:ext cx="129708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просим у других людей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714320"/>
            <a:ext cx="792468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ЛЕПЕРЕ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 Не за тридевять земель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дущ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р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иблиогра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сти в студ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ис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кольный библиотека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4" descr="н.в..jpg"/>
          <p:cNvPicPr/>
          <p:nvPr/>
        </p:nvPicPr>
        <p:blipFill>
          <a:blip r:embed="rId1"/>
          <a:stretch/>
        </p:blipFill>
        <p:spPr>
          <a:xfrm>
            <a:off x="4643280" y="3000240"/>
            <a:ext cx="3071880" cy="20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024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СМОТРИМ В КОМПЬЮТЕР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етская энциклопедия Кирилла и Мефодия:  статья «Письменность»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3" descr="компьютер.jpg"/>
          <p:cNvPicPr/>
          <p:nvPr/>
        </p:nvPicPr>
        <p:blipFill>
          <a:blip r:embed="rId1"/>
          <a:stretch/>
        </p:blipFill>
        <p:spPr>
          <a:xfrm>
            <a:off x="3786120" y="292896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ПОДВЕДЕНИЕ ИТОГОВ ИССЛЕДОВАНИЯ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Трудно ли было учиться школьникам на Руси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ему ты удивился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Что открыл для себ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ового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обучение грамоте.jpg"/>
          <p:cNvPicPr/>
          <p:nvPr/>
        </p:nvPicPr>
        <p:blipFill>
          <a:blip r:embed="rId1"/>
          <a:stretch/>
        </p:blipFill>
        <p:spPr>
          <a:xfrm>
            <a:off x="5214960" y="2857680"/>
            <a:ext cx="2786040" cy="24969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428760" y="5357880"/>
            <a:ext cx="47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грамоте.  Миниатюра из «Ж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ония  Сийского»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ДОМАШНЕЕ  ЗАДА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ебусы и кроссворды по тем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берите древние пословицы, загадки, в которых встречаются сведения о том, как учили школьник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кие материалы использовали люди для письма и используют сейчас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Выполните одно задание по выбор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ОКР.gif"/>
          <p:cNvPicPr/>
          <p:nvPr/>
        </p:nvPicPr>
        <p:blipFill>
          <a:blip r:embed="rId1"/>
          <a:stretch/>
        </p:blipFill>
        <p:spPr>
          <a:xfrm>
            <a:off x="7740720" y="447840"/>
            <a:ext cx="10461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ключе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вы потруд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ете, как на Руси учили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ложках поигр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лотушку постуч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иральная до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же в музыке нуж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вс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дыхат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окую масленицу встреч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тогда на Руси, приглашаю на бл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3" descr="блины.jpg"/>
          <p:cNvPicPr/>
          <p:nvPr/>
        </p:nvPicPr>
        <p:blipFill>
          <a:blip r:embed="rId1"/>
          <a:stretch/>
        </p:blipFill>
        <p:spPr>
          <a:xfrm>
            <a:off x="6143760" y="285840"/>
            <a:ext cx="28242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одержа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ение к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улирование темы 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плана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я в м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дение экспери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в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им в компью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едение итогов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писок литерату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. Ишимова А.О. История России в рассказах для детей.- М.: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стория России.  Энциклопедия для детей.  Том 5.  История России и её ближайших соседей. Часть 1.  От древних славян до Петра Великого.- ЗАО Издательский дом «Аванта+», М.: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Утевская П.  Слов драгоценные клады. - Издательство «Детская литература»,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Читаем, учимся, играем.  Журнал-сборник сценариев для школьных библиотек.- Выпуск 6,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Читаем, учимся, играем. Журнал-сборник сценариев для школьных библиотек. -  Выпуск 1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2800" y="25992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дведение к проблем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1440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итайте предлож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грамотой вскачь, без грамоты хоть пла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ожете о нём сказать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е смысл послов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К и М.jpg"/>
          <p:cNvPicPr/>
          <p:nvPr/>
        </p:nvPicPr>
        <p:blipFill>
          <a:blip r:embed="rId1"/>
          <a:stretch/>
        </p:blipFill>
        <p:spPr>
          <a:xfrm>
            <a:off x="5214960" y="2857680"/>
            <a:ext cx="29289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Тема урок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Как учили школьников</a:t>
            </a: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336666"/>
                </a:solidFill>
                <a:latin typeface="Arial Black"/>
              </a:rPr>
              <a:t>на Руси.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</a:t>
            </a:r>
            <a:br>
              <a:rPr sz="3300"/>
            </a:b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оставим план исследования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                       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8572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умаем сами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!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наблюдаем                        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смотрим в книга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ведем эксперимен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просим у других люд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смотрим в компьютер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лупа.jpg"/>
          <p:cNvPicPr/>
          <p:nvPr/>
        </p:nvPicPr>
        <p:blipFill>
          <a:blip r:embed="rId1"/>
          <a:stretch/>
        </p:blipFill>
        <p:spPr>
          <a:xfrm rot="17653800">
            <a:off x="4638240" y="21380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книги.jpg"/>
          <p:cNvPicPr/>
          <p:nvPr/>
        </p:nvPicPr>
        <p:blipFill>
          <a:blip r:embed="rId2"/>
          <a:stretch/>
        </p:blipFill>
        <p:spPr>
          <a:xfrm>
            <a:off x="5715000" y="24289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компьютер.jpg"/>
          <p:cNvPicPr/>
          <p:nvPr/>
        </p:nvPicPr>
        <p:blipFill>
          <a:blip r:embed="rId3"/>
          <a:stretch/>
        </p:blipFill>
        <p:spPr>
          <a:xfrm>
            <a:off x="6143760" y="457200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ицо.jpg"/>
          <p:cNvPicPr/>
          <p:nvPr/>
        </p:nvPicPr>
        <p:blipFill>
          <a:blip r:embed="rId4"/>
          <a:stretch/>
        </p:blipFill>
        <p:spPr>
          <a:xfrm>
            <a:off x="7500960" y="3643200"/>
            <a:ext cx="719280" cy="949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7" descr="ладошки.gif"/>
          <p:cNvPicPr/>
          <p:nvPr/>
        </p:nvPicPr>
        <p:blipFill>
          <a:blip r:embed="rId5"/>
          <a:stretch/>
        </p:blipFill>
        <p:spPr>
          <a:xfrm>
            <a:off x="5572080" y="3357720"/>
            <a:ext cx="150192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наблюдае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5" name="Содержимое 3" descr="грамота2.jpg"/>
          <p:cNvPicPr/>
          <p:nvPr/>
        </p:nvPicPr>
        <p:blipFill>
          <a:blip r:embed="rId1"/>
          <a:stretch/>
        </p:blipFill>
        <p:spPr>
          <a:xfrm>
            <a:off x="0" y="1357200"/>
            <a:ext cx="4276800" cy="4911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4786200" y="171468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сская азбука, выреза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боротной стороне дощечк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городской восковой таблич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II-XIV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писало.jpg"/>
          <p:cNvPicPr/>
          <p:nvPr/>
        </p:nvPicPr>
        <p:blipFill>
          <a:blip r:embed="rId1"/>
          <a:stretch/>
        </p:blipFill>
        <p:spPr>
          <a:xfrm>
            <a:off x="1214280" y="1357200"/>
            <a:ext cx="1795680" cy="4043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писало 14в.jpg"/>
          <p:cNvPicPr/>
          <p:nvPr/>
        </p:nvPicPr>
        <p:blipFill>
          <a:blip r:embed="rId2"/>
          <a:stretch/>
        </p:blipFill>
        <p:spPr>
          <a:xfrm>
            <a:off x="4786200" y="1428840"/>
            <a:ext cx="1785960" cy="402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1667880" y="5929200"/>
            <a:ext cx="52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онзовые писала, найденные в Кие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ревняя Рус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X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е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грамота.jpg"/>
          <p:cNvPicPr/>
          <p:nvPr/>
        </p:nvPicPr>
        <p:blipFill>
          <a:blip r:embed="rId1"/>
          <a:stretch/>
        </p:blipFill>
        <p:spPr>
          <a:xfrm>
            <a:off x="1143000" y="1214280"/>
            <a:ext cx="6431040" cy="37864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857160" y="5286240"/>
            <a:ext cx="72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оценкам археологов под мостовыми Новгорода лежит около 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ысяч грам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грамота Онфима.gif"/>
          <p:cNvPicPr/>
          <p:nvPr/>
        </p:nvPicPr>
        <p:blipFill>
          <a:blip r:embed="rId1"/>
          <a:stretch/>
        </p:blipFill>
        <p:spPr>
          <a:xfrm>
            <a:off x="571680" y="0"/>
            <a:ext cx="7643520" cy="5214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927360" y="5643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рестяная грамота мальчика Онфима, жившего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8:13:20Z</dcterms:created>
  <dc:creator>User</dc:creator>
  <dc:description/>
  <dc:language>en-US</dc:language>
  <cp:lastModifiedBy>user</cp:lastModifiedBy>
  <dcterms:modified xsi:type="dcterms:W3CDTF">2009-12-02T16:18:27Z</dcterms:modified>
  <cp:revision>51</cp:revision>
  <dc:subject/>
  <dc:title> Урок окружающего мира  в 3 «А»  классе  МОУ «СОШ № 73» по теме  «Как учили школьников на Руси» </dc:title>
</cp:coreProperties>
</file>