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8.jpeg" ContentType="image/jpeg"/>
  <Override PartName="/ppt/media/image11.wmf" ContentType="image/x-wmf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EA1-3F71-488C-9C3E-A0C6AD80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B32-620B-4710-ADDA-3617ADA6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01E-2DC7-4A5D-8FFA-1232750B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CD2-8731-4C7C-9672-64938D32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BACF-FE9E-4993-89CB-1F8F8195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229F-7C92-4509-ACCB-F20B0084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64CF-8A39-440A-B670-05E5EDFC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2325-C2CD-4A4E-B334-64A84694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12F5-077E-4C31-8410-99655DF4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226C-4ED1-4D34-B9C3-2830ABD2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53B8-EEF2-444B-A955-91439AE8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DE9-F11E-4E89-8FB7-1006E1EF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C743-4470-4F8F-ABCD-28F68A7F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21A0-9BC0-4A50-947F-87A44810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FE57-199B-4C77-B463-13439C27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6824-3A29-479F-B74A-F0D011FD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23DC-B01C-4C62-BF82-B8EA1B67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E574D-4E3F-4C88-8C9D-E0A5B82E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D2C6A-74F3-40D0-B1F4-755ED691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E2A53-A493-4B31-BF16-D592ED16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F72DB-92E8-40A1-88B4-57D5E62A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6D68F-7285-423A-A9D7-F0D3F686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F41-87B7-47CD-B648-1C077CEA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797F3-B704-4BF7-842A-33DFED47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909C4-C7CE-4C8E-87DC-F11603FC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0A827-7CA1-43F5-B993-34D12D61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EDDA-D5B0-472A-BC34-6D81AA8B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29EAD-CBC5-479D-AB44-DF78C9B6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636DC-DA98-465B-9DFC-D65D88F6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56159-B901-4A48-B782-93644182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D6F5D-D6AC-4ED4-8B76-3A5D6765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517F-2019-4AF1-BB53-D7EBCDB6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7CCEF-E19B-4719-93DC-3A92C5CA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A17-F6D7-4F84-A549-C8BF761C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32DD-6EF8-43CA-8762-143BF27C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E6A17-A69F-4685-8AB8-DE1BC041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5CE85-DC31-45A9-B08E-A5C71404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EACFE-A4F1-4B4D-ACC5-3E43B71E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670B7-451B-40A2-A9C4-6E3CC2DD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75527-1D07-4494-8A72-0AF1DB55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6473C-523A-477E-924E-FD99779C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8BF57-ABBB-4457-9FBB-F23E9DD6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8CBD2-CF07-4ED9-AE22-6A2E707F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49FB7-45A6-48E4-82FC-BE68D992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24C-4C1D-4F73-9CBB-24472884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27079-8DAD-4EB2-9EEA-25CC7565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AE98F-8AA5-4ABD-BD4B-74D83A20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43AD1-6524-4A3C-961C-5240981C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AA887-8DB3-410D-A124-B76F4B81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64B46-AB06-470D-9342-F2DA4584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5F96C-F097-41BB-9355-EC098719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5DF2B-D996-4084-A808-1BD7C9F3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5198C-FD6D-48FB-94FD-36F8DB66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16F57-F8C7-4DB1-9D28-D17996C2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350CB-8F08-4E1A-878D-153D47DE3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F29-6D59-49D3-AAB4-F37268E8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0EB81-4D83-4044-92BB-1A2427E4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57C50-E609-402E-AB6D-CCECD12A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D59BA-C50B-4F51-9EB7-991373F8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EE826-8141-43C7-AE4C-115DC024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669CF-A9B1-47AF-9B6E-CE306784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10C7E-7AFA-4B41-A83B-0117087E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CF804-25AE-41A5-B108-2E0AD076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B5AAB-2484-4CD6-AFEC-E5E54652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09326-C86D-41A5-BB31-C7476C68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33434-1CCE-444F-91B2-27F1AC28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45E7-5796-4203-A031-882BA5A6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50813-D217-40E2-8E90-12437729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F5EC3-4C9D-43C5-87D1-4081F749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BFA62-B7E9-4C62-80ED-E14ED937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471FB-9ED0-4CBB-8254-C54462CD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D296F-C78E-4B30-B259-5CB73ED8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633ED-35FC-4492-A26E-577E56E6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DC77E-D9C4-4CE5-B696-39254532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B2D57-5212-4ABB-8D99-A6FA897A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93D55-9CFE-459D-8022-D8EB2DEE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ECAB9-B2D7-4021-861B-EDBF2EF6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7D6-E53A-4A44-A5CF-9680FF80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F2004-D455-43F9-A68C-29E00562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6421C-68DF-4176-88EA-8BAFAE05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089EC-293F-4FA2-B534-82AE48B7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E587A-8871-4C3D-9677-9491440B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1F82C-C525-4190-9C99-DEB76655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12457-6AC8-41D2-94E6-FEC91CA7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643D9-9D06-4E38-83DC-83DC0BFC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48A90-9448-4F03-B85A-580236DF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E98F2-093A-4BD2-845B-603CD049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D3689-E2D2-42E2-83AF-FA62ED09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265-CB5F-4753-9743-83924228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438F6-425E-4F0B-9553-05D1257D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8F68D-E0DC-4B2D-A7B9-7BBF7EA4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7974F-9C36-4B01-9A26-63EC79B6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48E45-BE22-4B0C-85BD-1EE10582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3712B-DC95-4F62-A416-4F98BF17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64D49-68C2-4EE6-A0B9-AC304D65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B6E90-D0D1-4D84-A978-51098CDF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2B80-2DD0-4292-9BEA-5DD1D5BBE85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61BF-A177-407D-A7D7-C573C774B7A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0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50F3-63EA-4845-B4DE-A7D4BCC5D52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B848-C0D1-4BB3-88A3-BA8069DE2FB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0A23-5829-4494-8047-6DC847E0BFA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9F7A-487B-4C42-974C-90DA34592E8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2F02-9AF1-490D-B0E6-B0A967CA4D5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EB62-A6E5-4020-BB86-615B8686E65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rogram.pas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hyperlink" Target="file:///&#1057;&#1090;&#1072;&#1090;&#1080;&#1089;&#1090;&#1080;&#1082;&#1072;%20&#1090;&#1077;&#1089;&#1090;.ppt" TargetMode="External"/><Relationship Id="rId6" Type="http://schemas.openxmlformats.org/officeDocument/2006/relationships/slide" Target="slide17.xml"/><Relationship Id="rId7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Обработка статистических данных </a:t>
            </a:r>
            <a:br>
              <a:rPr sz="3200"/>
            </a:b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на компьютере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371240" y="3933360"/>
            <a:ext cx="730404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Выполнил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 учени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к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Уварова Анастасия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 7 Б класс</a:t>
            </a: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Arial"/>
              </a:rPr>
              <a:t>Никольский Евгений, 7В класс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Руководитель учитель информатики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1f1f"/>
                </a:solidFill>
                <a:latin typeface="Franklin Gothic Book"/>
              </a:rPr>
              <a:t>Букина Е.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"/>
          <p:cNvSpPr/>
          <p:nvPr/>
        </p:nvSpPr>
        <p:spPr>
          <a:xfrm>
            <a:off x="2268360" y="620640"/>
            <a:ext cx="5040360" cy="36828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eec9"/>
                </a:solidFill>
                <a:latin typeface="Verdana"/>
              </a:rPr>
              <a:t>МОУ СОШ № 1 г. Зеленокум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08360" y="5950080"/>
            <a:ext cx="2232000" cy="36828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eec9"/>
                </a:solidFill>
                <a:latin typeface="Verdana"/>
              </a:rPr>
              <a:t>2010-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9280" y="98100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d1f1f"/>
                </a:solidFill>
                <a:latin typeface="Arial"/>
              </a:rPr>
              <a:t>Конкурс «Юный программист» 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Medium"/>
              </a:rPr>
              <a:t>Примеры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460600" y="1798560"/>
            <a:ext cx="611496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Средняя урожайность пшеницы с 1 га в район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1554480" cy="15829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6588000" y="3213000"/>
            <a:ext cx="2028960" cy="14414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1825560" cy="1462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916360" y="5157720"/>
            <a:ext cx="5472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Средняя выработка одного рабочего бригады за см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47640" y="3500280"/>
            <a:ext cx="547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Средний суточный удой молока от одной кор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Среднее арифметическое находят только для однородных величин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90120" y="3741480"/>
            <a:ext cx="683892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зерновые                           овощи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1619280" y="1916280"/>
            <a:ext cx="1906560" cy="1800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5796000" y="4292640"/>
            <a:ext cx="1871640" cy="15955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403280" y="1484280"/>
            <a:ext cx="2233800" cy="2592360"/>
          </a:xfrm>
          <a:prstGeom prst="line">
            <a:avLst/>
          </a:prstGeom>
          <a:ln w="255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332000" y="1484280"/>
            <a:ext cx="2376360" cy="2449440"/>
          </a:xfrm>
          <a:prstGeom prst="line">
            <a:avLst/>
          </a:prstGeom>
          <a:ln w="255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364000" y="3645000"/>
            <a:ext cx="2880000" cy="2663640"/>
          </a:xfrm>
          <a:prstGeom prst="line">
            <a:avLst/>
          </a:prstGeom>
          <a:ln w="255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651640" y="3644640"/>
            <a:ext cx="2449440" cy="2809800"/>
          </a:xfrm>
          <a:prstGeom prst="line">
            <a:avLst/>
          </a:prstGeom>
          <a:ln w="255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Статистические характеристики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"/>
          <p:cNvSpPr/>
          <p:nvPr/>
        </p:nvSpPr>
        <p:spPr>
          <a:xfrm>
            <a:off x="611280" y="1916640"/>
            <a:ext cx="8208720" cy="3629160"/>
          </a:xfrm>
          <a:prstGeom prst="rect">
            <a:avLst/>
          </a:prstGeom>
          <a:solidFill>
            <a:srgbClr val="daf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ма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— это разность между наибольшим и наименьшим значениями ряда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P=a</a:t>
            </a:r>
            <a:r>
              <a:rPr b="0" lang="en-US" sz="1400" spc="-1" strike="noStrike">
                <a:solidFill>
                  <a:srgbClr val="ad1f1f"/>
                </a:solidFill>
                <a:latin typeface="Verdana"/>
              </a:rPr>
              <a:t>max 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a</a:t>
            </a:r>
            <a:r>
              <a:rPr b="0" lang="en-US" sz="1400" spc="-1" strike="noStrike">
                <a:solidFill>
                  <a:srgbClr val="ad1f1f"/>
                </a:solidFill>
                <a:latin typeface="Verdana"/>
              </a:rPr>
              <a:t>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P 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– размах ряда чисе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a</a:t>
            </a:r>
            <a:r>
              <a:rPr b="0" lang="en-US" sz="1400" spc="-1" strike="noStrike">
                <a:solidFill>
                  <a:srgbClr val="ad1f1f"/>
                </a:solidFill>
                <a:latin typeface="Verdana"/>
              </a:rPr>
              <a:t>max</a:t>
            </a: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–  наибольшее число в ряду чис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a</a:t>
            </a:r>
            <a:r>
              <a:rPr b="0" lang="en-US" sz="1400" spc="-1" strike="noStrike">
                <a:solidFill>
                  <a:srgbClr val="ad1f1f"/>
                </a:solidFill>
                <a:latin typeface="Verdana"/>
              </a:rPr>
              <a:t>min</a:t>
            </a: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– наименьшее число в ряду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Статистические характеристики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solidFill>
            <a:srgbClr val="dafab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Модой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называют число ряда, которое встречается в этом ряду наиболее часто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Моду находят тогда, когда хотят выявить некоторый типичный показатель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Одним из наиболее частых использований моды является изучение спрос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Medium"/>
              </a:rPr>
              <a:t>Примеры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47, 46, 50, 52, 47, 52, 49, 45, 43, 53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"/>
          <p:cNvSpPr/>
          <p:nvPr/>
        </p:nvSpPr>
        <p:spPr>
          <a:xfrm>
            <a:off x="914400" y="4149720"/>
            <a:ext cx="82296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69, 68, 66, 70, 67, 71, 74, 63, 73, 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03280" y="2421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ве моды – 47 и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03280" y="4797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т м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Статистические характеристики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"/>
          <p:cNvSpPr/>
          <p:nvPr/>
        </p:nvSpPr>
        <p:spPr>
          <a:xfrm>
            <a:off x="468360" y="1782720"/>
            <a:ext cx="8424720" cy="4483080"/>
          </a:xfrm>
          <a:prstGeom prst="rect">
            <a:avLst/>
          </a:prstGeom>
          <a:solidFill>
            <a:srgbClr val="dafa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едиан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упорядоченного ряда чисел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четным числом члено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зывается число записанное посередине, а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едиан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упорядоченного ряда чисел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 четным числ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лено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реднее арифметическое двух чисел, записанных посередин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дианой произвольного ряда чисел называется медиана соответствующего упорядоченного 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М=а</a:t>
            </a:r>
            <a:r>
              <a:rPr b="1" lang="en-US" sz="1400" spc="-1" strike="noStrike">
                <a:solidFill>
                  <a:srgbClr val="ad1f1f"/>
                </a:solidFill>
                <a:latin typeface="Verdana"/>
              </a:rPr>
              <a:t>N</a:t>
            </a:r>
            <a:r>
              <a:rPr b="1" lang="ru-RU" sz="1400" spc="-1" strike="noStrike">
                <a:solidFill>
                  <a:srgbClr val="ad1f1f"/>
                </a:solidFill>
                <a:latin typeface="Verdana"/>
              </a:rPr>
              <a:t>:2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 + а</a:t>
            </a:r>
            <a:r>
              <a:rPr b="1" lang="en-US" sz="1400" spc="-1" strike="noStrike">
                <a:solidFill>
                  <a:srgbClr val="ad1f1f"/>
                </a:solidFill>
                <a:latin typeface="Verdana"/>
              </a:rPr>
              <a:t>N</a:t>
            </a:r>
            <a:r>
              <a:rPr b="1" lang="ru-RU" sz="1400" spc="-1" strike="noStrike">
                <a:solidFill>
                  <a:srgbClr val="ad1f1f"/>
                </a:solidFill>
                <a:latin typeface="Verdana"/>
              </a:rPr>
              <a:t>:2+1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если </a:t>
            </a: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- количество чисел в ряду четн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М=а</a:t>
            </a:r>
            <a:r>
              <a:rPr b="1" lang="ru-RU" sz="1400" spc="-1" strike="noStrike">
                <a:solidFill>
                  <a:srgbClr val="ad1f1f"/>
                </a:solidFill>
                <a:latin typeface="Verdana"/>
              </a:rPr>
              <a:t>(</a:t>
            </a:r>
            <a:r>
              <a:rPr b="1" lang="en-US" sz="1400" spc="-1" strike="noStrike">
                <a:solidFill>
                  <a:srgbClr val="ad1f1f"/>
                </a:solidFill>
                <a:latin typeface="Verdana"/>
              </a:rPr>
              <a:t>N</a:t>
            </a:r>
            <a:r>
              <a:rPr b="1" lang="ru-RU" sz="1400" spc="-1" strike="noStrike">
                <a:solidFill>
                  <a:srgbClr val="ad1f1f"/>
                </a:solidFill>
                <a:latin typeface="Verdana"/>
              </a:rPr>
              <a:t>+1):2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если </a:t>
            </a:r>
            <a:r>
              <a:rPr b="0" lang="en-US" sz="2400" spc="-1" strike="noStrike">
                <a:solidFill>
                  <a:srgbClr val="ad1f1f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ad1f1f"/>
                </a:solidFill>
                <a:latin typeface="Verdana"/>
              </a:rPr>
              <a:t>- количество чисел в ряду нечет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ad1f1f"/>
                </a:solidFill>
                <a:uFillTx/>
                <a:latin typeface="Franklin Gothic Medium"/>
                <a:hlinkClick r:id="rId2" action="ppaction://hlinksldjump"/>
              </a:rPr>
              <a:t>Статистические характеристик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659800" cy="5589720"/>
          </a:xfrm>
          <a:prstGeom prst="rect">
            <a:avLst/>
          </a:prstGeom>
          <a:solidFill>
            <a:srgbClr val="dafab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Дисперсия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– это среднее арифметическое квадратов разностей между значениями случайной величины и её средним значением. Чем меньше дисперсия, тем меньше отличаются результатами наблюдений от своего среднего значения и тем ближе средние значение к истинному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                             </a:t>
            </a:r>
            <a:r>
              <a:rPr b="0" lang="ru-RU" sz="2800" spc="-1" strike="noStrike">
                <a:solidFill>
                  <a:srgbClr val="4e3b3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ad1f1f"/>
                </a:solidFill>
                <a:latin typeface="Franklin Gothic Book"/>
              </a:rPr>
              <a:t>2                       2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D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=((</a:t>
            </a: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a</a:t>
            </a:r>
            <a:r>
              <a:rPr b="0" lang="ru-RU" sz="1600" spc="-1" strike="noStrike">
                <a:solidFill>
                  <a:srgbClr val="ad1f1f"/>
                </a:solidFill>
                <a:latin typeface="Franklin Gothic Book"/>
              </a:rPr>
              <a:t>1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-</a:t>
            </a: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C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)+…+(</a:t>
            </a: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a</a:t>
            </a:r>
            <a:r>
              <a:rPr b="0" lang="en-US" sz="1600" spc="-1" strike="noStrike">
                <a:solidFill>
                  <a:srgbClr val="ad1f1f"/>
                </a:solidFill>
                <a:latin typeface="Franklin Gothic Book"/>
              </a:rPr>
              <a:t>N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-</a:t>
            </a: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C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)):</a:t>
            </a: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D 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– дисперсия, а</a:t>
            </a:r>
            <a:r>
              <a:rPr b="0" lang="ru-RU" sz="1600" spc="-1" strike="noStrike">
                <a:solidFill>
                  <a:srgbClr val="ad1f1f"/>
                </a:solidFill>
                <a:latin typeface="Franklin Gothic Book"/>
              </a:rPr>
              <a:t>1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, а</a:t>
            </a:r>
            <a:r>
              <a:rPr b="0" lang="ru-RU" sz="1600" spc="-1" strike="noStrike">
                <a:solidFill>
                  <a:srgbClr val="ad1f1f"/>
                </a:solidFill>
                <a:latin typeface="Franklin Gothic Book"/>
              </a:rPr>
              <a:t>2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, ...,а</a:t>
            </a:r>
            <a:r>
              <a:rPr b="0" lang="en-US" sz="1600" spc="-1" strike="noStrike">
                <a:solidFill>
                  <a:srgbClr val="ad1f1f"/>
                </a:solidFill>
                <a:latin typeface="Franklin Gothic Book"/>
              </a:rPr>
              <a:t>n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 – ряд чисел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C 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– среднее арифметическое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N 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– количество  чисел в ряду</a:t>
            </a:r>
            <a:r>
              <a:rPr b="0" lang="ru-RU" sz="2800" spc="-1" strike="noStrike">
                <a:solidFill>
                  <a:srgbClr val="fbeec9"/>
                </a:solidFill>
                <a:latin typeface="Franklin Gothic Book"/>
              </a:rPr>
              <a:t>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REM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реднее арифметическо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PUT 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IM A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(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OR I=1 TO 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PUT A(I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EXT I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=0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OR I=1 TO 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=S+A(I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EXT I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=S/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RINT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«Среднее арифметическое»; 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N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Verdana"/>
              </a:rPr>
              <a:t>Программы нахождения статистических характеристик</a:t>
            </a:r>
            <a:endParaRPr b="0" lang="en-US" sz="1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11970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грамма нахождения среднего арифметического на языке Бейс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900000" y="333360"/>
            <a:ext cx="71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d1f1f"/>
                </a:solidFill>
                <a:uFillTx/>
                <a:latin typeface="Verdana"/>
                <a:hlinkClick r:id="rId2"/>
              </a:rPr>
              <a:t>Программы  нахождения статистических характери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rcRect l="0" t="0" r="0" b="20582"/>
          <a:stretch/>
        </p:blipFill>
        <p:spPr>
          <a:xfrm>
            <a:off x="539640" y="1197000"/>
            <a:ext cx="8136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Результаты выполнения программы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rcRect l="0" t="69296" r="0" b="0"/>
          <a:stretch/>
        </p:blipFill>
        <p:spPr>
          <a:xfrm>
            <a:off x="179280" y="1268280"/>
            <a:ext cx="874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86756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1b56"/>
                </a:solidFill>
                <a:uFillTx/>
                <a:latin typeface="Arial Black"/>
              </a:rPr>
              <a:t>Цели работы</a:t>
            </a:r>
            <a:r>
              <a:rPr b="0" lang="en-US" sz="1800" spc="-1" strike="noStrike">
                <a:solidFill>
                  <a:srgbClr val="161b56"/>
                </a:solidFill>
                <a:latin typeface="Arial Black"/>
              </a:rPr>
              <a:t>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Составить электронный учебник по теме  «Статистические характеристики», подготовить тест для проверки знаний по теме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Разработать собственные компьютерные программы нахождения статистических характеристик, на языке программирования Бейсик и Паскаль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Рассмотреть практическое применение темы «Статистические исследования». Собрать статистическую информацию о семьях школы, обработать данные на компьютере и проанализировать полученные результаты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1b56"/>
                </a:solidFill>
                <a:uFillTx/>
                <a:latin typeface="Arial Black"/>
              </a:rPr>
              <a:t>Задачи</a:t>
            </a:r>
            <a:r>
              <a:rPr b="0" lang="en-US" sz="1800" spc="-1" strike="noStrike">
                <a:solidFill>
                  <a:srgbClr val="161b56"/>
                </a:solidFill>
                <a:latin typeface="Arial Black"/>
              </a:rPr>
              <a:t>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Привлечение внимания учащихся к данной теме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Систематизация и анализ найденной информации о статистических характеристиках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Применение знаний, полученных на уроках  математики и информатики, обществознании в ходе выполнения проекта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1b56"/>
                </a:solidFill>
                <a:uFillTx/>
                <a:latin typeface="Arial Black"/>
              </a:rPr>
              <a:t>Актуальность работы и практическое применение проекта</a:t>
            </a:r>
            <a:r>
              <a:rPr b="0" lang="en-US" sz="1800" spc="-1" strike="noStrike">
                <a:solidFill>
                  <a:srgbClr val="161b56"/>
                </a:solidFill>
                <a:latin typeface="Arial Black"/>
              </a:rPr>
              <a:t>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Эта тема интересна учащимся  при изучении курса раздела математики – математической статистики и разделов информатики – электронные таблицы, программирование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Практическое применение: показ мультимедийной презентации на урок</a:t>
            </a:r>
            <a:r>
              <a:rPr b="1" lang="en-US" sz="1600" spc="-1" strike="noStrike">
                <a:solidFill>
                  <a:srgbClr val="161b56"/>
                </a:solidFill>
                <a:latin typeface="Arial"/>
              </a:rPr>
              <a:t>ах</a:t>
            </a:r>
            <a:r>
              <a:rPr b="0" lang="en-US" sz="1600" spc="-1" strike="noStrike">
                <a:solidFill>
                  <a:srgbClr val="161b5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математики, информатики.  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b56"/>
                </a:solidFill>
                <a:latin typeface="Arial Blac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b56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Arial"/>
                <a:hlinkClick r:id="rId2" action="ppaction://hlinksldjump"/>
              </a:rPr>
              <a:t>О науке статистике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Arial"/>
                <a:hlinkClick r:id="rId3" action="ppaction://hlinksldjump"/>
              </a:rPr>
              <a:t>Из истории статистики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Arial"/>
                <a:hlinkClick r:id="rId4" action="ppaction://hlinksldjump"/>
              </a:rPr>
              <a:t>Статистические характеристики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Arial"/>
                <a:hlinkClick r:id="rId5"/>
              </a:rPr>
              <a:t>Интерактивный тест</a:t>
            </a:r>
            <a:r>
              <a:rPr b="0" lang="en-US" sz="3200" spc="-1" strike="noStrike" u="sng">
                <a:solidFill>
                  <a:srgbClr val="4e3b3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Arial"/>
                <a:hlinkClick r:id="rId6" action="ppaction://hlinksldjump"/>
              </a:rPr>
              <a:t>Программы для вычисления статистических характеристи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Статистик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татистика - наука, которая занимается получением, обработкой и анализом количественных данных о разнообразных массовых явлениях, происходящих в природе и обществе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лово «статистика» происходит от латинского слова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tatus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, которое означает «состояние, положение вещей»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татистика изучает численность отдельных групп населения страны и её регионов, производство и потребление разнообразных видов продукции, природные ресурс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езультаты статистического исследования широко используются для практических и научных вывод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79280" y="620640"/>
            <a:ext cx="8686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ТАТИСТИКА - это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ид практической деятельности, направленной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на собирание, обработку, анализ и публикацию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татистической информации, характеризующей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количественные закономерности жизни общества во всем ее многообразии (экономики, культуры, морали, политики и др.)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 этом смысле под статистикой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нимают и совокупность сводных, итоговых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казателей, относящихся к какой-либо области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общественных явлений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04920" y="11970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d1f1f"/>
                </a:solidFill>
                <a:uFillTx/>
                <a:latin typeface="Times New Roman"/>
                <a:hlinkClick r:id="rId2" action="ppaction://hlinksldjump"/>
              </a:rPr>
              <a:t>Статистика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Times New Roman"/>
              </a:rPr>
              <a:t>разрабатывает специальную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методологию исследования и обработки материалов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массовые статистические наблюдения, метод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группировок, средних величин, метод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графических изображений. Статисти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как наука включает разделы: общая теор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статистики, экономическая статистика, отраслевы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статистики и др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Из истории статистик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7640" y="1341000"/>
            <a:ext cx="8883720" cy="5256360"/>
          </a:xfrm>
          <a:prstGeom prst="rect">
            <a:avLst/>
          </a:prstGeom>
          <a:solidFill>
            <a:srgbClr val="d8e36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атематическая статистика как наука начинается с работ знаменитого немецкого математика Карла Фридриха Гаусса (1777-1855), который на основе теории вероятностей исследовал и обосновал метод наименьших квадратов, созданный им в 1795 г. и примененный для обработки астрономических данных (с целью уточнения орбиты малой планеты Церера)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онце XIX в. – начале ХХ в. крупный вклад в математическую статистику внесли английские исследователи, прежде всего К.Пирсон (1857-1936) и Р.А.Фишер (1890-1962)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30-е годы ХХ в. поляк Ежи Нейман (1894-1977) и англичанин Э.Пирсон развили общую теорию проверки статистических гипотез, а советские математики академик А.Н. Колмогоров (1903-1987) и член-корреспондент АН СССР Н.В.Смирнов (1900-1966) заложили основы непараметрической статистики. В сороковые годы ХХ в. румын А. Вальд (1902-1950) построил теорию последовательного статистического анализа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атематическая статистика  развивается и в настоящее время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1666800" cy="23814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2700360" y="1844640"/>
            <a:ext cx="1905120" cy="2390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4932360" y="1844640"/>
            <a:ext cx="1771560" cy="23907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7020000" y="1844640"/>
            <a:ext cx="1800000" cy="2390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684360" y="429264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арл Фридрих Гау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777-18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230240" y="4462560"/>
            <a:ext cx="117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.Пирс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857-19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71640" y="4365720"/>
            <a:ext cx="1729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дольф Кет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796-18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76720" y="443700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00364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.П.Жура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53560" y="709560"/>
            <a:ext cx="419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Verdana"/>
                <a:hlinkClick r:id="rId6" action="ppaction://hlinksldjump"/>
              </a:rPr>
              <a:t>Из истории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48360" y="479736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810-18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4e3b30"/>
                </a:solidFill>
                <a:latin typeface="Franklin Gothic Medium"/>
              </a:rPr>
              <a:t>Статистические характеристики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86800" cy="4954680"/>
          </a:xfrm>
          <a:prstGeom prst="rect">
            <a:avLst/>
          </a:prstGeom>
          <a:solidFill>
            <a:srgbClr val="dafab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редним арифметическим ряда чисел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называется частное от деления суммы этих чисел на их количество. Среднее арифметическое является важной характеристикой ряда чисел но иногда полёзно рассматривать и другие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средние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С=( а</a:t>
            </a:r>
            <a:r>
              <a:rPr b="0" lang="ru-RU" sz="1600" spc="-1" strike="noStrike">
                <a:solidFill>
                  <a:srgbClr val="ad1f1f"/>
                </a:solidFill>
                <a:latin typeface="Franklin Gothic Book"/>
              </a:rPr>
              <a:t>1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+а</a:t>
            </a:r>
            <a:r>
              <a:rPr b="0" lang="ru-RU" sz="1600" spc="-1" strike="noStrike">
                <a:solidFill>
                  <a:srgbClr val="ad1f1f"/>
                </a:solidFill>
                <a:latin typeface="Franklin Gothic Book"/>
              </a:rPr>
              <a:t>2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+...+а</a:t>
            </a:r>
            <a:r>
              <a:rPr b="0" lang="en-US" sz="1600" spc="-1" strike="noStrike">
                <a:solidFill>
                  <a:srgbClr val="ad1f1f"/>
                </a:solidFill>
                <a:latin typeface="Franklin Gothic Book"/>
              </a:rPr>
              <a:t>N</a:t>
            </a: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):N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C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– среднее арифметическое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а</a:t>
            </a:r>
            <a:r>
              <a:rPr b="0" lang="ru-RU" sz="1600" spc="-1" strike="noStrike">
                <a:solidFill>
                  <a:srgbClr val="ad1f1f"/>
                </a:solidFill>
                <a:latin typeface="Franklin Gothic Book"/>
              </a:rPr>
              <a:t>1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, а</a:t>
            </a:r>
            <a:r>
              <a:rPr b="0" lang="ru-RU" sz="1600" spc="-1" strike="noStrike">
                <a:solidFill>
                  <a:srgbClr val="ad1f1f"/>
                </a:solidFill>
                <a:latin typeface="Franklin Gothic Book"/>
              </a:rPr>
              <a:t>2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, ...,а</a:t>
            </a:r>
            <a:r>
              <a:rPr b="0" lang="en-US" sz="1600" spc="-1" strike="noStrike">
                <a:solidFill>
                  <a:srgbClr val="ad1f1f"/>
                </a:solidFill>
                <a:latin typeface="Franklin Gothic Book"/>
              </a:rPr>
              <a:t>n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 – ряд чисел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d1f1f"/>
                </a:solidFill>
                <a:latin typeface="Franklin Gothic Book"/>
              </a:rPr>
              <a:t>N </a:t>
            </a:r>
            <a:r>
              <a:rPr b="0" lang="ru-RU" sz="2800" spc="-1" strike="noStrike">
                <a:solidFill>
                  <a:srgbClr val="ad1f1f"/>
                </a:solidFill>
                <a:latin typeface="Franklin Gothic Book"/>
              </a:rPr>
              <a:t>– количество  чисел в ряду.</a:t>
            </a:r>
            <a:r>
              <a:rPr b="0" lang="ru-RU" sz="2800" spc="-1" strike="noStrike">
                <a:solidFill>
                  <a:srgbClr val="fbeec9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9:07:47Z</dcterms:created>
  <dc:creator>тест</dc:creator>
  <dc:description/>
  <dc:language>en-US</dc:language>
  <cp:lastModifiedBy>User</cp:lastModifiedBy>
  <dcterms:modified xsi:type="dcterms:W3CDTF">2003-12-31T22:19:46Z</dcterms:modified>
  <cp:revision>185</cp:revision>
  <dc:subject/>
  <dc:title>Задача</dc:title>
</cp:coreProperties>
</file>