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58E-EB0D-44D5-92DA-8F022460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643-C45D-41D3-AD25-E752B0CE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CC4-3C52-42E1-958F-FAAF072E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3C6-8298-4E7C-B2D0-EFECC13B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0E706-C3DA-4AE9-9B02-728A2836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202CF-AE22-430D-86A5-678EDCC3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5AA09-E613-4C38-A834-6F545778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1E728-3AC8-46E6-8DA3-E52B41B3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82759-8A9B-4E3A-A68E-2F77648C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D249A-A2AE-4E57-9DC3-4D6D4EDC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72C46-E674-48B9-BAD3-800B3895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55F-2D89-4B3B-A841-13499C38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99FE8-6930-4D46-89E6-6156CFD2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67E05-1BAE-45A9-BCD0-AB748686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ED039-E00F-42FB-8C62-6BDC0B19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F359F-B606-40A5-A890-B841A811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E248B-0243-48B7-93E6-A9845409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401-6610-4E04-8E08-53CCEB56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549-C082-4A4C-93A7-621AA88B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989-0C8A-4FEA-B956-69375151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11D-6D25-433F-AE9D-8ED3458B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CAF-8904-4D96-B263-D8345372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5BF-024F-4620-BE4A-46FE7750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5FC-FBC2-486D-ADC4-1CBFF8F0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A589-F6CD-41EE-9610-0FDDB3568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F86B-4628-4A0C-8C73-4735732F7E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Поздравляем с Днём семьи, любви и верности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iклавиш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22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9308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любов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ПРОВОДЫ  В АРИМ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DSC04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8 июля – день памяти святых благоверных князей Петра и Февро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8 июля- день памяти святых благоверных князей Петра и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Февро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Да хранят пусть ваши семьи Вера, Надежда и Любов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6357960" cy="492912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ребё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ребён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4:02:37Z</dcterms:created>
  <dc:creator>наташа</dc:creator>
  <dc:description/>
  <dc:language>en-US</dc:language>
  <cp:lastModifiedBy>Егор брысь отсюда</cp:lastModifiedBy>
  <dcterms:modified xsi:type="dcterms:W3CDTF">2011-07-06T11:11:54Z</dcterms:modified>
  <cp:revision>7</cp:revision>
  <dc:subject/>
  <dc:title>С праздником Петра и Февронии!</dc:title>
</cp:coreProperties>
</file>