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19.jpeg" ContentType="image/jpeg"/>
  <Override PartName="/ppt/media/image5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3CF5-D858-4BA1-AC1B-13C63BEC1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82D1-93BA-48CC-8F9A-7FCF6706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DA07-F42A-4F80-82F8-E3C1C29F0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976C-3E32-4D88-A2F7-0A4D63B17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E411F-1064-4DE6-905C-F83BC62C0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D20EC5-6860-4DB0-9FBF-0FD60FE0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1BA79-C19D-4059-932B-B110F48D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4DE76C-A390-4788-B3E9-CD450D82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505A6-7C8D-4DEF-AE92-8EA7DD9C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51F44-6D7E-4F33-8D55-1F8461B7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158AF-6CDE-4E2C-BA4F-953490EC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84D0-970C-4289-95CD-13978B33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4041C-C98B-442A-A8F1-05627860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3D66ED-3729-4E65-BA5A-EEB4E557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CD1C43-9CCF-44C3-BDE6-67E5176E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1A0D3-CD1A-4CB6-97EA-A242409B2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4297A-E810-42D1-82D5-743218B32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CC29-E677-4D49-911A-BEAFFE69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AA95-BF15-4E8C-B464-7383237C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5846-B608-41FB-B16F-43F3BC2F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296E-5B40-48DE-8276-47F15173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1EFC-A1F6-4A2C-9A2D-E8C4AEDB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2FF5-765E-4413-AF94-52FA6872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3B85-048F-4A77-978F-FF5E033C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DD08-9297-4C0B-AC96-F3D1AE39E9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DB8E-9AA3-4E32-A5EA-9381461665E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006600"/>
                </a:solidFill>
                <a:latin typeface="Tahoma"/>
              </a:rPr>
              <a:t>Поздравляем с Днём семьи, любви и верности 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p:transition advTm="7000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iклавиш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22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993080"/>
          </a:xfrm>
          <a:prstGeom prst="rect">
            <a:avLst/>
          </a:prstGeom>
          <a:ln w="0">
            <a:noFill/>
          </a:ln>
        </p:spPr>
      </p:pic>
    </p:spTree>
  </p:cSld>
  <p:transition advTm="7000"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4" descr="Безымянны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любов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291600"/>
            <a:ext cx="8229600" cy="572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7" descr="ПРОВОДЫ  В АРИМИ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291600"/>
            <a:ext cx="8229600" cy="572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DSC045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push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291600"/>
            <a:ext cx="8229600" cy="572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868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ahoma"/>
              </a:rPr>
              <a:t>8 июля – день памяти святых благоверных князей Петра и Феврони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p:transition advTm="7000">
    <p:push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8 июля- день памяти святых благоверных князей Петра и </a:t>
            </a: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Феврони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p:transition advTm="7000"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Да хранят пусть ваши семьи Вера, Надежда и Любовь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500120" y="1928880"/>
            <a:ext cx="6357960" cy="4929120"/>
          </a:xfrm>
          <a:prstGeom prst="rect">
            <a:avLst/>
          </a:prstGeom>
          <a:ln w="0">
            <a:noFill/>
          </a:ln>
        </p:spPr>
      </p:pic>
    </p:spTree>
  </p:cSld>
  <p:transition advTm="7000">
    <p:push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ребё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4" descr="ребёно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291600"/>
            <a:ext cx="8229600" cy="572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5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14:02:37Z</dcterms:created>
  <dc:creator>наташа</dc:creator>
  <dc:description/>
  <dc:language>en-US</dc:language>
  <cp:lastModifiedBy>Егор брысь отсюда</cp:lastModifiedBy>
  <dcterms:modified xsi:type="dcterms:W3CDTF">2011-07-06T11:11:54Z</dcterms:modified>
  <cp:revision>7</cp:revision>
  <dc:subject/>
  <dc:title>С праздником Петра и Февронии!</dc:title>
</cp:coreProperties>
</file>