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79B-1C8C-47CD-90C1-5725A111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52C2-9DED-4BD6-90CB-08CAB9C0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167-8890-4F48-B8D1-CFAE8AED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ED7-C92B-4F73-9255-9E3A85D5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4BAF-ED97-4144-9335-4CEB3FA4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9D9-E8D4-401E-87A6-2150A39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312B-6691-4A2C-A91B-FA4A7BC9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AC01-871B-46D2-A6B1-B13734E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B158-F0BA-4CC9-8AE8-2823400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1CCD-C3F7-42D6-A2A4-452CB3D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0C08-C18C-42EC-8227-74ECE622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0AA-2C79-44F4-8349-B8B9DB02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109-B522-4FF9-9980-E4EE357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009-4B7E-46AF-88CD-1FAD9A24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20C0-17D8-4B80-9D75-EC50B63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AD2-0DA4-46C7-B13D-11B8E8FB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EDA-F164-407C-BC3D-84FA2102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9157D-2DCC-437C-99C8-9F3C5D2F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283D-3216-419A-B6AE-87D7BDE9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E4664-153E-48F8-A866-3B752165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21E6-EE55-4DBB-8AAA-52C7AA12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016A6-A554-4847-87B9-276D096B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861-F7D2-4D72-9EF1-A3368EDA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81DD-E595-4759-860D-FEF80DF8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FD95-B604-4BE5-BE9F-E0CA9159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ED161-A9BE-42A4-BB4B-D02C856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03D9-3A43-4A3D-AD2D-4E0CCEB8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973C-5A9D-4D96-93EF-6671EF8E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E007-1A89-4DF0-9F0E-CADF2A89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D0A5-C4BF-442F-9094-93D892CE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A0762-5884-4069-82AA-DACD18F9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82302-7F3A-4B86-BB9E-9ED8543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43876-B410-453F-B96A-DDB461D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7A2-BE2C-4A86-AF63-ECA471BA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7DC0-2E95-423D-AE15-B346A5BD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BB193-B92B-4F0B-B8FE-7849915B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CF1E-AC18-4DC3-A244-5C433243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90A9-C354-4FCC-8D5B-2B240A76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E23C-F58D-4DE6-928A-2423051B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786E8-0EF3-41B7-867F-D9AFF78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CCB4-A89C-4041-AE78-93F7C010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367CB-9300-44E3-8126-88352C22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9D13-1FFA-4139-9CD2-0B02E939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9D3-C98C-48DD-8CED-8E2BFE09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A0D-B693-41CD-9F40-AA8B844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DFF-6FB5-477A-9763-CFA0F920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C82-AE6B-4C06-886E-79828EB8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57E-8E2B-45B2-9B1A-349FD75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86C0-A7B7-47B5-9C5F-68785BD9368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B9B4-B1A1-45E7-BCD2-0247CEF83E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875-41C4-4FBB-99FA-C08FC866C8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9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9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C5DE-5DF3-4DCA-98CC-47388D3BFA8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5.xml"/><Relationship Id="rId3" Type="http://schemas.openxmlformats.org/officeDocument/2006/relationships/slide" Target="slide47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741708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реднее арифметическое, размах и мод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692000" y="4220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Начать тестирова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записанное посередине числового ряда называется медиан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9960" y="76356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74440" y="479700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ность между наибольшим и наименьшим числами ряда называется размах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69760" y="76428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9552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3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размахом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4797360"/>
            <a:ext cx="838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2637000"/>
            <a:ext cx="7489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число, наиболее часто встречающееся _x000b_в данном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 разность между наибольшим и наименьшим 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частное от деления суммы этих чисел _x000b_на число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наиболее часто встречающееся в данном ряду, называется мод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98480" y="83592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24240" y="4581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астное от деления суммы чисе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 число слагаемых называется средним арифметически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495520" y="486864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42840" y="83592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1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средним арифметическим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4797360"/>
            <a:ext cx="7559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2708280"/>
            <a:ext cx="8425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частное от деления суммы этих чисел _x000b_на число слагае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 разность между наибольшим и наименьшим _x000b_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число, наиболее часто встречающееся _x000b_в данном ря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4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кажите верное утвержд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2781360"/>
            <a:ext cx="84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Любой ряд чисел имеет моду.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Б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 Среднее арифметическое ряда чисел может _x000b_не совпадать ни с одним из эти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В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 Ряд чисел не может иметь более одной м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яд чисел может не иметь мод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пример, в ряду чисел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12, 4, 67, 23, 59, 45,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ды нет, так как каждое число встречается только один раз, и в ряду нет наиболее часто встречающегося чис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588000" y="5013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0880" y="835920"/>
            <a:ext cx="78447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бранное тобой утверждение 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5296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696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яд чисел может иметь более одной м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пример, ряд чисел 12, 3, 4, 7, 12, 3, 9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меет две моды – это числа 12 и 3, так как каждое из этих чисел встречается два раза, а остальные числа встречаются в ряду менее двух раз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8160" y="764280"/>
            <a:ext cx="784476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ыбранное тобой утверждение нев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95520" y="4581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96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5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247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наука, которая занимается получением, обработкой и анализом количественных данных о явлениях, происходящих в природе и обществ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3789360"/>
            <a:ext cx="842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соц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стат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03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циология – это наука о закономерностях развития и функционирования обществ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522936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4240" y="479736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4120" y="69156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1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кономика – наука о закономерностях территориального размещения общественного производства, о структуре хозяйства различных стран и район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40240" y="465264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14120" y="764280"/>
            <a:ext cx="60739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19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6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среднее арифметическое ряда чисел: 15; -5; 16; 0; -16; 5; 2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3500280"/>
            <a:ext cx="8424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5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В)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6" name=""/>
          <p:cNvSpPr/>
          <p:nvPr/>
        </p:nvSpPr>
        <p:spPr>
          <a:xfrm>
            <a:off x="6659640" y="479736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684360" y="2133720"/>
            <a:ext cx="76960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6804000" y="508464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55200" y="4156200"/>
            <a:ext cx="3884040" cy="22269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 подумай ещё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Будь внимателен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 вычисл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475920"/>
            <a:ext cx="712944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забыл определение среднего арифметического ряда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4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7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755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размах ряда чисел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, 11, 21, 24, 14,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068480" y="3500280"/>
            <a:ext cx="807552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1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0560" y="691560"/>
            <a:ext cx="618984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моду числового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95520" y="393372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800"/>
            </a:gs>
            <a:gs pos="100000">
              <a:srgbClr val="ffe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7696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зность между наибольшим и наименьшим из этих чисел называется размах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средним арифметически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11280" y="907920"/>
            <a:ext cx="769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08000" y="4941720"/>
            <a:ext cx="5112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619920"/>
            <a:ext cx="70326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среднее арифме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68600" y="4508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7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8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755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айдите моду ряда чисел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5, 16, 8, 14, 35, 1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900000" y="3573360"/>
            <a:ext cx="8075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Б)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В)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64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2276640"/>
            <a:ext cx="769608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495520" y="4292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07880" y="835920"/>
            <a:ext cx="70326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среднее арифме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72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76960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640240" y="429228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6160" y="835920"/>
            <a:ext cx="574632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нашел размах ряда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9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3200" y="2025720"/>
            <a:ext cx="75517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ряду чисел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    3, 14, 16, __, 34, 2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дно число оказалось стёртым. Найдите его, если мода ряда равна 1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780000" y="4221000"/>
            <a:ext cx="2232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Б)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)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8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71640" y="2204640"/>
            <a:ext cx="769608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732720" y="5084640"/>
            <a:ext cx="151272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ернуться 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8880" y="835920"/>
            <a:ext cx="576000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ы забыл определение м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40240" y="4221000"/>
            <a:ext cx="3655440" cy="1373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5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Да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871640" cy="18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016000" cy="1957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050920" y="1773360"/>
            <a:ext cx="49690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899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КОНЕЦ ТЕСТА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99" name=""/>
          <p:cNvSpPr/>
          <p:nvPr/>
        </p:nvSpPr>
        <p:spPr>
          <a:xfrm>
            <a:off x="7093080" y="6165720"/>
            <a:ext cx="1655640" cy="43200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200"/>
                </a:solidFill>
                <a:latin typeface="Comic Sans MS"/>
              </a:rPr>
              <a:t>Да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10920" y="1412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 свою оцен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899640" y="220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Число, наиболее часто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стречающееся в данном ряду называется мод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 средним арифметическим ряда чисел называется другая величи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6804000" y="5229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ернуться _x000b_к вопро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8360" y="907920"/>
            <a:ext cx="7696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обой перепутаны два по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79640" y="4869000"/>
            <a:ext cx="460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Вернись к вопросу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 и </a:t>
            </a:r>
            <a:br>
              <a:rPr sz="2800"/>
            </a:b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подумай ещё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834920" y="407664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909ff"/>
                </a:solidFill>
                <a:latin typeface="Comic Sans MS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771640" y="1197000"/>
            <a:ext cx="3672000" cy="33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776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равильн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6443640" y="5013360"/>
            <a:ext cx="1655640" cy="93672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След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1728720" cy="16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Вопрос 2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42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то называется модой ряда чисел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468360" y="3573360"/>
            <a:ext cx="77040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708280"/>
            <a:ext cx="842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)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число, записанное по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 разность между наибольшим и наимен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В)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 число, наиболее часто встречающееся в данном ряду из эти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66"/>
            </a:gs>
            <a:gs pos="100000">
              <a:srgbClr val="ffb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331640" y="4149720"/>
            <a:ext cx="56862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Жал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бе следует повторит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орию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556000" y="1341360"/>
            <a:ext cx="4032000" cy="367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632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Ответ невер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/>
          <p:nvPr/>
        </p:nvSpPr>
        <p:spPr>
          <a:xfrm>
            <a:off x="6588000" y="4797360"/>
            <a:ext cx="1513080" cy="863640"/>
          </a:xfrm>
          <a:prstGeom prst="bevel">
            <a:avLst>
              <a:gd name="adj" fmla="val 1250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Повторить</a:t>
            </a:r>
            <a:br>
              <a:rPr sz="1600"/>
            </a:br>
            <a:r>
              <a:rPr b="1" lang="en-US" sz="1600" spc="-1" strike="noStrike" u="sng">
                <a:solidFill>
                  <a:srgbClr val="00b200"/>
                </a:solidFill>
                <a:uFillTx/>
                <a:latin typeface="Comic Sans MS"/>
              </a:rPr>
              <a:t>те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8:55:14Z</dcterms:created>
  <dc:creator>уварова</dc:creator>
  <dc:description/>
  <dc:language>en-US</dc:language>
  <cp:lastModifiedBy>User</cp:lastModifiedBy>
  <dcterms:modified xsi:type="dcterms:W3CDTF">2004-01-01T01:17:49Z</dcterms:modified>
  <cp:revision>67</cp:revision>
  <dc:subject/>
  <dc:title>Основы логики</dc:title>
</cp:coreProperties>
</file>