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7D4-442B-4AF0-B538-39D39545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B4D6-34AD-4193-88CB-B46F30A3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0A2-595F-43DE-9AE1-61E89FE0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57C-2AA9-4DE0-8130-72C4669D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457F-0719-4E14-A349-9C4A9B61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0731-3452-46CE-A663-0EC6FA1B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2DDB-F121-4717-8A83-E9EF4DB7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BE6B-A15C-4440-8F69-0FEE2078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2255-7BB8-4E65-B531-0147215F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29FA-E1A3-4EAA-88BC-5AA66B9D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0978-95D4-4A92-AAB4-1F76B774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2DE-04F9-4DDB-88EB-A3840CEB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E63E-8F21-4897-A706-9E2A6C52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696B-D6B7-455A-B645-5C158F88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4B83-F845-4912-B408-142CFB26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B619-6F17-4F17-83D8-E8F167B4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F943-2A55-42F8-84E0-351C3E4A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A6B12-4E67-462F-8961-7D8B1427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D33C2-7AE6-4EF5-BB1D-ACF003B6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81FA2-214A-4C25-9052-A7BC2DAF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08B50-3439-4D97-A490-7849EAC0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0E457-F923-4D81-9761-C618D571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02E-F9CA-4CFA-9E7B-5A42183B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51C24-7D5D-400A-B60D-988FB30B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F60CB-143D-4DDC-AB57-053BB8B2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70032-BDD3-4EEB-9B3F-68EAA4F6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01395-DD36-454A-AEF4-FD688E41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83389-3B35-41A4-8164-E5383C42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D3108-A56B-41B5-A24C-1687599C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9DC0F-66B2-41FE-9A4C-B8A983DB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0E73E-9EF3-4F63-96E7-0323D003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D7643-2FFF-46FA-A931-B519ED3A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65D40-1EC9-4902-86EC-32524EAC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F69-CACF-4917-AD14-54DA555F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E058E-1181-4056-A17C-06498F53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AF648-8A9C-4B79-9A49-909AEE83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27572-4B57-47F6-82C8-1BFD87C1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C430F-3E70-41CF-816B-D7766587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D9593-C05E-4CAD-97BE-860BD5C9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1089A-168B-40EA-B737-FDEFAFB1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14D1F-D4CC-4947-8BFC-593D5D36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64F1D-477E-4453-9222-9DE5B5AD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89E73-8758-4171-AD6F-3A68E870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752-BD57-4C19-B0A3-E43BBAF7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FBD-F3B3-456F-8CDF-BE3EE9B7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6965-7619-490C-9393-56F44DED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4281-CB70-43DF-B2B8-1FB26853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AF0-03A7-47DA-8F33-C1CE51ED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EFDC-2576-4AEE-A460-F22B40CF527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AFE6-F1EF-4D40-A8AB-D3BC3800D09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4183-99B5-4500-A96B-5BE78A65571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097D-9CB8-4BF1-82C1-D88E64A9FCD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5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9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3.xml"/><Relationship Id="rId7" Type="http://schemas.openxmlformats.org/officeDocument/2006/relationships/slide" Target="slide23.xm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31.xml"/><Relationship Id="rId6" Type="http://schemas.openxmlformats.org/officeDocument/2006/relationships/slide" Target="slide31.xml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5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1.xm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slide" Target="slide39.xml"/><Relationship Id="rId6" Type="http://schemas.openxmlformats.org/officeDocument/2006/relationships/slide" Target="slide39.xml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5.xml"/><Relationship Id="rId3" Type="http://schemas.openxmlformats.org/officeDocument/2006/relationships/slide" Target="slide47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99640" y="1557360"/>
            <a:ext cx="7417080" cy="2209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реднее арифметическое, размах и мод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692000" y="4220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Начать тестиров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Число, записанное посередине числового ряда называется медиан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8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8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 модой ряда чисел называется другая величи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8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ернуться _x000b_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19960" y="763560"/>
            <a:ext cx="607392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обой перепутаны два 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674440" y="479700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41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68436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азность между наибольшим и наименьшим числами ряда называется размах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 модой ряда чисел называется другая величи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ернуться _x000b_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69760" y="764280"/>
            <a:ext cx="607392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обой перепутаны два 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95520" y="479736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1834920" y="407664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909ff"/>
                </a:solidFill>
                <a:latin typeface="Comic Sans MS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771640" y="1197000"/>
            <a:ext cx="3672000" cy="33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776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авильн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49" name=""/>
          <p:cNvSpPr/>
          <p:nvPr/>
        </p:nvSpPr>
        <p:spPr>
          <a:xfrm>
            <a:off x="6443640" y="5013360"/>
            <a:ext cx="1655640" cy="9367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Следу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187164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Вопрос 3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2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Что называется размахом ряда чисел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179280" y="4797360"/>
            <a:ext cx="8388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39640" y="2637000"/>
            <a:ext cx="74898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)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число, наиболее часто встречающееся _x000b_в данном ря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Б) разность между наибольшим и наименьшим из эти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В) частное от деления суммы этих чисел _x000b_на число слагае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57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Число, наиболее часто встречающееся в данном ряду, называется мод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 размахом ряда чисел называется другая величи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98480" y="835920"/>
            <a:ext cx="607392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обой перепутаны два 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24240" y="458136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65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Частное от деления суммы чисел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 число слагаемых называется средним арифметически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 размахом ряда чисел называется другая величи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495520" y="486864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42840" y="835920"/>
            <a:ext cx="607392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обой перепутаны два 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834920" y="407664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909ff"/>
                </a:solidFill>
                <a:latin typeface="Comic Sans MS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771640" y="1197000"/>
            <a:ext cx="3672000" cy="33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776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авильн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73" name=""/>
          <p:cNvSpPr/>
          <p:nvPr/>
        </p:nvSpPr>
        <p:spPr>
          <a:xfrm>
            <a:off x="6443640" y="5013360"/>
            <a:ext cx="1655640" cy="9367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Следу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187164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Вопрос 1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Что называется средним арифметическим ряда чисел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755640" y="4797360"/>
            <a:ext cx="7559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9280" y="2708280"/>
            <a:ext cx="8425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)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частное от деления суммы этих чисел _x000b_на число слагае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Б) разность между наибольшим и наименьшим _x000b_из эти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В) число, наиболее часто встречающееся _x000b_в данном ря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Вопрос 4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2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Укажите верное утвержд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250920" y="2781360"/>
            <a:ext cx="8424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)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Любой ряд чисел имеет моду.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Б)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 Среднее арифметическое ряда чисел может _x000b_не совпадать ни с одним из эти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В)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7" action="ppaction://hlinksldjump"/>
              </a:rPr>
              <a:t> Ряд чисел не может иметь более одной м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яд чисел может не иметь мод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пример, в ряду чисел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12, 4, 67, 23, 59, 45, 7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оды нет, так как каждое число встречается только один раз, и в ряду нет наиболее часто встречающегося чис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6588000" y="5013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0880" y="835920"/>
            <a:ext cx="784476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ыбранное тобой утверждение невер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52960" y="479736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696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яд чисел может иметь более одной м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пример, ряд чисел 12, 3, 4, 7, 12, 3, 98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меет две моды – это числа 12 и 3, так как каждое из этих чисел встречается два раза, а остальные числа встречаются в ряду менее двух раз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8160" y="764280"/>
            <a:ext cx="784476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ыбранное тобой утверждение невер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95520" y="458136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834920" y="407664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909ff"/>
                </a:solidFill>
                <a:latin typeface="Comic Sans MS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771640" y="1197000"/>
            <a:ext cx="3672000" cy="33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776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авильн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96" name=""/>
          <p:cNvSpPr/>
          <p:nvPr/>
        </p:nvSpPr>
        <p:spPr>
          <a:xfrm>
            <a:off x="6443640" y="5013360"/>
            <a:ext cx="1655640" cy="9367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Следу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187164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Вопрос 5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2472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ак называется наука, которая занимается получением, обработкой и анализом количественных данных о явлениях, происходящих в природе и обществ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395280" y="3789360"/>
            <a:ext cx="8424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)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соци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Б)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В)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стат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03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циология – это наука о закономерностях развития и функционирования обществ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6372360" y="5229360"/>
            <a:ext cx="151272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4240" y="479736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014120" y="691560"/>
            <a:ext cx="607392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обой перепутаны два 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11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кономика – наука о закономерностях территориального размещения общественного производства, о структуре хозяйства различных стран и районо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40240" y="465264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14120" y="764280"/>
            <a:ext cx="607392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обой перепутаны два 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1834920" y="407664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909ff"/>
                </a:solidFill>
                <a:latin typeface="Comic Sans MS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771640" y="1197000"/>
            <a:ext cx="3672000" cy="33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776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авильн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19" name=""/>
          <p:cNvSpPr/>
          <p:nvPr/>
        </p:nvSpPr>
        <p:spPr>
          <a:xfrm>
            <a:off x="6443640" y="5013360"/>
            <a:ext cx="1655640" cy="9367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Следу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187164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Вопрос 6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42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йдите среднее арифметическое ряда чисел: 15; -5; 16; 0; -16; 5; 2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468360" y="3500280"/>
            <a:ext cx="8424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) 5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Б)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В)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26" name=""/>
          <p:cNvSpPr/>
          <p:nvPr/>
        </p:nvSpPr>
        <p:spPr>
          <a:xfrm>
            <a:off x="6659640" y="4797360"/>
            <a:ext cx="151272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684360" y="2133720"/>
            <a:ext cx="76960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редним арифметическим ряда чисел называется частное от деления суммы этих чисел на число слагаемы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6804000" y="508464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55200" y="4156200"/>
            <a:ext cx="3884040" cy="22269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и подумай ещё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Будь внимателен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 вычисл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475920"/>
            <a:ext cx="7129440" cy="94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ы забыл определение среднего арифметического ряда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834920" y="407664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909ff"/>
                </a:solidFill>
                <a:latin typeface="Comic Sans MS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771640" y="1197000"/>
            <a:ext cx="3672000" cy="33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776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авильн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4" name=""/>
          <p:cNvSpPr/>
          <p:nvPr/>
        </p:nvSpPr>
        <p:spPr>
          <a:xfrm>
            <a:off x="6443640" y="5013360"/>
            <a:ext cx="1655640" cy="9367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Следу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187164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Вопрос 7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07552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йдите размах ряда чисел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4, 11, 21, 24, 14, 12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1068480" y="3500280"/>
            <a:ext cx="807552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)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Б)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В)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41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755640" y="1916280"/>
            <a:ext cx="769608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 размахом ряда чисел называется разность между наибольшим и наименьшим из этих чисе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970560" y="691560"/>
            <a:ext cx="618984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ы нашел моду числового 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495520" y="393372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49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800"/>
            </a:gs>
            <a:gs pos="100000">
              <a:srgbClr val="ffe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11280" y="2205000"/>
            <a:ext cx="7696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азность между наибольшим и наименьшим из этих чисел называется размахо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 средним арифметическим ряда чисел называется другая величи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ернуться _x000b_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907920"/>
            <a:ext cx="7696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обой перепутаны два 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08000" y="4941720"/>
            <a:ext cx="5112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84360" y="2491920"/>
            <a:ext cx="76960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 размахом ряда чисел называется разность между наибольшим и наименьшим из этих чисе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55640" y="619920"/>
            <a:ext cx="703260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ы нашел среднее арифметиче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68600" y="450828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1834920" y="407664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909ff"/>
                </a:solidFill>
                <a:latin typeface="Comic Sans MS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771640" y="1197000"/>
            <a:ext cx="3672000" cy="33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776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авильн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57" name=""/>
          <p:cNvSpPr/>
          <p:nvPr/>
        </p:nvSpPr>
        <p:spPr>
          <a:xfrm>
            <a:off x="6443640" y="5013360"/>
            <a:ext cx="1655640" cy="9367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Следу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187164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Вопрос 8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07552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йдите моду ряда чисел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5, 16, 8, 14, 35, 12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900000" y="3573360"/>
            <a:ext cx="8075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)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Б)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В)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64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2276640"/>
            <a:ext cx="769608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 модой ряда чисел называется число, наиболее часто встречающееся в данном ряд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495520" y="429228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07880" y="835920"/>
            <a:ext cx="703260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ы нашел среднее арифметиче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72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755640" y="2349000"/>
            <a:ext cx="76960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 модой ряда чисел называется число, наиболее часто встречающееся в данном ряд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640240" y="429228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046160" y="835920"/>
            <a:ext cx="574632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ы нашел размах ряда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1834920" y="407664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909ff"/>
                </a:solidFill>
                <a:latin typeface="Comic Sans MS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2771640" y="1197000"/>
            <a:ext cx="3672000" cy="33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776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авильн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80" name=""/>
          <p:cNvSpPr/>
          <p:nvPr/>
        </p:nvSpPr>
        <p:spPr>
          <a:xfrm>
            <a:off x="6443640" y="5013360"/>
            <a:ext cx="1655640" cy="9367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Следу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187164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Вопрос 9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63200" y="2025720"/>
            <a:ext cx="75517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ряду чисел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3, 14, 16, __, 34, 21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дно число оказалось стёртым. Найдите его, если мода ряда равна 14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780000" y="4221000"/>
            <a:ext cx="2232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)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Б)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)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87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17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971640" y="2204640"/>
            <a:ext cx="769608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одой ряда чисел называется число, наиболее часто встречающееся в данном ряд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6732720" y="5084640"/>
            <a:ext cx="151272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8880" y="835920"/>
            <a:ext cx="576000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ы забыл определение м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640240" y="422100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834920" y="407664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909ff"/>
                </a:solidFill>
                <a:latin typeface="Comic Sans MS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771640" y="1197000"/>
            <a:ext cx="3672000" cy="33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776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авильн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95" name=""/>
          <p:cNvSpPr/>
          <p:nvPr/>
        </p:nvSpPr>
        <p:spPr>
          <a:xfrm>
            <a:off x="6443640" y="5013360"/>
            <a:ext cx="1655640" cy="9367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Дал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187164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2016000" cy="19573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2050920" y="1773360"/>
            <a:ext cx="496908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899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КОНЕЦ ТЕСТА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99" name=""/>
          <p:cNvSpPr/>
          <p:nvPr/>
        </p:nvSpPr>
        <p:spPr>
          <a:xfrm>
            <a:off x="7093080" y="6165720"/>
            <a:ext cx="1655640" cy="43200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200"/>
                </a:solidFill>
                <a:latin typeface="Comic Sans MS"/>
              </a:rPr>
              <a:t>Дал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числи свою оценку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899640" y="2205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Число, наиболее часто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стречающееся в данном ряду называется мод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 средним арифметическим ряда чисел называется другая величи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ернуться _x000b_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8360" y="907920"/>
            <a:ext cx="7696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обой перепутаны два 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79640" y="4869000"/>
            <a:ext cx="4608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834920" y="407664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909ff"/>
                </a:solidFill>
                <a:latin typeface="Comic Sans MS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771640" y="1197000"/>
            <a:ext cx="3672000" cy="33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776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авильн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25" name=""/>
          <p:cNvSpPr/>
          <p:nvPr/>
        </p:nvSpPr>
        <p:spPr>
          <a:xfrm>
            <a:off x="6443640" y="5013360"/>
            <a:ext cx="1655640" cy="9367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Следу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1728720" cy="16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Вопрос 2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42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Что называется модой ряда чисел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468360" y="3573360"/>
            <a:ext cx="7704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4000" y="2708280"/>
            <a:ext cx="842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)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число, записанное посере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Б)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 разность между наибольшим и наименьш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В)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 число, наиболее часто встречающееся в данном ряду из эти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33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08:55:14Z</dcterms:created>
  <dc:creator>уварова</dc:creator>
  <dc:description/>
  <dc:language>en-US</dc:language>
  <cp:lastModifiedBy>User</cp:lastModifiedBy>
  <dcterms:modified xsi:type="dcterms:W3CDTF">2004-01-01T01:17:49Z</dcterms:modified>
  <cp:revision>67</cp:revision>
  <dc:subject/>
  <dc:title>Основы логики</dc:title>
</cp:coreProperties>
</file>