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9.jpeg" ContentType="image/jpeg"/>
  <Override PartName="/ppt/media/image1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7.gif" ContentType="image/gif"/>
  <Override PartName="/ppt/media/image5.jpeg" ContentType="image/jpeg"/>
  <Override PartName="/ppt/media/image2.jpeg" ContentType="image/jpeg"/>
  <Override PartName="/ppt/media/image6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6552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12CCA-C092-4F12-9511-8D03E57DD1F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1AE-A0A9-4618-ABCA-86535BCC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42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4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320" y="3983400"/>
            <a:ext cx="8534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3E6D-B836-4C0A-8D7A-F8916086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42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48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676520"/>
            <a:ext cx="41648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320" y="3983400"/>
            <a:ext cx="41648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83400"/>
            <a:ext cx="41648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4013-D467-412E-B173-111DD125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42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274788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080" y="1676520"/>
            <a:ext cx="274788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2480" y="1676520"/>
            <a:ext cx="274788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320" y="3983400"/>
            <a:ext cx="274788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080" y="3983400"/>
            <a:ext cx="274788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2480" y="3983400"/>
            <a:ext cx="274788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D556-9E1B-4C71-9A36-372F0C04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42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320" y="167652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3D1-AC8C-4827-A484-B9FE1AD8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42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172-38E2-43FA-8E15-058EAD71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42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48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676520"/>
            <a:ext cx="41648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A6B-7CC3-418E-80F9-01182E14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42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AFD-2367-4F1A-AAC3-E098795F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320" y="174600"/>
            <a:ext cx="850428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240-A50C-4F08-9D03-AC822D99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42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48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676520"/>
            <a:ext cx="41648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320" y="3983400"/>
            <a:ext cx="41648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A3E1-D85F-41A9-89EF-70CDA679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42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48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676520"/>
            <a:ext cx="41648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83400"/>
            <a:ext cx="41648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EBE4-53EA-4CE0-8F46-37EAA56D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42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48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676520"/>
            <a:ext cx="41648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320" y="3983400"/>
            <a:ext cx="8534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0F6-4932-433B-B525-34541389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320" y="174600"/>
            <a:ext cx="85042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320" y="167652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6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6560" indent="-279360">
              <a:lnSpc>
                <a:spcPct val="76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76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76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76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5280"/>
            <a:ext cx="2279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893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279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B76F4-1FB8-4413-9CBD-F4D2FB372F4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-875160"/>
            <a:ext cx="8510400" cy="8504280"/>
          </a:xfrm>
          <a:prstGeom prst="rect">
            <a:avLst/>
          </a:prstGeom>
          <a:solidFill>
            <a:srgbClr val="b7e7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Ежегодно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оманда юношей принимает участие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 межрегиональных соревнованиях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реди кадетских корпусов, православных гимназий, детских интернатов,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участвуют в Суворовских сборах,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Ушаковских сборах,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военно- спортивной игре «Зарница» 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 занимают призовые места </a:t>
            </a:r>
            <a:br>
              <a:rPr sz="3200"/>
            </a:br>
            <a:br>
              <a:rPr sz="32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4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 Е З У Л Ь Т А Т Ы и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Н А Г Р А Д Ы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2832120" cy="4219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084720" y="2349360"/>
            <a:ext cx="2901960" cy="4176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276720" y="2781360"/>
            <a:ext cx="2568600" cy="3529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04480"/>
            <a:ext cx="8510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ee941c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ЛУЧШИЕ СПОРТСМЕНЫ</a:t>
            </a:r>
            <a:br>
              <a:rPr sz="4000"/>
            </a:br>
            <a:r>
              <a:rPr b="0" lang="en-US" sz="4000" spc="-1" strike="noStrike">
                <a:solidFill>
                  <a:srgbClr val="ee941c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399344"/>
                </a:solidFill>
                <a:latin typeface="Arial"/>
              </a:rPr>
              <a:t>ЧЕМПИОНЫ ПО ФУТБОЛУ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2376360" cy="2952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5445000"/>
            <a:ext cx="2987640" cy="719280"/>
          </a:xfrm>
          <a:prstGeom prst="rect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илиппов Вячесл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572000" y="2205000"/>
            <a:ext cx="2664000" cy="3305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43280" y="5877000"/>
            <a:ext cx="2737080" cy="718920"/>
          </a:xfrm>
          <a:prstGeom prst="rect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1405080" cy="187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16360" y="5877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Анто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к   Ив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ee941c"/>
                </a:solidFill>
                <a:latin typeface="Arial"/>
              </a:rPr>
              <a:t>Чемпионы </a:t>
            </a:r>
            <a:br>
              <a:rPr sz="4000"/>
            </a:br>
            <a:r>
              <a:rPr b="0" lang="en-US" sz="4000" spc="-1" strike="noStrike">
                <a:solidFill>
                  <a:srgbClr val="ee941c"/>
                </a:solidFill>
                <a:latin typeface="Arial"/>
              </a:rPr>
              <a:t>по лёгкой атлетик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716360" y="1916280"/>
            <a:ext cx="3600720" cy="3600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84360" y="1916280"/>
            <a:ext cx="3190680" cy="3600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55640" y="5805360"/>
            <a:ext cx="3311640" cy="792360"/>
          </a:xfrm>
          <a:prstGeom prst="rect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асин Алексан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5805360"/>
            <a:ext cx="3311640" cy="792360"/>
          </a:xfrm>
          <a:prstGeom prst="rect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нов Григо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84360" y="189000"/>
            <a:ext cx="84276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Чемпионы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по силовому многоборью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260280"/>
            <a:ext cx="1214640" cy="60984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3024000" cy="3573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932360" y="5877000"/>
            <a:ext cx="3527280" cy="647640"/>
          </a:xfrm>
          <a:prstGeom prst="rect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угаенко Александ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5445000"/>
            <a:ext cx="2305080" cy="863640"/>
          </a:xfrm>
          <a:prstGeom prst="rect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лдыре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ладисл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79280" y="1844640"/>
            <a:ext cx="2664000" cy="3349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635280" y="0"/>
            <a:ext cx="2313000" cy="3311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44480" y="-1855800"/>
            <a:ext cx="460440" cy="635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11280" y="1844640"/>
            <a:ext cx="2160360" cy="3097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635280" y="3357720"/>
            <a:ext cx="2397240" cy="3313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6516720" y="2133720"/>
            <a:ext cx="2109600" cy="297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NT</cp:lastModifiedBy>
  <dcterms:modified xsi:type="dcterms:W3CDTF">2010-10-18T16:14:45Z</dcterms:modified>
  <cp:revision>8</cp:revision>
  <dc:subject/>
  <dc:title>Слайд 1</dc:title>
</cp:coreProperties>
</file>