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jpeg" ContentType="image/jpeg"/>
  <Override PartName="/ppt/media/image6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655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F29AF-DE72-4274-B2AD-CC8E7A9C6D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C1A-83B0-4C45-A8D1-B3506CEA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4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83400"/>
            <a:ext cx="8534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638-069A-4A7C-9EAA-FB2C9B2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8340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8340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753-0207-4916-B8CE-4EF00D6D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080" y="167652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480" y="167652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8340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080" y="398340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480" y="398340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46A-E1DE-4F79-BBEB-F600F55C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32C-DCB3-4C65-A5F6-FB8A029F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3A7-4DF6-47FC-862D-61DD83EB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02B-320D-46BE-8B7F-1EEDB46C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354-833A-45BB-A622-C01C198F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42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E14-20BE-48BF-8177-E03FE9B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8340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3CC-989F-4595-813C-5F733FE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8340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297-BB49-4B29-BCF1-C948CBE7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83400"/>
            <a:ext cx="8534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EEB-94E1-4A54-9433-70CB928D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6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5280"/>
            <a:ext cx="2279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89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7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6DC1D-17CA-43F4-A166-807898E3272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-875160"/>
            <a:ext cx="8510400" cy="850428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жегодно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манда юношей принимает участие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 межрегиональных соревнованиях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реди кадетских корпусов, православных гимназий, детских интернатов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частвуют в Суворовских сборах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шаковских сборах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военно- спортивной игре «Зарница»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 занимают призовые места </a:t>
            </a:r>
            <a:br>
              <a:rPr sz="3200"/>
            </a:b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 Е З У Л Ь Т А Т Ы и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Н А Г Р А Д 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2832120" cy="421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84720" y="2349360"/>
            <a:ext cx="2901960" cy="41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76720" y="2781360"/>
            <a:ext cx="2568600" cy="352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04480"/>
            <a:ext cx="8510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ЛУЧШИЕ СПОРТСМЕНЫ</a:t>
            </a:r>
            <a:br>
              <a:rPr sz="4000"/>
            </a:b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399344"/>
                </a:solidFill>
                <a:latin typeface="Arial"/>
              </a:rPr>
              <a:t>ЧЕМПИОНЫ ПО ФУТБОЛ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237636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445000"/>
            <a:ext cx="2987640" cy="71928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липпов Вячесл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0" y="2205000"/>
            <a:ext cx="2664000" cy="330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43280" y="5877000"/>
            <a:ext cx="2737080" cy="71892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1405080" cy="187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1636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Ант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к   Ив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Чемпионы </a:t>
            </a:r>
            <a:br>
              <a:rPr sz="4000"/>
            </a:b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по лёгкой атлетик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6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19068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5805360"/>
            <a:ext cx="3311640" cy="79236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син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5805360"/>
            <a:ext cx="3311640" cy="79236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ов Григо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84360" y="189000"/>
            <a:ext cx="84276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Чемпионы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о силовому многоборью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6028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024000" cy="3573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932360" y="5877000"/>
            <a:ext cx="3527280" cy="647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гаенко Алексан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5445000"/>
            <a:ext cx="2305080" cy="863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дыре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2664000" cy="334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2313000" cy="331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44480" y="-1855800"/>
            <a:ext cx="460440" cy="635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1844640"/>
            <a:ext cx="2160360" cy="309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635280" y="3357720"/>
            <a:ext cx="2397240" cy="3313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516720" y="2133720"/>
            <a:ext cx="2109600" cy="297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NT</cp:lastModifiedBy>
  <dcterms:modified xsi:type="dcterms:W3CDTF">2010-10-18T16:14:45Z</dcterms:modified>
  <cp:revision>8</cp:revision>
  <dc:subject/>
  <dc:title>Слайд 1</dc:title>
</cp:coreProperties>
</file>