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D8E-64AC-4121-95D4-129ED778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550-98FB-4A22-992F-DEA7028C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400-AAD2-486B-8BAC-79BCF1F8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697-39FE-4E60-8AF5-E000B6BC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9E7-EAF4-414F-A55C-D4C6BC10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98A-8884-4442-AE59-BE311F4F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47E-B13D-489B-B489-4BB540A6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5037-5229-45C7-824D-6A79F7CE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FABE-9E46-4CF4-BFB0-631F7AFC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5A2C-0B96-49CE-930A-AC5149E8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D64-33C7-4ECA-8275-18024D1F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BFF-4126-45EC-953A-A7D59A4B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72F0-FBCC-4FDE-8BF0-2AB49C6C2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765000"/>
            <a:ext cx="741672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ючевые направления </a:t>
            </a: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щего образования                          </a:t>
            </a: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циональной образовательной инициативы    </a:t>
            </a: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            </a:t>
            </a:r>
            <a:r>
              <a:rPr b="1" lang="en-US" sz="1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«Наша новая школа»</a:t>
            </a:r>
            <a:endParaRPr b="1" lang="en-US" sz="1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5445000"/>
            <a:ext cx="56880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a8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У « СОШ №2» г.Назарова</a:t>
            </a:r>
            <a:endParaRPr b="0" lang="en-US" sz="1000" spc="1" strike="noStrike">
              <a:ln w="12600">
                <a:solidFill>
                  <a:srgbClr val="000099"/>
                </a:solidFill>
                <a:miter/>
              </a:ln>
              <a:solidFill>
                <a:srgbClr val="00a8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Механизм  отслеживания и поддержки здоровья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800"/>
                </a:solidFill>
                <a:latin typeface="Arial"/>
              </a:rPr>
              <a:t>Мониторинг физической подготовленности обучающихся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Ввести дневник здоровья школьников; Распределить детей по  физической групп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Разработать критерии оценки, коррекции и поощрения  деятельности в соответствии с динамикой показателей становления физической культуры фиксируемой в дневнике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800"/>
                </a:solidFill>
                <a:latin typeface="Arial"/>
              </a:rPr>
              <a:t>Мониторинг состояния здоровья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1.Оценить состояния здоровья школь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Распределить детей по группам здоровь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2.Оценить состояния зрительной системы. (Тест Малиновского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3.Оценить состояния осанки (Тестовая карта для выявления нарушений осанки. Тест для выявления истинного сколи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4.Оценить психоневрологический  статус  школьников (Карта наблюдения за состоянием ребенка. Карта наблюдения за поведением ребенка в школе. Тест-анкета для самооценки учащимся изменений своего состояния и здоровья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Направления</a:t>
            </a:r>
            <a:br>
              <a:rPr sz="3200"/>
            </a:b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 обеспечения здоровья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я образовательной среды ,здоровьесберегающего образовательного пространства; новых технологий и методик здоровьесберегающего обучения, обеспечивающие формирование заинтересованного отношения к собственному здоровью, здорового образа жизни всех участников образовательного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нклюзия детей с ограниченными возможностями здоровья в образовательное пространство школ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я 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я спортивных занят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я медицинского обслуживания учащихся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санитарно-эпидемиологические правила и нормати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механизмы и регламенты отслеживания и поддержки здоровья школь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безопасность образователь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актики организации обслуживания школьного хозяй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ации подвоза школьников к месту уче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механизмы взаимодействия учреждений образования, культуры и спо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800"/>
                </a:solidFill>
                <a:latin typeface="Arial"/>
              </a:rPr>
              <a:t>Формирование здоровьесберегающей образовательной сред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Оформить классные комнаты в соответствии с требованиями здоровьесбере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Использ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- растения в оформлении классных помещ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-вариативные формы  школьной мебели (нетрадиционная расстановка мебели в соответствии с требованиями педагогического  процесс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- рекреации для реализации двигательного режи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Проводить мониторинг температуры и влажности воздуха в течение учебного года, освещенности на рабочих мес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Контролировать за весом ежедневных учебных комплектов в течение учебной недели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a800"/>
                </a:solidFill>
                <a:latin typeface="Arial"/>
              </a:rPr>
              <a:t>Ввести сменную обувь как элемент школьной фор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Формирование здоровьесберегающего образовательного простра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сключить  учебные перегруз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Сформировать культуру здоровья у педагогического состава (состояние здоровья учителей, их образ жизни и отношение к своему здоровью, участие в физкультурно-оздоровительных мероприятиях )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твести пространство с игровыми и спортивными устройствами в школе для разных возрастных групп (обязательное условие- доступ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офессионально подготовить педагогов по вопросам сохранения и укрепления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именять психолого-педагогические приемы для снятия эмоционального напряжения на уроке, при проведении опросов и экзаменов, проблеме оцен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Реализовывать учителем индивидуальный подход к обучающимся, воспитанник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спользовать здоровьесберегающие педагогические технологии в образовательном проце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Здоровьесберегающие образовательные технолог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сихолого-педагогические приемы, методы, подходы направить на сохранение и укрепление здоровья учащих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оводит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физкультминут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минутки «поко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витаминизацию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вести оптимальные физические нагруз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бразовательные, просветительские и воспитательные программы, направить на формирование здорового образа жизни ( программа В.Н.Касаткина «Здоровье» «Педагогика здоровья для всех» ,Зайцев «Расти здоровым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Инклюзия детей с ограниченными возможностями здоровья в образовательное пространство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ыстраивать  взаимодействия с ребенком с опорой  на его   возможности(индивидуальные программы,  маршруты обучения и развития  ребенка; организация психолого-педагогического и социального сопровожд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спользовать педагогами,  узкими специалистами для включения ребенка в  процесс обучения вариативность дидактических сред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Достаточно оснащать кабинет логопеда,  психолога, социального педаго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инять и признать личностные права каждого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Организация рационального пита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Эстетически оформить помещения столовой: обеспечить практичной и эстетичной посудой, мебелью,   наглядной агитацией здорового п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вести рацион соответствия энергозатратам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меть возможность заказывать индивидуальное мен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вести «рыбный» день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Организовать питьевой режим( «Куллеры»,кружки-фильтры, фильтр-фонтанчи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Разработать систему поощрения за регулярное правильное знаний о здоровом питании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оводить классные и внеклассные мероприятия посвященные правильному питан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Участвовать в реализации програм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«Чистая в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«Школьное здоровое пит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«Школьное моло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«Разговор о правильном питан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Безопасность образовательного учреждения 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Ввести: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  - круглосуточную охрану;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  - кнопку тревожной сигнализации;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  - кнопку пожарной сигнализации;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  - камеры видео-наблюдения в здании школ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место для ожидания детей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меть оснащенность кабинета :</a:t>
            </a:r>
            <a:br>
              <a:rPr sz="2000"/>
            </a:b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Стенд. Таблицы.  Брошюра. Памятка родителям по обучению детей безопасному поведению на дороге. Памятка детям. Видеофиль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оддерживать общественный порядок на территории 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 учащихся и сотрудников привлечь к решению проблем пожарной и террористической  безопасности( кружки «Юный пожарник», «Юный помощник милиции» и т.п.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школе взаимодействовать с силовыми ведомств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-проводить занятия с учащимися и пед.составом по профилактике правонару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Arial"/>
              </a:rPr>
              <a:t>Физическое воспитание и двигательная а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7163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именять физические упражнения  в образовательном процессе (утренняя гимнастика, динамические паузы, «динамические уроки», час здоровья, спортивные состяза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Проводить уроки физической культуры (более 2-х),с  внедрением методик и технологий креативной педагог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спользовать дидактические приемы повышающие двигательную активность учащихся во время занятий (работа в группах переменного состава,  соревнования между рядами к доске для записи правильного ответа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1125360"/>
            <a:ext cx="450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Для мотивации к регулярным занятиям физической культурой разработать систему поощрений  (на доске объявлений вывешивается информация  о победителе, определен актуальный для данной возрастной группы приз и т.п.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Интеграция образовательного процесса по физической культуре в школе с учреждениями дополнительного образования по физической культуре и спорту (спортивные школы, внешкольные спортивные секции, друг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a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800"/>
                </a:solidFill>
                <a:latin typeface="Arial"/>
              </a:rPr>
              <a:t>Работают специальные группы физического воспитания для ослабленных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0:31:55Z</dcterms:created>
  <dc:creator>a</dc:creator>
  <dc:description/>
  <dc:language>en-US</dc:language>
  <cp:lastModifiedBy>a</cp:lastModifiedBy>
  <dcterms:modified xsi:type="dcterms:W3CDTF">2009-08-24T16:52:42Z</dcterms:modified>
  <cp:revision>7</cp:revision>
  <dc:subject/>
  <dc:title>Ключевые направления общего образования                            национальной образовательной инициативы                                             «Наша новая школа»</dc:title>
</cp:coreProperties>
</file>