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0D5-CF7D-41FA-9CF1-E72B51DC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D71-C6A0-4660-8F55-F1FF76B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417-025E-4F43-BD2A-41F416FE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669-C1C8-4339-991D-EA1A92E6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3B7-8001-45FA-A753-C6997F97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0DB-523E-4FB3-BE18-67869611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BD9-4F87-413B-8EC5-79827E86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1EE-B3D7-4C10-9E39-9753831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F84-9956-4D0F-8233-9969B7C0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FB2-79B7-4EC8-9380-8B0D725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69D-4CC3-459F-985D-9139768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CC6-0612-47F4-B936-8CBCD5EF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B7B2-490B-4AE5-93A4-F913CECC2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765000"/>
            <a:ext cx="741672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ючевые направления 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щего образования                          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циональной образовательной инициативы    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    </a:t>
            </a: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«Наша новая школа»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5445000"/>
            <a:ext cx="5688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a8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У « СОШ №2» г.Назарова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00a8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Механизм  отслеживания и поддержки здоровь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800"/>
                </a:solidFill>
                <a:latin typeface="Arial"/>
              </a:rPr>
              <a:t>Мониторинг физической подготовленности обучающихся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Ввести дневник здоровья школьников; Распределить детей по  физической групп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Разработать критерии оценки, коррекции и поощрения  деятельности в соответствии с динамикой показателей становления физической культуры фиксируемой в дневнике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800"/>
                </a:solidFill>
                <a:latin typeface="Arial"/>
              </a:rPr>
              <a:t>Мониторинг состояния здоровья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1.Оценить состояния здоровья шк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Распределить детей по группам здоров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2.Оценить состояния зрительной системы. (Тест Малиновского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3.Оценить состояния осанки (Тестовая карта для выявления нарушений осанки. Тест для выявления истинного сколи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4.Оценить психоневрологический  статус  школьников (Карта наблюдения за состоянием ребенка. Карта наблюдения за поведением ребенка в школе. Тест-анкета для самооценки учащимся изменений своего состояния и здоровья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Направления</a:t>
            </a:r>
            <a:br>
              <a:rPr sz="3200"/>
            </a:b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 обеспечения здоровь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образовательной среды ,здоровьесберегающего образовательного пространства; новых технологий и методик здоровьесберегающего обучения, обеспечивающие формирование заинтересованного отношения к собственному здоровью, здорового образа жизни всех участников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нклюзия детей с ограниченными возможностями здоровья в образовательное пространство школ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спортивных занят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медицинского обслуживания учащихся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санитарно-эпидемиологические правила и нормати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механизмы и регламенты отслеживания и поддержки здоровья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безопасность 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актики организации обслуживания школьного хозя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и подвоза школьников к месту уче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механизмы взаимодействия учреждений образования, культуры и спо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Формирование здоровьесберегающей образовательной сред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Оформить классные комнаты в соответствии с требованиями здоровьесбере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Использ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- растения в оформлении классных помещ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-вариативные формы  школьной мебели (нетрадиционная расстановка мебели в соответствии с требованиями педагогического  процес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- рекреации для реализации двигательного режи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Проводить мониторинг температуры и влажности воздуха в течение учебного года, освещенности на рабочих мес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Контролировать за весом ежедневных учебных комплектов в течение учебной недели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Ввести сменную обувь как элемент школьной ф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Формирование здоровьесберегающего образовательного простр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ключить  учебные перегруз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Сформировать культуру здоровья у педагогического состава (состояние здоровья учителей, их образ жизни и отношение к своему здоровью, участие в физкультурно-оздоровительных мероприятиях )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твести пространство с игровыми и спортивными устройствами в школе для разных возрастных групп (обязательное условие- доступ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фессионально подготовить педагогов по вопросам сохранения и укрепления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именять психолого-педагогические приемы для снятия эмоционального напряжения на уроке, при проведении опросов и экзаменов, проблеме оцен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Реализовывать учителем индивидуальный подход к обучающимся, воспитанни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пользовать здоровьесберегающие педагогические технологии в образовательном проце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Здоровьесберегающие образовательные технолог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сихолого-педагогические приемы, методы, подходы направить на сохранение и укрепление здоровья уча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водит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физкультмину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минутки «поко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витаминизацию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 оптимальные физические нагруз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бразовательные, просветительские и воспитательные программы, направить на формирование здорового образа жизни ( программа В.Н.Касаткина «Здоровье» «Педагогика здоровья для всех» ,Зайцев «Расти здоровым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Инклюзия детей с ограниченными возможностями здоровья в образовательное пространство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ыстраивать  взаимодействия с ребенком с опорой  на его   возможности(индивидуальные программы,  маршруты обучения и развития  ребенка; организация психолого-педагогического и социального сопровожд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пользовать педагогами,  узкими специалистами для включения ребенка в  процесс обучения вариативность дидактически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Достаточно оснащать кабинет логопеда,  психолога, социального педаго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инять и признать личностные права каждого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Организация рационального пи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Эстетически оформить помещения столовой: обеспечить практичной и эстетичной посудой, мебелью,   наглядной агитацией здорового 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 рацион соответствия энергозатратам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меть возможность заказывать индивидуальное мен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 «рыбный» день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овать питьевой режим( «Куллеры»,кружки-фильтры, фильтр-фонтанчи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Разработать систему поощрения за регулярное правильное знаний о здоровом питании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водить классные и внеклассные мероприятия посвященные правильному пита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Участвовать в реализации програм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Чистая в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Школьное здоровое пит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Школьное моло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Разговор о правильном пита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Безопасность образовательного учреждения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: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руглосуточную охрану;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нопку тревожной сигнализации;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нопку пожарной сигнализации;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амеры видео-наблюдения в здании школ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место для ожидания детей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меть оснащенность кабинета :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Стенд. Таблицы.  Брошюра. Памятка родителям по обучению детей безопасному поведению на дороге. Памятка детям. Видеофиль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оддерживать общественный порядок на территории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 учащихся и сотрудников привлечь к решению проблем пожарной и террористической  безопасности( кружки «Юный пожарник», «Юный помощник милиции» и т.п.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школе взаимодействовать с силовыми ведомств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проводить занятия с учащимися и пед.составом по профилактике правонару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Физическое воспитание и двигательная а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716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именять физические упражнения  в образовательном процессе (утренняя гимнастика, динамические паузы, «динамические уроки», час здоровья, спортивные состяз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водить уроки физической культуры (более 2-х),с  внедрением методик и технологий креативной педагог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пользовать дидактические приемы повышающие двигательную активность учащихся во время занятий (работа в группах переменного состава,  соревнования между рядами к доске для записи правильного ответа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1125360"/>
            <a:ext cx="450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Для мотивации к регулярным занятиям физической культурой разработать систему поощрений  (на доске объявлений вывешивается информация  о победителе, определен актуальный для данной возрастной группы приз и т.п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нтеграция образовательного процесса по физической культуре в школе с учреждениями дополнительного образования по физической культуре и спорту (спортивные школы, внешкольные спортивные секции,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Работают специальные группы физического воспитания для ослабленных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0:31:55Z</dcterms:created>
  <dc:creator>a</dc:creator>
  <dc:description/>
  <dc:language>en-US</dc:language>
  <cp:lastModifiedBy>a</cp:lastModifiedBy>
  <dcterms:modified xsi:type="dcterms:W3CDTF">2009-08-24T16:52:42Z</dcterms:modified>
  <cp:revision>7</cp:revision>
  <dc:subject/>
  <dc:title>Ключевые направления общего образования                            национальной образовательной инициативы                                             «Наша новая школа»</dc:title>
</cp:coreProperties>
</file>