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gif" ContentType="image/gif"/>
  <Override PartName="/ppt/media/image8.jpeg" ContentType="image/jpeg"/>
  <Override PartName="/ppt/media/image17.gif" ContentType="image/gif"/>
  <Override PartName="/ppt/media/image3.png" ContentType="image/png"/>
  <Override PartName="/ppt/media/image16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4.jpeg" ContentType="image/jpeg"/>
  <Override PartName="/ppt/media/image13.gif" ContentType="image/gif"/>
  <Override PartName="/ppt/media/image5.jpeg" ContentType="image/jpeg"/>
  <Override PartName="/ppt/media/image11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9B5103-14DE-4BA6-BA59-2B72F89576E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143000" y="677880"/>
            <a:ext cx="457200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77880"/>
            <a:ext cx="457200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143000" y="677880"/>
            <a:ext cx="457200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143000" y="677880"/>
            <a:ext cx="457200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143000" y="677880"/>
            <a:ext cx="457200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143000" y="677880"/>
            <a:ext cx="457200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77880"/>
            <a:ext cx="457200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143000" y="677880"/>
            <a:ext cx="457200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143000" y="677880"/>
            <a:ext cx="457200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6977-77E5-41EF-9BA6-7D5193564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C193-BEA9-4D60-9F3A-76BFB9CB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806C-F108-424A-BAD7-1C0149E0C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BCBB-8151-4FEB-B00E-4C434F537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7BF5-0F7B-4416-AB46-91222109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9014-2ADB-462C-A404-DAB724AD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617A-453B-438B-BD5F-A606EC21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2796-16F0-4ABD-A378-A643EAFF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DC7D-37B5-417A-9203-EAE8B090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-1764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FD49-809F-4DAC-8DA3-30823B3E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70EA-1639-4B11-8559-D24A4945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AFE8-F15F-422F-BE86-3CFD82A9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0025-B74D-4D19-AF56-6A4D3C49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6F0A-0C55-419C-971D-BD01F8CE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4841-700E-47A2-AC8C-437BBF7D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4FA3-57E5-4148-B3F7-0F63A40F5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7F85-027F-4366-8FCF-596B305B5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0160-EE46-4254-A8D5-6AECB954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3046-3898-4BEA-9543-09A0AF18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630C-D964-4D7D-99C6-8FAFA6D4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-1764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EFEA-E51A-436A-B88B-00D773F5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E47F-5B1B-404F-AC2A-C1D42C27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9915-3C60-4F8D-A399-B0C0FD9E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2A77-034D-4A82-A71A-37720682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ct val="101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883A0B4-09BC-4736-BB21-1CF2B7FDE480}" type="slidenum">
              <a:rPr b="0" lang="en-GB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000" spc="-1" strike="noStrike">
                <a:solidFill>
                  <a:srgbClr val="ffffff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764C0E7-FEFA-454D-A217-0FA56ED2B715}" type="slidenum">
              <a:rPr b="0" lang="en-GB" sz="10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9.gi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a0a65"/>
                </a:solidFill>
                <a:latin typeface="Arial"/>
              </a:rPr>
              <a:t>Работа с одарёнными детьм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9280" y="4581360"/>
            <a:ext cx="3427560" cy="2089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rcRect l="33130" t="0" r="0" b="11727"/>
          <a:stretch/>
        </p:blipFill>
        <p:spPr>
          <a:xfrm>
            <a:off x="6526080" y="4076640"/>
            <a:ext cx="2617920" cy="2592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3924360" y="3645000"/>
            <a:ext cx="2325600" cy="3024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5724360" y="1378080"/>
            <a:ext cx="3419640" cy="25542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179280" y="1413000"/>
            <a:ext cx="2955960" cy="3070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 fill="hold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0" fill="hold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600" fill="hold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6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6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6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4000" fill="hold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4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В своей работе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применяю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Элективный кур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Занятия в тренажёрном зал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Подготовка к соревнования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Выступление на олимпиад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Мониторинг физической готовн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Круговые трениров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Проектиров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8"/>
          <a:stretch/>
        </p:blipFill>
        <p:spPr>
          <a:xfrm>
            <a:off x="6084720" y="18900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-3726360"/>
            <a:ext cx="8510400" cy="92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ffff99"/>
                </a:solidFill>
                <a:latin typeface="Arial"/>
              </a:rPr>
              <a:t>Скорректировала  учебную программу в зависимости  от реальных условий, материального обеспечения  и количества учебных часов, изменила тематическое планирование в зависимости от погодных условий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88520" y="17928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Элективный курс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559640" y="46080"/>
            <a:ext cx="1575000" cy="15746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79280" y="1469880"/>
            <a:ext cx="8353440" cy="71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Программа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ЭЛЕКТИВНОГО КУРСА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«Прикладная физическая подготовка» разработана для учащихся 10-11х классов образовательных учреждений военно-спортивного профиля с углубленным изучением предмета «физическая культура» (4 ч в неделю). Специфика подготовки учащихся данного профиля ориентирована на дальнейшее профессиональное образование учащихся в сфере физической культуры и спорта, а также на успешную сдачу вступительных экзаменов в профильные (военные, МЧС, МВД) учебные завед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971640" y="0"/>
            <a:ext cx="7993080" cy="141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ЖЕЛЕЗО – БЕТОННЫЙ ФУНДАМЕ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7621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2859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50920" y="1484280"/>
            <a:ext cx="8713800" cy="4235400"/>
            <a:chOff x="250920" y="1484280"/>
            <a:chExt cx="8713800" cy="4235400"/>
          </a:xfrm>
        </p:grpSpPr>
        <p:sp>
          <p:nvSpPr>
            <p:cNvPr id="184" name=""/>
            <p:cNvSpPr/>
            <p:nvPr/>
          </p:nvSpPr>
          <p:spPr>
            <a:xfrm>
              <a:off x="6477120" y="4788000"/>
              <a:ext cx="248580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тановая тяга,3х1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Тяга в наклоне, 3х1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дтягивания, 3х макс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дъем на носки стоя, 3х1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17920" y="4788000"/>
              <a:ext cx="29606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Жим лежа, 3х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Жим стоя, 3х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тжимания на брусьях, 3х макс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дъем штанги на бицепс, 3х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12960" y="4788000"/>
              <a:ext cx="260640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риседания со штангой , 3х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умынская становая тяга , 3х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ыпады , 3х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аклоны со штангой , 3х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0920" y="4788000"/>
              <a:ext cx="6620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деля 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77120" y="3859200"/>
              <a:ext cx="248580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тановая тяга,3х1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Тяга в наклоне, 3х1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дтягивания, 3х макс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дъем на носки стоя, 3х1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517920" y="3859200"/>
              <a:ext cx="296064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Жим лежа, 3х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Жим стоя, 3х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тжимания на брусьях, 3х макс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дъем штанги на бицепс, 3х1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12960" y="3859200"/>
              <a:ext cx="260640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риседания со штангой , 3х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умынская становая тяга , 3х1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ыпады , 3х1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аклоны со штангой , 3х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920" y="3859200"/>
              <a:ext cx="66204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деля 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77120" y="2928960"/>
              <a:ext cx="248580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тановая тяга,3х1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Тяга в наклоне, 3х1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дтягивания, 3х макс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дъем на носки стоя, 3х1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517920" y="2928960"/>
              <a:ext cx="29606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Жим лежа, 3х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Жим стоя, 3х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тжимания на брусьях, 3х макс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дъем штанги на бицепс, 3х1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12960" y="2928960"/>
              <a:ext cx="260640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риседания со штангой , 3х1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умынская становая тяга , 3х1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ыпады , 3х1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аклоны со штангой , 3х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0920" y="2928960"/>
              <a:ext cx="66204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деля 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77120" y="2001960"/>
              <a:ext cx="248580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тановая тяга,3х1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Тяга в наклоне, 3х1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дтягивания, 3х макс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дъем на носки стоя, 3х1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17920" y="2001960"/>
              <a:ext cx="296064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Жим лежа, 3х1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Жим стоя, 3х1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тжимания на брусьях, 3х макс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одъем штанги на бицепс, 3х1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912960" y="2001960"/>
              <a:ext cx="260640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риседания со штангой , 3х1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умынская становая тяга , 3х1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ыпады , 3х1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аклоны со штангой , 3х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0920" y="2001960"/>
              <a:ext cx="66204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деля 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77120" y="1484280"/>
              <a:ext cx="2485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День 3-пятниц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17920" y="1484280"/>
              <a:ext cx="29606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День 2- сред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12960" y="1484280"/>
              <a:ext cx="26064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День 1- понедельник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0920" y="1484280"/>
              <a:ext cx="6620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50920" y="1484280"/>
              <a:ext cx="8712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0920" y="5718240"/>
              <a:ext cx="8712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0920" y="1484280"/>
              <a:ext cx="1440" cy="423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962920" y="1484280"/>
              <a:ext cx="1800" cy="423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0920" y="2001960"/>
              <a:ext cx="8712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12960" y="1484280"/>
              <a:ext cx="1440" cy="423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17920" y="1484280"/>
              <a:ext cx="1440" cy="423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77120" y="1484280"/>
              <a:ext cx="1440" cy="423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0920" y="2928960"/>
              <a:ext cx="8712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0920" y="3859200"/>
              <a:ext cx="8712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50920" y="4788000"/>
              <a:ext cx="8712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179280" y="5757840"/>
            <a:ext cx="8713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Вторник, четвер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Скручивания, приседания (мяч над головой), выпрыгивания(мяч у груди), отжимания, упор присев-упор лежа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толчок мяча от плеча правой и левой рукой на дальность- 2х10( упражнения выполняются по кругу без отдыха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Каждую последующую неделю добавить 1 круг и 10 повторений в каждом упражнен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Перед базовыми упражнениями выполнять разминочный сет-15-20 повторений с небольшим весом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ffff99"/>
                </a:solidFill>
                <a:latin typeface="Arial"/>
              </a:rPr>
              <a:t>Контрольные результаты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9280" y="1079280"/>
            <a:ext cx="8663040" cy="992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Дети с признаками одаренности требуют особого внимания и поддержки. Чем я могу помочь? Во - первых, как можно чаще давать этому ребенку участвовать в соревнованиях, что поможет ему определиться с самооценкой. Во - вторых, объяснять, что его превосходство над другими не делает остальных хуже. Тем самым, избегая межличностных конфликтов и не понимания со стороны взрослых. В-третьих, ставить конкретные задачи повышенной трудност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4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4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4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4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4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4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4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4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4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34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34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34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34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dur="indefinite" fill="hold">
                      <p:stCondLst>
                        <p:cond delay="0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 fill="hold"/>
                                        <p:tgtEl>
                                          <p:spTgt spid="2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112680"/>
            <a:ext cx="85104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Практикум. Признаки одаренности «+» (преимущества которые даёт это качество) «-» (трудности, сопряженные с данным качеством)</a:t>
            </a:r>
            <a:br>
              <a:rPr sz="2400"/>
            </a:b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50920" y="1341360"/>
            <a:ext cx="8569080" cy="5558040"/>
            <a:chOff x="250920" y="1341360"/>
            <a:chExt cx="8569080" cy="5558040"/>
          </a:xfrm>
        </p:grpSpPr>
        <p:sp>
          <p:nvSpPr>
            <p:cNvPr id="220" name=""/>
            <p:cNvSpPr/>
            <p:nvPr/>
          </p:nvSpPr>
          <p:spPr>
            <a:xfrm>
              <a:off x="4533840" y="6381720"/>
              <a:ext cx="428328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1249200"/>
                  <a:tab algn="l" pos="2163600"/>
                  <a:tab algn="l" pos="3078000"/>
                  <a:tab algn="l" pos="3992400"/>
                  <a:tab algn="l" pos="4906800"/>
                  <a:tab algn="l" pos="5821200"/>
                  <a:tab algn="l" pos="6735600"/>
                  <a:tab algn="l" pos="7650000"/>
                  <a:tab algn="l" pos="8564400"/>
                  <a:tab algn="l" pos="9478800"/>
                  <a:tab algn="l" pos="1039320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10.Истощение, усталость, болезни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0920" y="6381720"/>
              <a:ext cx="428472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1249200"/>
                  <a:tab algn="l" pos="2163600"/>
                  <a:tab algn="l" pos="3078000"/>
                  <a:tab algn="l" pos="3992400"/>
                  <a:tab algn="l" pos="4906800"/>
                  <a:tab algn="l" pos="5821200"/>
                  <a:tab algn="l" pos="6735600"/>
                  <a:tab algn="l" pos="7650000"/>
                  <a:tab algn="l" pos="8564400"/>
                  <a:tab algn="l" pos="9478800"/>
                  <a:tab algn="l" pos="1039320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10.Высокая физическая и умственная активность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33840" y="6040440"/>
              <a:ext cx="428328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1249200"/>
                  <a:tab algn="l" pos="2163600"/>
                  <a:tab algn="l" pos="3078000"/>
                  <a:tab algn="l" pos="3992400"/>
                  <a:tab algn="l" pos="4906800"/>
                  <a:tab algn="l" pos="5821200"/>
                  <a:tab algn="l" pos="6735600"/>
                  <a:tab algn="l" pos="7650000"/>
                  <a:tab algn="l" pos="8564400"/>
                  <a:tab algn="l" pos="9478800"/>
                  <a:tab algn="l" pos="1039320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9. Болезненное восприятие неудач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0920" y="6040440"/>
              <a:ext cx="428472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1249200"/>
                  <a:tab algn="l" pos="2163600"/>
                  <a:tab algn="l" pos="3078000"/>
                  <a:tab algn="l" pos="3992400"/>
                  <a:tab algn="l" pos="4906800"/>
                  <a:tab algn="l" pos="5821200"/>
                  <a:tab algn="l" pos="6735600"/>
                  <a:tab algn="l" pos="7650000"/>
                  <a:tab algn="l" pos="8564400"/>
                  <a:tab algn="l" pos="9478800"/>
                  <a:tab algn="l" pos="1039320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9. Стремление к совершенству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33840" y="5291280"/>
              <a:ext cx="42832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1249200"/>
                  <a:tab algn="l" pos="2163600"/>
                  <a:tab algn="l" pos="3078000"/>
                  <a:tab algn="l" pos="3992400"/>
                  <a:tab algn="l" pos="4906800"/>
                  <a:tab algn="l" pos="5821200"/>
                  <a:tab algn="l" pos="6735600"/>
                  <a:tab algn="l" pos="7650000"/>
                  <a:tab algn="l" pos="8564400"/>
                  <a:tab algn="l" pos="9478800"/>
                  <a:tab algn="l" pos="1039320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8.Неправильная оценка со стороны окружающих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0920" y="5291280"/>
              <a:ext cx="428472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1249200"/>
                  <a:tab algn="l" pos="2163600"/>
                  <a:tab algn="l" pos="3078000"/>
                  <a:tab algn="l" pos="3992400"/>
                  <a:tab algn="l" pos="4906800"/>
                  <a:tab algn="l" pos="5821200"/>
                  <a:tab algn="l" pos="6735600"/>
                  <a:tab algn="l" pos="7650000"/>
                  <a:tab algn="l" pos="8564400"/>
                  <a:tab algn="l" pos="9478800"/>
                  <a:tab algn="l" pos="1039320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8.Независимость, способность к воображению, принятию неординарных решени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33840" y="4948200"/>
              <a:ext cx="42832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1249200"/>
                  <a:tab algn="l" pos="2163600"/>
                  <a:tab algn="l" pos="3078000"/>
                  <a:tab algn="l" pos="3992400"/>
                  <a:tab algn="l" pos="4906800"/>
                  <a:tab algn="l" pos="5821200"/>
                  <a:tab algn="l" pos="6735600"/>
                  <a:tab algn="l" pos="7650000"/>
                  <a:tab algn="l" pos="8564400"/>
                  <a:tab algn="l" pos="9478800"/>
                  <a:tab algn="l" pos="1039320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7. «Чудные и странные»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920" y="4948200"/>
              <a:ext cx="4284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1249200"/>
                  <a:tab algn="l" pos="2163600"/>
                  <a:tab algn="l" pos="3078000"/>
                  <a:tab algn="l" pos="3992400"/>
                  <a:tab algn="l" pos="4906800"/>
                  <a:tab algn="l" pos="5821200"/>
                  <a:tab algn="l" pos="6735600"/>
                  <a:tab algn="l" pos="7650000"/>
                  <a:tab algn="l" pos="8564400"/>
                  <a:tab algn="l" pos="9478800"/>
                  <a:tab algn="l" pos="1039320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7.Высокий творческий потенциал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33840" y="4432320"/>
              <a:ext cx="428328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1249200"/>
                  <a:tab algn="l" pos="2163600"/>
                  <a:tab algn="l" pos="3078000"/>
                  <a:tab algn="l" pos="3992400"/>
                  <a:tab algn="l" pos="4906800"/>
                  <a:tab algn="l" pos="5821200"/>
                  <a:tab algn="l" pos="6735600"/>
                  <a:tab algn="l" pos="7650000"/>
                  <a:tab algn="l" pos="8564400"/>
                  <a:tab algn="l" pos="9478800"/>
                  <a:tab algn="l" pos="1039320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6.Неумение рассчитать свои сил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0920" y="4432320"/>
              <a:ext cx="428472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1249200"/>
                  <a:tab algn="l" pos="2163600"/>
                  <a:tab algn="l" pos="3078000"/>
                  <a:tab algn="l" pos="3992400"/>
                  <a:tab algn="l" pos="4906800"/>
                  <a:tab algn="l" pos="5821200"/>
                  <a:tab algn="l" pos="6735600"/>
                  <a:tab algn="l" pos="7650000"/>
                  <a:tab algn="l" pos="8564400"/>
                  <a:tab algn="l" pos="9478800"/>
                  <a:tab algn="l" pos="1039320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6.Разнообразие интересов и большая любознательность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33840" y="3822840"/>
              <a:ext cx="4283280" cy="6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1249200"/>
                  <a:tab algn="l" pos="2163600"/>
                  <a:tab algn="l" pos="3078000"/>
                  <a:tab algn="l" pos="3992400"/>
                  <a:tab algn="l" pos="4906800"/>
                  <a:tab algn="l" pos="5821200"/>
                  <a:tab algn="l" pos="6735600"/>
                  <a:tab algn="l" pos="7650000"/>
                  <a:tab algn="l" pos="8564400"/>
                  <a:tab algn="l" pos="9478800"/>
                  <a:tab algn="l" pos="1039320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5.Трудности восприятия строго последовательного материал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50920" y="3822840"/>
              <a:ext cx="4284720" cy="6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1249200"/>
                  <a:tab algn="l" pos="2163600"/>
                  <a:tab algn="l" pos="3078000"/>
                  <a:tab algn="l" pos="3992400"/>
                  <a:tab algn="l" pos="4906800"/>
                  <a:tab algn="l" pos="5821200"/>
                  <a:tab algn="l" pos="6735600"/>
                  <a:tab algn="l" pos="7650000"/>
                  <a:tab algn="l" pos="8564400"/>
                  <a:tab algn="l" pos="9478800"/>
                  <a:tab algn="l" pos="1039320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5.Дифференциация мыслительных структур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33840" y="3305160"/>
              <a:ext cx="428328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1249200"/>
                  <a:tab algn="l" pos="2163600"/>
                  <a:tab algn="l" pos="3078000"/>
                  <a:tab algn="l" pos="3992400"/>
                  <a:tab algn="l" pos="4906800"/>
                  <a:tab algn="l" pos="5821200"/>
                  <a:tab algn="l" pos="6735600"/>
                  <a:tab algn="l" pos="7650000"/>
                  <a:tab algn="l" pos="8564400"/>
                  <a:tab algn="l" pos="9478800"/>
                  <a:tab algn="l" pos="1039320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4. «Пускание пыли в глаза»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50920" y="3305160"/>
              <a:ext cx="428472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1249200"/>
                  <a:tab algn="l" pos="2163600"/>
                  <a:tab algn="l" pos="3078000"/>
                  <a:tab algn="l" pos="3992400"/>
                  <a:tab algn="l" pos="4906800"/>
                  <a:tab algn="l" pos="5821200"/>
                  <a:tab algn="l" pos="6735600"/>
                  <a:tab algn="l" pos="7650000"/>
                  <a:tab algn="l" pos="8564400"/>
                  <a:tab algn="l" pos="9478800"/>
                  <a:tab algn="l" pos="1039320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4.Высокий уровень вербальных способностей и речи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33840" y="2557440"/>
              <a:ext cx="42832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1249200"/>
                  <a:tab algn="l" pos="2163600"/>
                  <a:tab algn="l" pos="3078000"/>
                  <a:tab algn="l" pos="3992400"/>
                  <a:tab algn="l" pos="4906800"/>
                  <a:tab algn="l" pos="5821200"/>
                  <a:tab algn="l" pos="6735600"/>
                  <a:tab algn="l" pos="7650000"/>
                  <a:tab algn="l" pos="8564400"/>
                  <a:tab algn="l" pos="9478800"/>
                  <a:tab algn="l" pos="1039320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3.Фрустракция- переживание « чувства крушения»,формирующее отрицательные черты характер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50920" y="2557440"/>
              <a:ext cx="428472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1249200"/>
                  <a:tab algn="l" pos="2163600"/>
                  <a:tab algn="l" pos="3078000"/>
                  <a:tab algn="l" pos="3992400"/>
                  <a:tab algn="l" pos="4906800"/>
                  <a:tab algn="l" pos="5821200"/>
                  <a:tab algn="l" pos="6735600"/>
                  <a:tab algn="l" pos="7650000"/>
                  <a:tab algn="l" pos="8564400"/>
                  <a:tab algn="l" pos="9478800"/>
                  <a:tab algn="l" pos="1039320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3.Высокая скорость мыслительных процессов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33840" y="1944720"/>
              <a:ext cx="428328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1249200"/>
                  <a:tab algn="l" pos="2163600"/>
                  <a:tab algn="l" pos="3078000"/>
                  <a:tab algn="l" pos="3992400"/>
                  <a:tab algn="l" pos="4906800"/>
                  <a:tab algn="l" pos="5821200"/>
                  <a:tab algn="l" pos="6735600"/>
                  <a:tab algn="l" pos="7650000"/>
                  <a:tab algn="l" pos="8564400"/>
                  <a:tab algn="l" pos="9478800"/>
                  <a:tab algn="l" pos="1039320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2.Не соответствие  восприятия детей окружающими по возрасту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50920" y="1944720"/>
              <a:ext cx="428472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1249200"/>
                  <a:tab algn="l" pos="2163600"/>
                  <a:tab algn="l" pos="3078000"/>
                  <a:tab algn="l" pos="3992400"/>
                  <a:tab algn="l" pos="4906800"/>
                  <a:tab algn="l" pos="5821200"/>
                  <a:tab algn="l" pos="6735600"/>
                  <a:tab algn="l" pos="7650000"/>
                  <a:tab algn="l" pos="8564400"/>
                  <a:tab algn="l" pos="9478800"/>
                  <a:tab algn="l" pos="1039320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2.Разноуровневое восприятие информаци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33840" y="1600200"/>
              <a:ext cx="4283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1249200"/>
                  <a:tab algn="l" pos="2163600"/>
                  <a:tab algn="l" pos="3078000"/>
                  <a:tab algn="l" pos="3992400"/>
                  <a:tab algn="l" pos="4906800"/>
                  <a:tab algn="l" pos="5821200"/>
                  <a:tab algn="l" pos="6735600"/>
                  <a:tab algn="l" pos="7650000"/>
                  <a:tab algn="l" pos="8564400"/>
                  <a:tab algn="l" pos="9478800"/>
                  <a:tab algn="l" pos="1039320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1.Трудность в повторении правил, примеров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50920" y="1600200"/>
              <a:ext cx="428472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1249200"/>
                  <a:tab algn="l" pos="2163600"/>
                  <a:tab algn="l" pos="3078000"/>
                  <a:tab algn="l" pos="3992400"/>
                  <a:tab algn="l" pos="4906800"/>
                  <a:tab algn="l" pos="5821200"/>
                  <a:tab algn="l" pos="6735600"/>
                  <a:tab algn="l" pos="7650000"/>
                  <a:tab algn="l" pos="8564400"/>
                  <a:tab algn="l" pos="9478800"/>
                  <a:tab algn="l" pos="1039320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Times New Roman"/>
                </a:rPr>
                <a:t>1.Легкость понимания учебного материал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33840" y="1341360"/>
              <a:ext cx="4283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1249200"/>
                  <a:tab algn="l" pos="2163600"/>
                  <a:tab algn="l" pos="3078000"/>
                  <a:tab algn="l" pos="3992400"/>
                  <a:tab algn="l" pos="4906800"/>
                  <a:tab algn="l" pos="5821200"/>
                  <a:tab algn="l" pos="6735600"/>
                  <a:tab algn="l" pos="7650000"/>
                  <a:tab algn="l" pos="8564400"/>
                  <a:tab algn="l" pos="9478800"/>
                  <a:tab algn="l" pos="10393200"/>
                  <a:tab algn="l" pos="10782360"/>
                </a:tabLst>
              </a:pPr>
              <a:r>
                <a:rPr b="0" lang="en-GB" sz="1100" spc="-1" strike="noStrike">
                  <a:solidFill>
                    <a:srgbClr val="ffffff"/>
                  </a:solidFill>
                  <a:latin typeface="Times New Roman"/>
                </a:rPr>
                <a:t>                                            </a:t>
              </a:r>
              <a:r>
                <a:rPr b="0" lang="en-GB" sz="11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0920" y="1341360"/>
              <a:ext cx="428472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1249200"/>
                  <a:tab algn="l" pos="2163600"/>
                  <a:tab algn="l" pos="3078000"/>
                  <a:tab algn="l" pos="3992400"/>
                  <a:tab algn="l" pos="4906800"/>
                  <a:tab algn="l" pos="5821200"/>
                  <a:tab algn="l" pos="6735600"/>
                  <a:tab algn="l" pos="7650000"/>
                  <a:tab algn="l" pos="8564400"/>
                  <a:tab algn="l" pos="9478800"/>
                  <a:tab algn="l" pos="10393200"/>
                  <a:tab algn="l" pos="10782360"/>
                </a:tabLst>
              </a:pPr>
              <a:r>
                <a:rPr b="0" lang="en-GB" sz="1100" spc="-1" strike="noStrike">
                  <a:solidFill>
                    <a:srgbClr val="ffffff"/>
                  </a:solidFill>
                  <a:latin typeface="Times New Roman"/>
                </a:rPr>
                <a:t>                          </a:t>
              </a:r>
              <a:r>
                <a:rPr b="0" lang="en-GB" sz="11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0920" y="1341360"/>
              <a:ext cx="85676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0920" y="6897600"/>
              <a:ext cx="85676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0920" y="1341360"/>
              <a:ext cx="1440" cy="555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818560" y="1341360"/>
              <a:ext cx="1440" cy="555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0920" y="1600200"/>
              <a:ext cx="8567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33840" y="1341360"/>
              <a:ext cx="1800" cy="555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0920" y="1944720"/>
              <a:ext cx="8567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0920" y="2557440"/>
              <a:ext cx="8567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0920" y="3305160"/>
              <a:ext cx="8567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0920" y="3822840"/>
              <a:ext cx="8567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0920" y="4432320"/>
              <a:ext cx="8567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0920" y="4948200"/>
              <a:ext cx="85676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0920" y="5291280"/>
              <a:ext cx="8567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0920" y="6040440"/>
              <a:ext cx="8567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50920" y="6381720"/>
              <a:ext cx="8567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ОЛИМПИАД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643280" y="177336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4606920" cy="33890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547640" y="5346720"/>
            <a:ext cx="6840720" cy="1511280"/>
          </a:xfrm>
          <a:prstGeom prst="rect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2 место на городской олимпиад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Участие в областной олимпиад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611280" y="136440"/>
            <a:ext cx="1657080" cy="16081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6948360" y="82440"/>
            <a:ext cx="1727280" cy="16416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dur="indefinite" fill="hold">
                      <p:stCondLst>
                        <p:cond delay="0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 fill="hold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4000" fill="hold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4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4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4000" fill="hold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4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 fill="hold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dur="indefinite" fill="hold">
                      <p:stCondLst>
                        <p:cond delay="indefinite"/>
                      </p:stCondLst>
                      <p:childTnLst>
                        <p:par>
                          <p:cTn id="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 fill="hold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3000" fill="hold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01680" y="1676520"/>
            <a:ext cx="8540640" cy="53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 algn="ctr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В своей работе выявляю уровень физического состояния своих подопечных, даю методики для развития двигательных качеств, основы техники рационального движения, теоретические знания для поддержания здорового образа жизни и здоровья на достаточном уровне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 algn="ctr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Проблема личностной мотивации самосовершенствования ученика –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4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приоритетное направление в моей деятельност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4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63360" y="3716280"/>
            <a:ext cx="1381320" cy="16574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6588000" y="189000"/>
            <a:ext cx="2089440" cy="15206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395280" y="142920"/>
            <a:ext cx="1655640" cy="14968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 fill="hold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4000" fill="hold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4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NT</dc:creator>
  <dc:description/>
  <dc:language>en-US</dc:language>
  <cp:lastModifiedBy>UserNT</cp:lastModifiedBy>
  <cp:revision>0</cp:revision>
  <dc:subject/>
  <dc:title>Работа с одарёнными детьми</dc:title>
</cp:coreProperties>
</file>