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gif" ContentType="image/gif"/>
  <Override PartName="/ppt/media/image8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50003-45F2-4F41-A1EA-ED9E9FC4D3D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D28-182D-40DC-A34E-A220BAD6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DE2-FF05-42DE-82BA-AD61B7FD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C18-B3A3-47AE-B48C-577D675E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D91-74F4-4CC3-844D-9CAB8571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9E6-079D-4E04-89CE-8C973D7C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8E8E-8A03-4915-91C1-CD7DDCF5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671-F9C0-4427-A2E3-8607401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C34D-7061-40C6-A965-1A218692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80C2-5182-4BD4-BD12-C303871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72A-DC7F-4E32-AECC-B39219D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9FD0-ADF8-4D04-8C6B-3D3309D6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4A8-E70F-42AD-AFFE-36165ABF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7FA6-5A77-4B44-A883-93F3CEFA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D772-444D-4422-8A44-FC96947E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252A-8FCB-40B5-BF96-58E1DCB4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1E3B-3ED6-4093-B19E-2A1737F0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D328-49E2-43AF-9227-2106D375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284-226B-4EE0-A36F-7B20C8F0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3AE-A53D-4E0F-A7BA-FF74D96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DAE-0428-4FA7-9870-B8DFAA61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B7E-97A8-4BD2-AE7A-5C98884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B9F-9A33-4973-BDC8-C798354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556-E007-4745-BC03-A18FB940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5DC-3101-4D48-8824-55A2CBB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D5AF2A-9EE5-44DA-85E7-4014E2675B00}" type="slidenum"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333220-A8FE-4059-8BA8-EE465DAD8416}" type="slidenum"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a0a65"/>
                </a:solidFill>
                <a:latin typeface="Arial"/>
              </a:rPr>
              <a:t>Работа с одарёнными деть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427560" cy="2089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33130" t="0" r="0" b="11727"/>
          <a:stretch/>
        </p:blipFill>
        <p:spPr>
          <a:xfrm>
            <a:off x="6526080" y="4076640"/>
            <a:ext cx="261792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924360" y="3645000"/>
            <a:ext cx="2325600" cy="302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724360" y="1378080"/>
            <a:ext cx="3419640" cy="2554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955960" cy="307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6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6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4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В своей работе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применяю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Элективный кур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Занятия в тренажёрном зал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Подготовка к соревнования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Выступление на олимпиад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Мониторинг физической готов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Круговые тренир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Проект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084720" y="189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-3726360"/>
            <a:ext cx="8510400" cy="92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Скорректировала  учебную программу в зависимости  от реальных условий, материального обеспечения  и количества учебных часов, изменила тематическое планирование в зависимости от погодных условий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8520" y="179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Элективный кур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9640" y="46080"/>
            <a:ext cx="1575000" cy="157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9280" y="1469880"/>
            <a:ext cx="835344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«Прикладная физическая подготовка» разработана для учащихся 10-11х классов образовательных учреждений военно-спортивного профиля с углубленным изучением предмета «физическая культура» (4 ч в неделю). Специфика подготовки учащихся данного профиля ориентирована на дальнейшее профессиональное образование учащихся в сфере физической культуры и спорта, а также на успешную сдачу вступительных экзаменов в профильные (военные, МЧС, МВД) учебные заве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71640" y="0"/>
            <a:ext cx="7993080" cy="14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ЖЕЛЕЗО – БЕТОННЫЙ ФУНДА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859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1484280"/>
            <a:ext cx="8713800" cy="4235400"/>
            <a:chOff x="250920" y="1484280"/>
            <a:chExt cx="8713800" cy="4235400"/>
          </a:xfrm>
        </p:grpSpPr>
        <p:sp>
          <p:nvSpPr>
            <p:cNvPr id="184" name=""/>
            <p:cNvSpPr/>
            <p:nvPr/>
          </p:nvSpPr>
          <p:spPr>
            <a:xfrm>
              <a:off x="6477120" y="4788000"/>
              <a:ext cx="24858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17920" y="4788000"/>
              <a:ext cx="2960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2960" y="4788000"/>
              <a:ext cx="26064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0920" y="4788000"/>
              <a:ext cx="6620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7120" y="3859200"/>
              <a:ext cx="2485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17920" y="3859200"/>
              <a:ext cx="2960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2960" y="3859200"/>
              <a:ext cx="26064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920" y="3859200"/>
              <a:ext cx="662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2928960"/>
              <a:ext cx="24858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17920" y="2928960"/>
              <a:ext cx="2960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2960" y="2928960"/>
              <a:ext cx="26064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0920" y="2928960"/>
              <a:ext cx="6620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2001960"/>
              <a:ext cx="248580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17920" y="2001960"/>
              <a:ext cx="2960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2960" y="2001960"/>
              <a:ext cx="260640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0920" y="2001960"/>
              <a:ext cx="6620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7120" y="1484280"/>
              <a:ext cx="2485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нь 3-пятниц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17920" y="1484280"/>
              <a:ext cx="29606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нь 2- сред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2960" y="1484280"/>
              <a:ext cx="2606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нь 1- понедель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" y="1484280"/>
              <a:ext cx="662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0920" y="1484280"/>
              <a:ext cx="871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920" y="571824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92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962920" y="1484280"/>
              <a:ext cx="180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0920" y="200196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296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792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0920" y="292896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0920" y="385920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0920" y="478800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9280" y="5757840"/>
            <a:ext cx="8713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торник, четве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кручивания, приседания (мяч над головой), выпрыгивания(мяч у груди), отжимания, упор присев-упор леж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олчок мяча от плеча правой и левой рукой на дальность- 2х10( упражнения выполняются по кругу без отдых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ждую последующую неделю добавить 1 круг и 10 повторений в каждом упражнен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д базовыми упражнениями выполнять разминочный сет-15-20 повторений с небольшим весом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Arial"/>
              </a:rPr>
              <a:t>Контрольные результаты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079280"/>
            <a:ext cx="8663040" cy="99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Дети с признаками одаренности требуют особого внимания и поддержки. Чем я могу помочь? Во - первых, как можно чаще давать этому ребенку участвовать в соревнованиях, что поможет ему определиться с самооценкой. Во - вторых, объяснять, что его превосходство над другими не делает остальных хуже. Тем самым, избегая межличностных конфликтов и не понимания со стороны взрослых. В-третьих, ставить конкретные задачи повышенной труд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112680"/>
            <a:ext cx="8510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Практикум. Признаки одаренности «+» (преимущества которые даёт это качество) «-» (трудности, сопряженные с данным качеством)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0920" y="1341360"/>
            <a:ext cx="8569080" cy="5558040"/>
            <a:chOff x="250920" y="1341360"/>
            <a:chExt cx="8569080" cy="5558040"/>
          </a:xfrm>
        </p:grpSpPr>
        <p:sp>
          <p:nvSpPr>
            <p:cNvPr id="220" name=""/>
            <p:cNvSpPr/>
            <p:nvPr/>
          </p:nvSpPr>
          <p:spPr>
            <a:xfrm>
              <a:off x="4533840" y="6381720"/>
              <a:ext cx="4283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0.Истощение, усталость, болезн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920" y="6381720"/>
              <a:ext cx="4284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0.Высокая физическая и умственная актив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33840" y="6040440"/>
              <a:ext cx="42832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9. Болезненное восприятие неудач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0920" y="6040440"/>
              <a:ext cx="42847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9. Стремление к совершенству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3840" y="5291280"/>
              <a:ext cx="4283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8.Неправильная оценка со стороны окружающи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0920" y="5291280"/>
              <a:ext cx="42847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8.Независимость, способность к воображению, принятию неординарных реш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33840" y="4948200"/>
              <a:ext cx="4283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7. «Чудные и странные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920" y="4948200"/>
              <a:ext cx="4284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7.Высокий творческий потенциа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33840" y="4432320"/>
              <a:ext cx="4283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6.Неумение рассчитать свои с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" y="4432320"/>
              <a:ext cx="4284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6.Разнообразие интересов и большая любознатель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33840" y="3822840"/>
              <a:ext cx="428328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5.Трудности восприятия строго последовательного материа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920" y="3822840"/>
              <a:ext cx="428472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5.Дифференциация мыслительных структу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33840" y="3305160"/>
              <a:ext cx="4283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4. «Пускание пыли в глаза»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920" y="3305160"/>
              <a:ext cx="4284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4.Высокий уровень вербальных способностей и реч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33840" y="2557440"/>
              <a:ext cx="4283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3.Фрустракция- переживание « чувства крушения»,формирующее отрицательные черты характер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0920" y="2557440"/>
              <a:ext cx="42847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3.Высокая скорость мыслительных процесс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33840" y="1944720"/>
              <a:ext cx="42832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2.Не соответствие  восприятия детей окружающими по возрасту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0920" y="1944720"/>
              <a:ext cx="4284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2.Разноуровневое восприятие информ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33840" y="1600200"/>
              <a:ext cx="4283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.Трудность в повторении правил, пример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920" y="1600200"/>
              <a:ext cx="4284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.Легкость понимания учебного материа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33840" y="1341360"/>
              <a:ext cx="428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</a:t>
              </a: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0920" y="1341360"/>
              <a:ext cx="4284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                          </a:t>
              </a: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920" y="1341360"/>
              <a:ext cx="856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920" y="6897600"/>
              <a:ext cx="856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0920" y="1341360"/>
              <a:ext cx="1440" cy="55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18560" y="1341360"/>
              <a:ext cx="1440" cy="55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0920" y="160020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33840" y="1341360"/>
              <a:ext cx="1800" cy="55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0920" y="194472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920" y="255744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920" y="330516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0920" y="382284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920" y="443232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920" y="4948200"/>
              <a:ext cx="856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920" y="529128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0920" y="604044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920" y="638172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ОЛИМПИА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06920" cy="3389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47640" y="5346720"/>
            <a:ext cx="6840720" cy="151128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место на городской олимпи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Участие в областной олимпи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11280" y="136440"/>
            <a:ext cx="1657080" cy="1608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948360" y="82440"/>
            <a:ext cx="1727280" cy="1641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4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40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В своей работе выявляю уровень физического состояния своих подопечных, даю методики для развития двигательных качеств, основы техники рационального движения, теоретические знания для поддержания здорового образа жизни и здоровья на достаточном уровн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Проблема личностной мотивации самосовершенствования ученика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приоритетное направление в моей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360" y="3716280"/>
            <a:ext cx="1381320" cy="1657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089440" cy="1520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95280" y="142920"/>
            <a:ext cx="1655640" cy="1496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40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NT</dc:creator>
  <dc:description/>
  <dc:language>en-US</dc:language>
  <cp:lastModifiedBy>UserNT</cp:lastModifiedBy>
  <cp:revision>0</cp:revision>
  <dc:subject/>
  <dc:title>Работа с одарёнными детьми</dc:title>
</cp:coreProperties>
</file>