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63DE-DD9E-464E-B1AD-B17478001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57FE-B060-48A2-862F-E23606C0A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FF19-A294-4B57-BBE8-2D065BCE5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2715-836A-48D5-9949-CE778BE08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F38F-CB91-427C-A64E-46F022462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E0C2-23F0-4CF1-B7C1-7E601855A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BC26-1C3D-4793-84FD-0889E8D45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2771-2E0D-49A1-A5B1-5BF8D8E7C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8F10-E611-4785-9920-3D2818BC4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19D6-6ADF-4F61-B553-55F4ACAF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C189-817F-478A-AC94-09275F5E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3D67-3A9F-46C0-B31B-BA46F9C22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664E0-A862-4661-94A5-B038F90336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ТЕСТ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по теме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«Части речи»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4 класс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" action="ppaction://hlinkshowjump?jump=nextslide"/>
          </p:cNvPr>
          <p:cNvSpPr/>
          <p:nvPr/>
        </p:nvSpPr>
        <p:spPr>
          <a:xfrm>
            <a:off x="8317080" y="6021360"/>
            <a:ext cx="576000" cy="57636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3794" y="3800"/>
                </a:moveTo>
                <a:lnTo>
                  <a:pt x="17806" y="10807"/>
                </a:lnTo>
                <a:lnTo>
                  <a:pt x="3794" y="17813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284720" y="4365720"/>
            <a:ext cx="370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64000" y="4149720"/>
            <a:ext cx="327672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Выполнила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Белова Лариса Сергеевна, 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МОУ ООШ № 7 города Белово</a:t>
            </a:r>
            <a:br>
              <a:rPr sz="44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973080" y="3284640"/>
            <a:ext cx="593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асточка предложила бедной Дюймовочк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ететь в теплые кр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17800" y="4365720"/>
            <a:ext cx="58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евочка с большой радостью согласилась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89440" y="5445000"/>
            <a:ext cx="78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м Дюймовочка поселилась в чашечке крупного цветка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60000" y="2205000"/>
            <a:ext cx="518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евочка познакомилась с эльфо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 стала прекрасной королевой эльф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260280"/>
            <a:ext cx="83516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Вопрос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кажи предложения, в которых имена прилагательные употребляются в форме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женского рода единственного числа дательного падеж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333800" y="4365720"/>
            <a:ext cx="52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Гости приехали в золоченных карета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17800" y="3213000"/>
            <a:ext cx="652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з далеких стран съехались короли и королев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800" y="5445000"/>
            <a:ext cx="495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 кто-то явился на огромном слоне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18880" y="2205000"/>
            <a:ext cx="705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разные страны полетели приглашения на свадьбу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260280"/>
            <a:ext cx="83516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Вопрос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кажи предложения, в которых имена прилагательные употребляются в форме множественного числа предложного падеж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189440" y="4365720"/>
            <a:ext cx="271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низк… потолк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44000" y="3259080"/>
            <a:ext cx="305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больш… бассейн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188360" y="5445000"/>
            <a:ext cx="250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горяч… сердцем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45080" y="2251080"/>
            <a:ext cx="238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лизк… друго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260280"/>
            <a:ext cx="835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Вопрос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меть имя прилагательное с окончанием –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м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973080" y="436572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45080" y="3259080"/>
            <a:ext cx="81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ечерние новости, домашнее задание, домашнее животно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87280" y="5445000"/>
            <a:ext cx="555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имняя стужа, синяя река, глубокое мор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46880" y="2251080"/>
            <a:ext cx="64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Летним утром, в зимнем пальто, осенним дне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260280"/>
            <a:ext cx="8351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Вопрос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тметь строки, в которых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неверн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написаны окончания имен прилагательны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90520" y="4365720"/>
            <a:ext cx="643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Летнем утром, в зимним пальто, осеннем дне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260720" y="328464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глаго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18160" y="4292640"/>
            <a:ext cx="22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лагатель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88720" y="544500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естоим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45440" y="2251080"/>
            <a:ext cx="24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уществитель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" y="260280"/>
            <a:ext cx="83516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Вопрос 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акая часть речи в предложениях чаще всего является сказуемым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045440" y="2205000"/>
            <a:ext cx="258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дём по тропинк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18880" y="4292640"/>
            <a:ext cx="237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варить всмятк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89800" y="5445000"/>
            <a:ext cx="211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делать втай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17080" y="3213000"/>
            <a:ext cx="268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калить докрас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260280"/>
            <a:ext cx="83516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Вопрос 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акое словосочетание НЕ СООТВЕТСТВУЕТ схеме: ГЛАГОЛ + НАРЕЧИ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44360" y="5445000"/>
            <a:ext cx="8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ою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4000" y="260280"/>
            <a:ext cx="83516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Вопрос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акая часть речи служит для связи однородных членов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17440" y="3259080"/>
            <a:ext cx="12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части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62440" y="4340160"/>
            <a:ext cx="17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еждомет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17800" y="2179800"/>
            <a:ext cx="121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едло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24000" y="260280"/>
            <a:ext cx="835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Вопрос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 падежам изменяются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06880" y="2276640"/>
            <a:ext cx="591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уществительные, прилагательные, глагол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61800" y="3213000"/>
            <a:ext cx="657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уществительные, прилагательные, местоим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35240" y="4340160"/>
            <a:ext cx="48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уществительные и прилагатель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61080" y="5348160"/>
            <a:ext cx="429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лагательные и местоим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404360" y="4365720"/>
            <a:ext cx="34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одам, числам, времена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333440" y="3284640"/>
            <a:ext cx="28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 родам и падежа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20720" y="5445000"/>
            <a:ext cx="22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одам и числа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04360" y="227664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одам, числам и падежа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4000" y="260280"/>
            <a:ext cx="835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Вопрос 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лаголы изменяются по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406880" y="2205000"/>
            <a:ext cx="664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уществительные, прилагательные, местоим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21800" y="4292640"/>
            <a:ext cx="472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лагательные, глаголы, нареч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20360" y="5516640"/>
            <a:ext cx="433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Глаголы, наречия, местоим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07600" y="3213000"/>
            <a:ext cx="59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уществительные, прилагательные, глагол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4000" y="260280"/>
            <a:ext cx="835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Вопрос 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торостепенными членами предложения могут быть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533520"/>
            <a:ext cx="762012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Вопрос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лужебные части речи - эт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05440" y="2276640"/>
            <a:ext cx="22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лагатель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60720" y="3213000"/>
            <a:ext cx="145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едлог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34520" y="4292640"/>
            <a:ext cx="24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уществитель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61080" y="5300640"/>
            <a:ext cx="122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глагол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24000" y="260280"/>
            <a:ext cx="835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Вопрос 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днородными членами в предложении могут быть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06520" y="2276640"/>
            <a:ext cx="543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едлоги, союзы, междометия, частиц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63240" y="3213000"/>
            <a:ext cx="78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уществительные, прилагательные, глаголы, местоим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35240" y="4340160"/>
            <a:ext cx="45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уществительные и местоим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62880" y="5348160"/>
            <a:ext cx="49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уществительные и прилагатель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24000" y="260280"/>
            <a:ext cx="8351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Вопрос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тметь предложение, в котором подлежащим является местоим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03640" y="2276640"/>
            <a:ext cx="537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нами на пароходе плыла собака Чап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06160" y="3213000"/>
            <a:ext cx="507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олго плавали мы на лодке по Волг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48000" y="4365720"/>
            <a:ext cx="366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Лодка причалила к берег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49800" y="5373720"/>
            <a:ext cx="49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плыла к нему рыбка и спросил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676520" y="1143000"/>
            <a:ext cx="5715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Правильных ответов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" action="ppaction://hlinkshowjump?jump=endshow"/>
          </p:cNvPr>
          <p:cNvSpPr/>
          <p:nvPr/>
        </p:nvSpPr>
        <p:spPr>
          <a:xfrm>
            <a:off x="457200" y="419112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ыхо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" action="ppaction://hlinkshowjump?jump=firstslide"/>
          </p:cNvPr>
          <p:cNvSpPr/>
          <p:nvPr/>
        </p:nvSpPr>
        <p:spPr>
          <a:xfrm>
            <a:off x="7467480" y="419112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начал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Использованные ресур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болочка на 20 вопрос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айт учителя математики Савченко Елены Михайловн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-savchen.ukoz.ru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24000" y="260280"/>
            <a:ext cx="835164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Вопрос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а вопросы кто? что? отвечае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05440" y="2276640"/>
            <a:ext cx="27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мя прилагатель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61440" y="3213000"/>
            <a:ext cx="29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мя существитель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333800" y="434016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глаго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60360" y="534816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естоим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405440" y="2276640"/>
            <a:ext cx="164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личест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60360" y="325908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едм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333800" y="4292640"/>
            <a:ext cx="12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зна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61080" y="5300640"/>
            <a:ext cx="134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ейств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260280"/>
            <a:ext cx="835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Вопрос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должи предложение: «Местоимение обозначает 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262160" y="2349360"/>
            <a:ext cx="36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место существительны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35960" y="4292640"/>
            <a:ext cx="50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место существительных и глагол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381320" y="5300640"/>
            <a:ext cx="71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место существительных, глаголов, прилагательных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61800" y="3259080"/>
            <a:ext cx="325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место прилагательн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260280"/>
            <a:ext cx="8351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Вопрос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место каких частей речи могут употребляться местоимения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479960" y="5445000"/>
            <a:ext cx="584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длежащим и второстепенными членам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21800" y="3284640"/>
            <a:ext cx="263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главными член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3520" y="4317840"/>
            <a:ext cx="28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олько подлежащи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406160" y="2276640"/>
            <a:ext cx="398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торостепенными членам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260280"/>
            <a:ext cx="8351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Вопрос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должи предложение: «Личные местоимения в предложении чаще всего бывают …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407240" y="4365720"/>
            <a:ext cx="52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ной, тобой, им, ею, нами, вами, ими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77800" y="3213000"/>
            <a:ext cx="432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не, тебе, ему, ей, нам, вам, и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480320" y="5445000"/>
            <a:ext cx="36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я, ты, он, она, мы, вы, он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03280" y="2276640"/>
            <a:ext cx="42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еня, тебя, его, ее, нас, вас, и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260280"/>
            <a:ext cx="8351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Вопрос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тметь строку, все местоимения которой стоят в творительном падеж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332720" y="5445000"/>
            <a:ext cx="38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 родам, числам, падежа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77800" y="3213000"/>
            <a:ext cx="295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 родам и падежа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49080" y="4365720"/>
            <a:ext cx="261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 числам и рода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04720" y="2276640"/>
            <a:ext cx="177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 падежа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260280"/>
            <a:ext cx="835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Вопрос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ак изменяется имя прилагательное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190880" y="2276640"/>
            <a:ext cx="556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 падежу существительного, с которы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вязано прилагательно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481040" y="4365720"/>
            <a:ext cx="707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 вопросу от существительного к прилагательному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50880" y="5445000"/>
            <a:ext cx="387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 вопросу прилагательно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06520" y="3284640"/>
            <a:ext cx="43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 окончанию прилагательны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260280"/>
            <a:ext cx="835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Вопрос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ак определить падеж прилагательных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0T11:12:03Z</dcterms:created>
  <dc:creator>Андрей</dc:creator>
  <dc:description/>
  <dc:language>en-US</dc:language>
  <cp:lastModifiedBy>1</cp:lastModifiedBy>
  <dcterms:modified xsi:type="dcterms:W3CDTF">2011-07-07T13:28:38Z</dcterms:modified>
  <cp:revision>33</cp:revision>
  <dc:subject/>
  <dc:title>Заголовок</dc:title>
</cp:coreProperties>
</file>