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254-D09B-4A59-BA33-29799B1F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4FE-CD71-40C0-AA93-058FB8E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20F-90B3-4F51-A38D-CB6903CF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725-A510-4D05-92D7-2A62993F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98A-9737-46EE-AB6F-4514D8EF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334-F132-4D8C-93D4-63873D71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B5C-3EE1-4A1B-A114-6CBF2654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D95-83E5-4DE3-8DAD-4189818D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86F-B52B-468F-A409-4585929B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6E6-0DEB-40D2-9452-BDACD28D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8EA-6901-42E9-85A8-FA9E3045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918-D196-4F8E-A490-56246321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6EEF-62A7-428C-BAE3-78E5278CD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ТЕСТ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о теме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«Части речи»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4 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1708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4365720"/>
            <a:ext cx="370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4149720"/>
            <a:ext cx="3276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Белова Лариса Сергеевна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МОУ ООШ № 7 города Белово</a:t>
            </a:r>
            <a:br>
              <a:rPr sz="4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3080" y="3284640"/>
            <a:ext cx="593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сточка предложила бедной Дюймовоч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теть в теплые кр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17800" y="436572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вочка с большой радостью согласилась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89440" y="5445000"/>
            <a:ext cx="78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м Дюймовочка поселилась в чашечке крупного цветк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60000" y="2205000"/>
            <a:ext cx="51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вочка познакомилась с эльф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 стала прекрасной королевой эльф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60280"/>
            <a:ext cx="83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ажи предложения, в которых имена прилагательные употребляются в форм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енского рода единственного числа дательного паде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3800" y="4365720"/>
            <a:ext cx="52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сти приехали в золоченных карет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7800" y="321300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 далеких стран съехались короли и короле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800" y="544500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кто-то явился на огромном слон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2205000"/>
            <a:ext cx="70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разные страны полетели приглашения на свадьб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60280"/>
            <a:ext cx="8351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кажи предложения, в которых имена прилагательные употребляются в форме множественного числа предложного паде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9440" y="43657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изк… потол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4000" y="325908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больш… бассей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8360" y="544500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оряч… сердцем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45080" y="2251080"/>
            <a:ext cx="23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лизк… друг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Вопрос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меть имя прилагательное с окончанием 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73080" y="4365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5080" y="3259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черние новости, домашнее задание, домашнее животно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5445000"/>
            <a:ext cx="55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имняя стужа, синяя река, глубокое м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46880" y="225108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тним утром, в зимнем пальто, осенним д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меть строки, в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аписаны окончания имен прилагатель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0520" y="4365720"/>
            <a:ext cx="64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тнем утром, в зимним пальто, осеннем дн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60720" y="328464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18160" y="4292640"/>
            <a:ext cx="22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8720" y="54450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45440" y="225108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ая часть речи в предложениях чаще всего является сказуемы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45440" y="220500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дём по тропи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8880" y="4292640"/>
            <a:ext cx="237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арить всмят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9800" y="5445000"/>
            <a:ext cx="21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делать втай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7080" y="3213000"/>
            <a:ext cx="26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калить докрас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60280"/>
            <a:ext cx="835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ое словосочетание НЕ СООТВЕТСТВУЕТ схеме: ГЛАГОЛ + НАРЕЧ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4360" y="54450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60280"/>
            <a:ext cx="835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ая часть речи служит для связи однородных членов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17440" y="325908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аст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2440" y="43401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ждоме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7800" y="2179800"/>
            <a:ext cx="121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падежам изменяются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6880" y="2276640"/>
            <a:ext cx="59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глаг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1800" y="3213000"/>
            <a:ext cx="65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5240" y="4340160"/>
            <a:ext cx="48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 и прила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61080" y="534816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ые и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04360" y="43657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ам, числам, времен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3440" y="32846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родам и падеж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20720" y="5445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ам и числ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4360" y="227664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ам, числам и падеж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голы изменяются по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06880" y="2205000"/>
            <a:ext cx="66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1800" y="429264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ые, глаголы, наре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20360" y="551664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ы, наречия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7600" y="3213000"/>
            <a:ext cx="59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глаг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торостепенными членами предложения могут быт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6201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ужебные части речи - э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5440" y="2276640"/>
            <a:ext cx="22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а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60720" y="3213000"/>
            <a:ext cx="14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34520" y="429264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61080" y="530064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ми членами в предложении могут быть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6520" y="227664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логи, союзы, междометия, част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3240" y="3213000"/>
            <a:ext cx="78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, прилагательные, глаголы,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5240" y="434016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 и местоим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62880" y="534816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ществительные и прила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меть предложение, в котором подлежащим является 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640" y="2276640"/>
            <a:ext cx="53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нами на пароходе плыла собака Чап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6160" y="321300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лго плавали мы на лодке по Волг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8000" y="436572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одка причалила к бере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9800" y="5373720"/>
            <a:ext cx="49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плыла к нему рыбка и спроси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равильных ответов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лочка на 20 вопрос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йт учителя математики Савченко Елены Михайлов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-savchen.ukoz.ru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260280"/>
            <a:ext cx="83516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опросы кто? что? отвеч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5440" y="227664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61440" y="321300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33800" y="434016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60360" y="53481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05440" y="227664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60360" y="3259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3800" y="4292640"/>
            <a:ext cx="12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61080" y="530064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должи предложение: «Местоимение обозначает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62160" y="2349360"/>
            <a:ext cx="36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существите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5960" y="4292640"/>
            <a:ext cx="50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существительных и глаго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81320" y="5300640"/>
            <a:ext cx="71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существительных, глаголов, прилагательных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61800" y="325908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место прилагатель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место каких частей речи могут употребляться местоимен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79960" y="544500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лежащим и второстепенными член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21800" y="328464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авными член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520" y="4317840"/>
            <a:ext cx="28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лько подлежащ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06160" y="2276640"/>
            <a:ext cx="39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торостепенными член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должи предложение: «Личные местоимения в предложении чаще всего бывают 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07240" y="436572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й, тобой, им, ею, нами, вами, им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77800" y="321300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е, тебе, ему, ей, нам, вам, 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80320" y="544500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, ты, он, она, мы, вы, о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227664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ня, тебя, его, ее, нас, вас, 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6028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тметь строку, все местоимения которой стоят в творительном паде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32720" y="5445000"/>
            <a:ext cx="38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родам, числам, падеж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77800" y="321300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родам и падеж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9080" y="436572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числам и род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720" y="22766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падеж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изменяется имя прилагательно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90880" y="2276640"/>
            <a:ext cx="55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падежу существительного, с котор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язано прилагатель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1040" y="436572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вопросу от существительного к прилагательном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50880" y="544500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вопросу прилагатель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6520" y="328464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кончанию прилагатель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028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Вопрос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определить падеж прилагательны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1</cp:lastModifiedBy>
  <dcterms:modified xsi:type="dcterms:W3CDTF">2011-07-07T13:28:38Z</dcterms:modified>
  <cp:revision>33</cp:revision>
  <dc:subject/>
  <dc:title>Заголовок</dc:title>
</cp:coreProperties>
</file>