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FA36-A5F5-4C3B-8282-3F55FF1C43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родна по степени и характеру снижения слуха, по времени его наступления, по уровню речевого развития и по наличию или отсутствию дополнительных отклонений в разви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F303-D033-4BB0-9E4F-A195677C8E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A9F-0A2D-493D-A6C1-C563ED65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3DD-78BB-4E4C-BECC-F539ABC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A71-02E2-4AA6-8D51-3A736CED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E84-A1B8-42F7-BA75-40797D07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BE37-6413-4D82-9D9B-66684AC5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AE3D-F5D1-4D35-B00E-4328CD65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FE83-524A-4F3C-8C81-86C9F544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9A16-9EDA-4BFE-B208-081DCF50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B26E-A230-42BB-A395-078A46B5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19EA-EBDE-4451-BF48-85BF90FF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4FF0-2FCE-40CF-829F-411AF0B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326-A3FB-4156-B860-AA90DD56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6CAF-14F0-47F8-93D5-7B0F72B7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0079-57B9-46F8-BA0C-2CFF601B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D6DC-A51F-4E1A-8A42-BA538D43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1EF7-5470-49B2-9381-D64B1509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71BB-93C3-483F-A194-AA74FDFC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FF9D-4CAF-42EE-8A7C-D0478C9B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4B387-BDCC-4731-A96B-51AFCD85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0FB9-DE20-4974-B01A-8A97B5C8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ED93-243F-4680-9317-04DBFF9B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135C-A6CE-472A-BC07-861720B2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C18-6D66-49D8-B612-51C4F09C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A22A4-63AB-407E-80F7-C0736EC0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FC79-E30B-4749-A7F2-F697E425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5497-4BBD-464F-85DC-46B50E4D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4D1BA-EBAE-4E61-9665-EC48FD90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BB396-622C-4FB4-AEDC-A63054FF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C3486-B9A0-459F-B1C9-8F8174B2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7F16-0271-463C-B544-D6B4D46C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4E95D-D629-46A1-98DB-3CAAC9E1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E1C5-E0BB-412F-8C2D-529EA5C4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1608D-4DB0-420D-BEC1-79414679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080-106E-4C93-8AD5-D2DC02E6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9E281-85EB-476D-9766-4C734F06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DAE4D-5AD2-47CB-AA3D-8C5E38AC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B000-7DB8-4F99-92B5-FFA141BF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B3658-F422-44E1-A56D-171BD8E9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E9AA7-246E-4587-955B-97BC4781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CFB4-05B2-4000-8E46-FD218A9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E40FE-C60E-46D0-95E8-A93E8BFA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3C006-992E-432E-8222-B6BFBEB3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69B9F-4478-425E-B1B3-4AE374B1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94FE3-F438-4D65-9DF6-BF310A2C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127-8C53-408D-9D17-9FE02CE1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01814-C6E2-41C4-8E31-15AA02DF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64A1A-9E0B-4B40-970E-33293580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FEDF1-B84B-4226-925F-D46E2180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18BD1-540F-4A19-A111-7FBE131F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F80A6-E9CC-4D54-B977-2E57158F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3860-4754-4732-928A-A46560C5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45344-7E2D-4BE3-B072-852007EB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F562-0CE3-46CD-9803-C16D033E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C5C66-D3F9-4307-8FEB-286FE6BF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31E5F-2327-4B7B-98F1-B8641A2D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445-06CA-4D72-8982-8890083B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6CD8B-55D3-45AA-9268-FCE5C856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85664-FF08-49DE-91E4-00D90975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27910-F7B9-43DA-BD11-690B55D8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5ADD1-5F2C-43F8-9C99-B4B1C9B5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55787-E9DC-4E05-A371-E709A7BF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EEE7F-BB96-4819-9B61-C0CAE597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48AC3-F5AB-4F23-8D0E-C4481779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9B117-6A7E-4663-BB69-8F81D83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6EFC3-CECA-441A-90FE-1FFC3F20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36137-BCBC-44A8-94CB-457D7BCE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053-D870-49A2-AEF6-8989FF4E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7535F-6D29-4E5A-9CE9-66A1EE52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4177D-4A6D-42A0-A025-ED53F39B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64EB1-997B-4EC4-834C-897377E5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ECF83-2C4B-4B1E-95F5-925A71F2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ECB93-FC7B-4B3A-8359-62F2483C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E2757-ED93-4C3A-AF7C-C4DE734D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D62CE-7D97-42FB-B6F4-F7329E07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20677-73B8-4E1E-B63F-5E19A55C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338D2-C0A2-4B32-9088-CFC63847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A1CA2-47E9-47B7-817B-FBA9F9BF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DB9-8763-49D7-9FBB-9FD415FA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0B8C9-A419-4A3E-8D38-830CADB5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054E9-466F-483A-B569-A6763079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12B71-4D17-436D-9D64-43630813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F4AC8-847C-44A2-B0FE-434AB3B4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C8C1A-A2EC-40B7-A64C-68D7F0F9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3A6-F51F-465A-8910-E4D00A06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B793-9A17-4043-A636-5BEA4183334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5AAD-A7C7-45D9-81B8-D885044E5AA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5795-4EA9-498D-AE31-A44F8547642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02AE-E500-45F1-8750-6CF4C368D76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B0C9-6695-4EB6-B3A5-608CFAE1D9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66FE-C023-408C-8F44-E08B4E2822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F90D-A71B-460C-B774-CE81CD017B5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85960" y="356760"/>
            <a:ext cx="667224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Роль учителя-дефектолога в развитии и обучении детей с ограниченными возможностями.</a:t>
            </a:r>
            <a:br>
              <a:rPr sz="36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4000680"/>
            <a:ext cx="7407000" cy="2000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атаева Елена Станиславовна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,</a:t>
            </a:r>
            <a:br>
              <a:rPr sz="2600"/>
            </a:b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-дефектолог  </a:t>
            </a:r>
            <a:br>
              <a:rPr sz="2000"/>
            </a:b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валификационной категори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МОУ «СОШ № 40 им. В.Токарева»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г. Бийск, Алтайский кра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Основная форма организации дефектологической работ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57160" y="164268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рупповые и индивидуальные занят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icture 2"/>
          <p:cNvSpPr/>
          <p:nvPr/>
        </p:nvSpPr>
        <p:spPr>
          <a:xfrm>
            <a:off x="428760" y="3214800"/>
            <a:ext cx="389088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icture 3"/>
          <p:cNvSpPr/>
          <p:nvPr/>
        </p:nvSpPr>
        <p:spPr>
          <a:xfrm>
            <a:off x="4714920" y="2500200"/>
            <a:ext cx="394956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Цель занятий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85920" y="2857320"/>
            <a:ext cx="7400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условий, способствующих развитию и овладению учащимися произносительной стороной речи, коррекция познавательной сферы ребенка и развития его лич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Особенности наших детей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едленный темп формирования новых навыко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еобходимость постоянного закрепления приобретенных навыко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частая и быстрая смена внутреннего состояни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трата новых навыко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едостаточная сформированность отдельных психических функций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ыстрая утомляемос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356760"/>
            <a:ext cx="7499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Коммуникативные навык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643040" y="3285720"/>
            <a:ext cx="704376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словесной реч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речевого поведен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мение общаться с окружающим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Результаты коррекционной работ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213920" y="2428560"/>
            <a:ext cx="74725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лучшаются коммуникативные навыки учащих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чь внятная, естественная, эмоциональна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ние в речевом общении естественных невербальных средств коммуникац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намика развития связной речи и умения «чтения с губ»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связной реч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Основная деятельность учителя-дефектолога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2428920"/>
            <a:ext cx="771516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правлена на детей с ограниченными возможностями здоровья, которые испытывают трудности в овладении учебными знаниями, умениями, навыками в специализированных  (коррекционных) условиях обуче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Содержание работы учителя-дефектолога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285560" y="2142720"/>
            <a:ext cx="74120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казание помощ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енку в форме занятий и динамического наблюдения за ходом развит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дителям в форме консультаций по вопросам обучения и воспит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елям и администрации учреждения в форме рекомендац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Профессиональная компетентность дефектолог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99980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явление неблагоприятных вариантов развития и определение учебных трудностей ребенка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ставление индивидуальных комплексных программ развит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инамическое изучение уровня умственного развития детей и результатов коррекционного воздейств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слеживание соответствия выбранной программы, форм, методов и приемов обучения реальным достижениям и уровню развития ребенка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оведение индивидуальных и групповых коррекционных занятий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нсультирование педагогов и родителей по проблемам развития, обучения и воспитания подростк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Направления работы учителя-дефектолог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2857320"/>
            <a:ext cx="749952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агностическо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ррекционное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налитическо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сультативно-просветительское и профилактическо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ганизационно-методическое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f271c"/>
                </a:solidFill>
                <a:latin typeface="Corbel"/>
              </a:rPr>
              <a:t>Категория обучающихся детей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Дети с ЗПР, ДЦП, ТНР, глухие, слабослышащи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двусторонняя хроническая нейросенсорная  глухота и тугоухость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выраженные сопутствующие дефекты и заболевания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ЗПР органического генез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с недостатками зрен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с  патологией внутренних органов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с патологией двигательной сферы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с органическим заболеванием головного мозг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1357200"/>
            <a:ext cx="7543800" cy="35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«Речь – это канал развития интеллекта. Чем раньше будет усвоен язык, тем легче и полнее будут усвоены знания»                                     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                                                     Н.И. Жилкин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428400"/>
            <a:ext cx="75438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Направления коррекционного обучения детей с ОВЗ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357200" y="3071880"/>
            <a:ext cx="73296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ррекция реч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учение навыкам общ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мощь в овладении программным содержание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ррекция повед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Направления коррекционного обучения глухих и слабослышащих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357200" y="2857320"/>
            <a:ext cx="73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учение нормам речевого общ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учение общению словесной речь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слухового восприятия и воспроизведения устной речи 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психических функ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циальная адаптация учащих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7-07T09:54:18Z</dcterms:modified>
  <cp:revision>93</cp:revision>
  <dc:subject/>
  <dc:title>Влияние педагогической компетенции на развитие и обучение детей с ограниченными возможностями здоровья. </dc:title>
</cp:coreProperties>
</file>