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AE23-B50C-46F8-9AA3-5F2C6774C1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родна по степени и характеру снижения слуха, по времени его наступления, по уровню речевого развития и по наличию или отсутствию дополнительных отклонений в развит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6BE5-E658-4F99-A0E3-AE24D7A535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6804-92B1-4743-A202-277973D3D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8365-AE95-4A3C-A9A9-8A340A3B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940E-BACE-4D77-9730-ADE51D9EB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E439-42FB-44E5-BD3A-ECA89BB8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3F4A-AA8B-4A8F-BDB3-486BB3684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7139-67A4-4FC7-849F-28D10D4F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9CF3-44EA-4714-AC43-0FC908FB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9326-834A-4609-9AFF-FEC60845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DD87-FF46-45FF-9591-EAF69C46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F687-75B4-41D2-9C3A-0F0D5992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6F01-C15B-4A83-B3BB-9E9E3E6F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0098-492E-42EB-BEC5-10199A52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1FF0-7989-4036-8E3E-F4E9C8F5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E4EF-A118-4261-9BB1-CE6F5965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9EA5-234E-48AE-AFD4-104A6F27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20198-6E7F-4229-AA1B-ED7BE53CA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08B2-2C68-4E7D-8AF7-4095B20BC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6817B-B341-4DA2-9162-14AD3C6D9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26C63-867B-4D69-8D98-125CDB1A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8E60C-E850-48A8-8C94-85C4F623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5BB84-BFA8-4B99-B30F-C83FDB78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946F3-F3E3-4D57-BC41-E0062216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EAF2-7422-4BBA-A021-9B0DF697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42CBD-9875-47FC-80DC-F7AFCD00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45C25-A8AA-4704-ADD4-1E7AA120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A0D44-ED3E-4FA8-BE9D-D40C1E67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CBD6B-BB14-4494-A0F4-A1F291CE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D88EE-0459-4BA1-8100-358BC985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8EECF-6B84-4483-AE42-CE4F006C3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145C6-65CB-4202-8E81-FCA124F7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D774B-5066-4FE2-A916-2CF7B76FF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469CC-418F-4BF6-AF5D-85CF8920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74053-9DB0-4A70-923C-AAB99035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2B57-EAD4-4360-A4DC-B3ED4E48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4A95A-B0C7-4BFB-8E80-60AE085C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83C28-6B19-4961-B161-BE8F712F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6DF86-04E5-4A58-95EE-519944B4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3238A-76A3-461A-AA89-79B5ABA3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6DC4E-0FDF-421A-B11F-5F7164D6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5176B-A69D-443D-A352-27E86045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BC5B3-AAAD-4516-BDB4-B86E1D6A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BCEB6-031C-4B4F-A223-0E2FB80E9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D5F75-A5B5-41E9-90C6-01AF7B7DA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76D37-83C3-42A7-9DA6-64F38870F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72CE-4639-4487-923D-19E38751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99784-D793-4A67-8A7D-379ED8CF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9DA62-3A2E-42A3-8271-BA2CDBD1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F46C3-2E29-4094-A33D-3FA3A2E3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ED676-FC74-4614-8481-98EFDCE8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23A74-CE9D-4CC2-A0CF-4FF180BE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FE746-902D-4314-82C5-76BED370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331EE-4D0B-4647-A23A-EC241053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88756-2FF8-45A9-8ED0-51418C32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2FF1B-5C57-4091-A2BB-F17E61DD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12AF9-53CA-4EFD-A110-FE791B7C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2B83-3662-45F0-A0B8-86865CDA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3D57C-8989-4127-93CA-5390106EF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3A0AB-0724-40B9-BB63-2E7549FB5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13E30-A6D9-41E0-9623-DE1254C3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D69F1-FC28-41BA-A495-14E17D0D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B6809-0101-4687-BFE2-C8C7EEE2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C24FB-B192-42AD-89E2-D5EE43BE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37B65-72B5-49F7-80F8-D8454E8C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34732-CD65-44AE-B243-0D0875CB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7A3B6-3826-4D68-BDBE-7CA3F8DE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67372-0593-4C72-A7D8-AFACCC08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2ED1-C05B-44F2-ACF3-825210C2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BFD5D-B8CE-45C7-9E38-B87C209B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FF382-6C49-4166-9DB1-FE9A30CDD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4B2F3-F4FC-451F-9AF6-B38343A59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C7D8B-38C2-4CA5-8BA3-B23227980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3888A-92EC-446A-A241-77C81139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33965-42AC-48D9-9A2B-A9F0AA4C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96129-43DA-40B2-9700-BE6E3956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F4C38-3198-4690-8B52-D285BB82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17B58-86C1-4209-9007-AC74A2BC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440AA-FB91-423F-84CD-3B3E5A7B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F72B-3747-4142-BA01-4A1306B5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75D2A-DB65-4108-AE4F-85A0A024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D08FE-393D-4D59-ACD8-4BA21884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75AAC-334A-44A7-AF4D-4228AB2F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A1AF5-0212-41A3-8490-615E85960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A8D3E-815E-4AE1-9B53-B188A548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5478-0785-486F-8524-6A55078B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760E-0551-4FBA-A515-A9F7D24BFDF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C4CF-3C39-4847-B27B-F37BDEDC81F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A650-C2F3-408C-AACC-3650AB659E7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4EC6-1AEB-4B1D-BEA0-CC50D3D877A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8578-8346-4A35-9EAE-234BB591C13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0A15-D344-4238-8FB4-019F8DF4A4B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89B8-6A49-4714-8B8A-ADFA026ACF2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85960" y="356760"/>
            <a:ext cx="667224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72314"/>
                </a:solidFill>
                <a:latin typeface="Corbel"/>
              </a:rPr>
              <a:t>Роль учителя-дефектолога в развитии и обучении детей с ограниченными возможностями.</a:t>
            </a:r>
            <a:br>
              <a:rPr sz="36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4000680"/>
            <a:ext cx="7407000" cy="20001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Сатаева Елена Станиславовна</a:t>
            </a: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,</a:t>
            </a:r>
            <a:br>
              <a:rPr sz="2600"/>
            </a:b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учитель-дефектолог  </a:t>
            </a:r>
            <a:br>
              <a:rPr sz="2000"/>
            </a:br>
            <a:r>
              <a:rPr b="0" lang="en-US" sz="2000" spc="-1" strike="noStrike">
                <a:solidFill>
                  <a:srgbClr val="320e04"/>
                </a:solidFill>
                <a:latin typeface="Gill Sans MT"/>
              </a:rPr>
              <a:t>I </a:t>
            </a: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квалификационной категории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МОУ «СОШ № 40 им. В.Токарева»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г. Бийск, Алтайский край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72314"/>
                </a:solidFill>
                <a:latin typeface="Corbel"/>
              </a:rPr>
              <a:t>Основная форма организации дефектологической работы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57160" y="1642680"/>
            <a:ext cx="749952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рупповые и индивидуальные занятия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icture 2"/>
          <p:cNvSpPr/>
          <p:nvPr/>
        </p:nvSpPr>
        <p:spPr>
          <a:xfrm>
            <a:off x="428760" y="3214800"/>
            <a:ext cx="3890880" cy="29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icture 3"/>
          <p:cNvSpPr/>
          <p:nvPr/>
        </p:nvSpPr>
        <p:spPr>
          <a:xfrm>
            <a:off x="4714920" y="2500200"/>
            <a:ext cx="3949560" cy="29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72314"/>
                </a:solidFill>
                <a:latin typeface="Corbel"/>
              </a:rPr>
              <a:t>Цель занятий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285920" y="2857320"/>
            <a:ext cx="740088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здание условий, способствующих развитию и овладению учащимися произносительной стороной речи, коррекция познавательной сферы ребенка и развития его личност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72314"/>
                </a:solidFill>
                <a:latin typeface="Corbel"/>
              </a:rPr>
              <a:t>Особенности наших детей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785960"/>
            <a:ext cx="749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медленный темп формирования новых навыков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необходимость постоянного закрепления приобретенных навыков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частая и быстрая смена внутреннего состояния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утрата новых навыков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недостаточная сформированность отдельных психических функций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быстрая утомляемость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356760"/>
            <a:ext cx="74995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72314"/>
                </a:solidFill>
                <a:latin typeface="Corbel"/>
              </a:rPr>
              <a:t>Коммуникативные навыки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643040" y="3285720"/>
            <a:ext cx="704376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витие словесной реч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витие речевого поведения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мение общаться с окружающим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72314"/>
                </a:solidFill>
                <a:latin typeface="Corbel"/>
              </a:rPr>
              <a:t>Результаты коррекционной работы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213920" y="2428560"/>
            <a:ext cx="74725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лучшаются коммуникативные навыки учащихс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ечь внятная, естественная, эмоциональна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спользование в речевом общении естественных невербальных средств коммуникаци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инамика развития связной речи и умения «чтения с губ»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витие связной реч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572314"/>
                </a:solidFill>
                <a:latin typeface="Corbel"/>
              </a:rPr>
              <a:t>Основная деятельность учителя-дефектолога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142640" y="2428920"/>
            <a:ext cx="771516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правлена на детей с ограниченными возможностями здоровья, которые испытывают трудности в овладении учебными знаниями, умениями, навыками в специализированных  (коррекционных) условиях обучения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72314"/>
                </a:solidFill>
                <a:latin typeface="Corbel"/>
              </a:rPr>
              <a:t>Содержание работы учителя-дефектолога 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285560" y="2142720"/>
            <a:ext cx="7412040" cy="40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казание помощи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ебенку в форме занятий и динамического наблюдения за ходом развит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одителям в форме консультаций по вопросам обучения и воспита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чителям и администрации учреждения в форме рекомендаци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72314"/>
                </a:solidFill>
                <a:latin typeface="Corbel"/>
              </a:rPr>
              <a:t>Профессиональная компетентность дефектолога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999800"/>
            <a:ext cx="74995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ыявление неблагоприятных вариантов развития и определение учебных трудностей ребенка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оставление индивидуальных комплексных программ развития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динамическое изучение уровня умственного развития детей и результатов коррекционного воздействия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тслеживание соответствия выбранной программы, форм, методов и приемов обучения реальным достижениям и уровню развития ребенка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роведение индивидуальных и групповых коррекционных занятий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онсультирование педагогов и родителей по проблемам развития, обучения и воспитания подростков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72314"/>
                </a:solidFill>
                <a:latin typeface="Corbel"/>
              </a:rPr>
              <a:t>Направления работы учителя-дефектолога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2857320"/>
            <a:ext cx="7499520" cy="33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иагностическое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ррекционное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налитическое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нсультативно-просветительское и профилактическое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рганизационно-методическое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74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f271c"/>
                </a:solidFill>
                <a:latin typeface="Corbel"/>
              </a:rPr>
              <a:t>Категория обучающихся детей 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642680"/>
            <a:ext cx="749952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  <a:ea typeface="Times New Roman"/>
              </a:rPr>
              <a:t>Дети с ЗПР, ДЦП, ТНР, глухие, слабослышащие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  <a:ea typeface="Times New Roman"/>
              </a:rPr>
              <a:t>двусторонняя хроническая нейросенсорная  глухота и тугоухость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  <a:ea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  <a:ea typeface="Times New Roman"/>
              </a:rPr>
              <a:t>выраженные сопутствующие дефекты и заболевания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  <a:ea typeface="Times New Roman"/>
              </a:rPr>
              <a:t>ЗПР органического генез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  <a:ea typeface="Times New Roman"/>
              </a:rPr>
              <a:t>с недостатками зрения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  <a:ea typeface="Times New Roman"/>
              </a:rPr>
              <a:t>с  патологией внутренних органов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  <a:ea typeface="Times New Roman"/>
              </a:rPr>
              <a:t>с патологией двигательной сферы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  <a:ea typeface="Times New Roman"/>
              </a:rPr>
              <a:t>с органическим заболеванием головного мозг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2640" y="1357200"/>
            <a:ext cx="7543800" cy="35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1" i="1" lang="ru-RU" sz="3200" spc="-1" strike="noStrike">
                <a:solidFill>
                  <a:srgbClr val="572314"/>
                </a:solidFill>
                <a:latin typeface="Corbel"/>
              </a:rPr>
              <a:t>«Речь – это канал развития интеллекта. Чем раньше будет усвоен язык, тем легче и полнее будут усвоены знания»                                      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572314"/>
                </a:solidFill>
                <a:latin typeface="Corbel"/>
              </a:rPr>
              <a:t>                                                     Н.И. Жилкин</a:t>
            </a: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42640" y="428400"/>
            <a:ext cx="754380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72314"/>
                </a:solidFill>
                <a:latin typeface="Corbel"/>
              </a:rPr>
              <a:t>Направления коррекционного обучения детей с ОВЗ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357200" y="3071880"/>
            <a:ext cx="732960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ррекция реч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учение навыкам общени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мощь в овладении программным содержанием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ррекция поведени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7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72314"/>
                </a:solidFill>
                <a:latin typeface="Corbel"/>
              </a:rPr>
              <a:t>Направления коррекционного обучения глухих и слабослышащих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357200" y="2857320"/>
            <a:ext cx="73296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учение нормам речевого общени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учение общению словесной речью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витие слухового восприятия и воспроизведения устной речи 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витие психических функци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циальная адаптация учащихс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7-07T09:54:18Z</dcterms:modified>
  <cp:revision>93</cp:revision>
  <dc:subject/>
  <dc:title>Влияние педагогической компетенции на развитие и обучение детей с ограниченными возможностями здоровья. </dc:title>
</cp:coreProperties>
</file>