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CDA1-13D9-4DED-95D8-0574FAB0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13C6-1953-4DBF-A971-417AAF3A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605B-BDAC-4891-A0DA-E863408B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DE50-2976-4BA1-ABA7-A3733471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49F1-A2E5-41FD-8EE1-61AB31EB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2C47-B45D-4001-9F23-C5EF4B8D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DA3A-03A2-435D-A5C3-C8152A53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A6EA-2B4D-41D6-B546-79A24BBF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FBAD-97CF-48F3-A132-4716657C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9308-0FA6-4689-A949-D16EBAE2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9EDF-C20F-4E64-8A17-00680AEE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DC7E-F885-493A-B2E9-78E64D04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E0E7-18C9-4E33-A352-4C0332289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9cc00"/>
                </a:solidFill>
                <a:latin typeface="Arial"/>
              </a:rPr>
              <a:t>АЛОЭ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Выполнил Зайцев Алёша      ученик 1 класса «Б»                         МОУ «СОШ №2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19321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Лекарственное растение                   АЛО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Он служит для человека как заживляющее средство от порезов , глубоких ран и также как очищающее средство от грязи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Листья этого растения прикладываются к ранке и ранка зажи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Это растение можно вырастить до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Растёт в тёплых стра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Приносит пользу челове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211880" y="4869000"/>
            <a:ext cx="19321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Arial"/>
              </a:rPr>
              <a:t>Ало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Алоэ входит в состав многих лекарственных средств. В медицине используют свежие листья алоэ, которые собирают по мере вырастания. Уникальность целебных свойств алоэ обусловлена полупрозрачным густым желе, скрывающимся в листьях. В нем и содержатся ценнейшие лекарственные ве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00680" y="1600200"/>
            <a:ext cx="3531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4-06T03:36:25Z</dcterms:created>
  <dc:creator>User</dc:creator>
  <dc:description/>
  <dc:language>en-US</dc:language>
  <cp:lastModifiedBy>User</cp:lastModifiedBy>
  <dcterms:modified xsi:type="dcterms:W3CDTF">1980-04-06T07:00:30Z</dcterms:modified>
  <cp:revision>3</cp:revision>
  <dc:subject/>
  <dc:title>АЛОЭ</dc:title>
</cp:coreProperties>
</file>