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876F-EC99-4B70-9E05-F41758E6A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25B4-BC6F-47C5-97AC-9330A248F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3D58-951D-4101-BC97-6F32052D3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E5A2-D3AA-4B40-99DD-E2102B041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902C-CF21-43F0-82DE-BC65120C7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5F9B-A066-46F1-9BD1-584E6B52F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E338-50F7-4715-9112-B2226C395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9AE2-982C-4698-A709-20880AA9A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C676-074F-4C0D-A630-354E1D0EE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16D2-BF27-4084-B84F-0477D1229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07C8-D94E-41CA-965F-8E6812BF9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9BE3-6998-49CD-96FA-513971D92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EFEE2-D8D9-4C1B-B13D-B62D439803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99cc00"/>
                </a:solidFill>
                <a:latin typeface="Arial"/>
              </a:rPr>
              <a:t>АЛОЭ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Выполнил Зайцев Алёша      ученик 1 класса «Б»                         МОУ «СОШ №2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193212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00"/>
                </a:solidFill>
                <a:latin typeface="Arial"/>
              </a:rPr>
              <a:t>Лекарственное растение                   АЛО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Он служит для человека как заживляющее средство от порезов , глубоких ран и также как очищающее средство от грязи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Листья этого растения прикладываются к ранке и ранка зажив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Это растение можно вырастить до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Растёт в тёплых стран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Приносит пользу челове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211880" y="4869000"/>
            <a:ext cx="193212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00"/>
                </a:solidFill>
                <a:latin typeface="Arial"/>
              </a:rPr>
              <a:t>Ало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Алоэ входит в состав многих лекарственных средств. В медицине используют свежие листья алоэ, которые собирают по мере вырастания. Уникальность целебных свойств алоэ обусловлена полупрозрачным густым желе, скрывающимся в листьях. В нем и содержатся ценнейшие лекарственные веще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900680" y="1600200"/>
            <a:ext cx="3531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80-04-06T03:36:25Z</dcterms:created>
  <dc:creator>User</dc:creator>
  <dc:description/>
  <dc:language>en-US</dc:language>
  <cp:lastModifiedBy>User</cp:lastModifiedBy>
  <dcterms:modified xsi:type="dcterms:W3CDTF">1980-04-06T07:00:30Z</dcterms:modified>
  <cp:revision>3</cp:revision>
  <dc:subject/>
  <dc:title>АЛОЭ</dc:title>
</cp:coreProperties>
</file>