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C7C-0721-48B2-BCBE-BC4E3720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5FA-6033-4C0D-BEBF-8C55737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9E3-3D99-4835-BE66-45DCD61B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9BB-5A07-48FC-B20B-5A7ADED1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ECA1-ABEC-4580-9504-0995F4EF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D25F-0D39-4512-958C-26D5FC4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B164-70A0-4D6D-9C32-58234B0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E9E0-5FAA-4599-81BD-62DA516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403-625C-4DB6-B0E6-4E217AF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DAC-BC89-4232-8B11-4AA894CA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967-C3D1-42DA-A549-C6240F4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E6E-801F-4423-8147-6BB39A37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6276-56B0-42E2-832E-BDDA00C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9983-B998-4CB5-A401-905F009B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533-C0D4-4E9F-A8C7-2E390662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888-4974-460D-B391-0E4A808F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07CB-88B9-47AD-9B3E-C83E6ED0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1D6-5573-41FC-8C29-F94FCDE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DC8-892B-45F6-90EB-BC33A92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287-9B36-4133-A548-E5B83E7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242-4DC5-4B94-B759-B1C02ECB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52A-6E8E-4EC8-A4F2-6C9DFD4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1B4-B511-4B7E-ABB3-E9D4AA5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896-02A8-473C-BB56-B997A64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031-927F-4DCF-A232-6BF359615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AC52-7548-4051-854E-94DAE1224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алендул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олнил Козлов Н.                               ученик 1 класса «Б»                                  МОУ «СОШ №2» г.Назар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662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екарственное растение Календул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8520" y="1575360"/>
            <a:ext cx="448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ЛЕНДУЛА, род трав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кустарников семей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ложноцветных. Св. 20 вид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лавным образом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иземноморье; растет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рских побережьях, в заросл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старников, на скал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елывают календу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карственную (ноготк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мую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зинфицирующе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покаивающее средство,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кже как пищевой красител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89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64556" b="46879"/>
          <a:stretch/>
        </p:blipFill>
        <p:spPr>
          <a:xfrm>
            <a:off x="179280" y="1773360"/>
            <a:ext cx="4164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4:09:48Z</dcterms:created>
  <dc:creator>User</dc:creator>
  <dc:description/>
  <dc:language>en-US</dc:language>
  <cp:lastModifiedBy>User</cp:lastModifiedBy>
  <dcterms:modified xsi:type="dcterms:W3CDTF">2008-05-24T00:31:46Z</dcterms:modified>
  <cp:revision>4</cp:revision>
  <dc:subject/>
  <dc:title>Календула</dc:title>
</cp:coreProperties>
</file>