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4B3-2A42-49D4-BA10-6B0BD4A9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7A5-762C-4BAC-ACD1-0B410469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7D5-7CC7-4A97-BDE8-57058A40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54A-BC3F-495D-A355-D750E9A0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8663-CA9D-4DEB-8ECE-C81103A3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32F3-5606-4457-9BBC-7691C155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281F-221F-48B0-A1C5-F86B6845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A198-5354-4267-ABF4-120FE21B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D8A0-4623-46FE-9FBF-3DCB2BD3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7677-DBFA-46E9-8FAA-0AFD69E7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97A7-F085-4D8B-93F0-659B6327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161-D168-4F44-AB6B-1A08081C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70E6-EBAF-4096-9FF3-2E5FE336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54B7-7BF0-4D2E-BB55-18084C59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EA03-8BFC-40A0-8BA2-A47FF992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08A1-3BE4-4B7D-95B9-6BAE55A0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6C8A-F4D3-48BF-B9A2-16899CEE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CE0-0362-4EFE-A5E8-7D7AD7AD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8E0-D8C4-4A21-B544-2CA74749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035-5447-4256-933B-3CBE186F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4EE-D3B3-44E5-8EEB-D0CA1090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74E-9327-433A-81C3-BCBD3D17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25D-7189-43CA-BCD6-A0360959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4B8E-8DC0-468C-98BC-8FE6EB74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E801-056E-48B3-9EBD-67E3CB82B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B45B-0A06-47EF-A36B-2D5FA9435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Календул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полнил Козлов Н.                               ученик 1 класса «Б»                                  МОУ «СОШ №2» г.Назаро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6624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Лекарственное растение Календул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38520" y="1575360"/>
            <a:ext cx="448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ЛЕНДУЛА, род трав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укустарников семей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ложноцветных. Св. 20 вид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лавным образом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едиземноморье; растет 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рских побережьях, в заросл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устарников, на скала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зделывают календул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карственную (ноготки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пользуемую ка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зинфицирующее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спокаивающее средство, 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акже как пищевой краситель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коративное раст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989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0" r="64556" b="46879"/>
          <a:stretch/>
        </p:blipFill>
        <p:spPr>
          <a:xfrm>
            <a:off x="179280" y="1773360"/>
            <a:ext cx="41641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4-05T04:09:48Z</dcterms:created>
  <dc:creator>User</dc:creator>
  <dc:description/>
  <dc:language>en-US</dc:language>
  <cp:lastModifiedBy>User</cp:lastModifiedBy>
  <dcterms:modified xsi:type="dcterms:W3CDTF">2008-05-24T00:31:46Z</dcterms:modified>
  <cp:revision>4</cp:revision>
  <dc:subject/>
  <dc:title>Календула</dc:title>
</cp:coreProperties>
</file>