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56C-5B97-42A9-B351-F35CEBDD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354-5450-4BED-B6A1-F544BFEA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6B4-028C-46F6-A272-5AC90B5C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270-21BE-4075-A494-E69F75FA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98F-E539-44BC-9EA2-0CE065AC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BC6-12FB-4848-AE9D-55AD2590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047-D66C-4A27-BAF6-5E6AC49C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217-D132-4B90-A2D1-ECED6FA4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C57-9F22-458E-B9CB-DB04B183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677-E262-4EF5-9EF1-800454A0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074-3CAB-424A-8554-D8703B42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EA4-FD2E-49A7-B430-6AF2D1FB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E48F-D9B0-48BA-A773-DA12AA12E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ff99"/>
                </a:solidFill>
                <a:latin typeface="Arial"/>
              </a:rPr>
              <a:t>Календ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Выполнил  уче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Полонянкин Дмитр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ученик 1 класса «Б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МОУ «СОШ№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400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</a:rPr>
              <a:t>Лекарственное растение Календу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Однолетнее растение. Цветёт с июня до осени. Как лекарственное растение известно давно. Входит в состав нескольких препаратов. Применяют как внутрь, так и наружно как антисептическое ,противоспалительное, ранозаживляющее средство. В народной медицине календула применяется как успокающее средство и при бессонн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ff99"/>
                </a:solidFill>
                <a:latin typeface="Arial"/>
              </a:rPr>
              <a:t>Сбо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Собирать нужно в период цвет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Сушить в проветриваемом помещ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Хранить  в плотных ящиках с бумажной проклад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Хранить не более 4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5084640"/>
            <a:ext cx="75610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6T04:02:55Z</dcterms:created>
  <dc:creator>User</dc:creator>
  <dc:description/>
  <dc:language>en-US</dc:language>
  <cp:lastModifiedBy>*</cp:lastModifiedBy>
  <dcterms:modified xsi:type="dcterms:W3CDTF">2008-05-23T17:11:24Z</dcterms:modified>
  <cp:revision>3</cp:revision>
  <dc:subject/>
  <dc:title>Календула</dc:title>
</cp:coreProperties>
</file>