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233-C614-4409-B58D-E6ABD286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A07-5F49-4BB9-A5BD-10BEBAA1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070-B24F-4D36-8E94-781BD0D5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856-DD70-426A-A992-8A55FA3C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1CD8-DB1C-4F40-96A5-78113F5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7C2-AC9F-449D-9926-24201C9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9CC-2B69-4350-8B92-B7B96B0E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0C0-2295-4F4D-9C2D-76FB0EED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755-4A28-4E39-AF1F-DFB8ECB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782-F014-4B05-A7B1-F662DA7A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37C-8D19-407F-A1BC-42C94C7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37E-FB04-4805-95B0-62383EB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B14F-1756-4617-B888-ABFF7DF32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rial"/>
              </a:rPr>
              <a:t>Календ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Выполнил  уче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Полонянкин Дмитр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ученик 1 класса «Б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МОУ «СОШ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40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Лекарственное растение Календу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Однолетнее растение. Цветёт с июня до осени. Как лекарственное растение известно давно. Входит в состав нескольких препаратов. Применяют как внутрь, так и наружно как антисептическое ,противоспалительное, ранозаживляющее средство. В народной медицине календула применяется как успокающее средство и при бессонн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ff99"/>
                </a:solidFill>
                <a:latin typeface="Arial"/>
              </a:rPr>
              <a:t>Сбо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Собирать нужно в период цвет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Сушить в проветриваемом помещ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Хранить  в плотных ящиках с бумажной проклад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Хранить не более 4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5084640"/>
            <a:ext cx="75610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4:02:55Z</dcterms:created>
  <dc:creator>User</dc:creator>
  <dc:description/>
  <dc:language>en-US</dc:language>
  <cp:lastModifiedBy>*</cp:lastModifiedBy>
  <dcterms:modified xsi:type="dcterms:W3CDTF">2008-05-23T17:11:24Z</dcterms:modified>
  <cp:revision>3</cp:revision>
  <dc:subject/>
  <dc:title>Календула</dc:title>
</cp:coreProperties>
</file>