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7383-456A-4980-913B-AA20D4314F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1CA-55BA-4606-B866-705A221BB0C9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82F-7500-471E-BE9C-8022B8554A1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2A5A-C0E3-4960-9984-4F9F7D17D6D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CC4C-D153-4ED0-B7F0-2EB4D41CD8B7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034A-98B6-45F9-8C2D-BF8173094AD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3405-9485-489E-B491-94E2064EBD5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E58D-8B7B-4345-9D40-557CB29887B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3149-BF2D-42F0-9E3B-E38F59B19FC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C0B-1CF3-4753-90D7-8E823FA91B84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A1FD-596D-4ED0-89B8-16AF69BD84BA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DC83-B644-4C4D-A674-5FCD595D318B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9832-D2AA-4314-B257-4725D33072D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14B-363A-4E0E-9757-ABF5C9A6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AE9-4FE5-40F1-82CD-7F46141B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564-A0E3-47D9-ADEE-6EFCEB90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DD4-AC05-4D2A-BA04-D826353D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2F5-F7E7-4B9A-A322-370138E1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003-571E-4A5C-BB9A-A7F5E4C0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FB8-BBA9-4B06-BB2F-717FCD79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878-B40E-4D6C-9E98-E0DE81BB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BAB-1887-4479-BF94-E75D6B7E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622-6C45-47E5-8661-71F1A18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E8A-2902-47E1-AE04-B7724D1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8F5-15F0-4C82-93B9-3C73648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2CB-0428-482C-890B-30110AB8C651}" type="datetime">
              <a:rPr b="0" lang="en-US" sz="14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D1E-3DB9-4E31-A453-430331C7ED8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285920"/>
            <a:ext cx="8065800" cy="681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Космическое путешествие</a:t>
            </a:r>
            <a:endParaRPr b="0" lang="en-US" sz="4000" spc="-1" strike="noStrike">
              <a:solidFill>
                <a:srgbClr val="e3ebf1"/>
              </a:solidFill>
              <a:latin typeface="Verdana"/>
            </a:endParaRPr>
          </a:p>
        </p:txBody>
      </p:sp>
      <p:pic>
        <p:nvPicPr>
          <p:cNvPr id="49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857760" y="2928960"/>
            <a:ext cx="1377720" cy="170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85920" y="2286000"/>
            <a:ext cx="6858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тематика  6 клас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бобщающий урок проверки знаний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"/>
          <p:cNvPicPr/>
          <p:nvPr/>
        </p:nvPicPr>
        <p:blipFill>
          <a:blip r:embed="rId1"/>
          <a:srcRect l="0" t="0" r="-79" b="0"/>
          <a:stretch/>
        </p:blipFill>
        <p:spPr>
          <a:xfrm>
            <a:off x="8280360" y="0"/>
            <a:ext cx="863640" cy="287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720" y="-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20" y="-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24000" y="17060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тешествие подошло к концу. Чтобы посадить корабли на Землю необходимо рассчитать площадь и периметр  посадочной площадки, которая является квадратом со стороной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000840" y="300204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S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= 2,56 км</a:t>
            </a:r>
            <a:r>
              <a:rPr b="0" lang="ru-RU" sz="1600" spc="-1" strike="noStrike" baseline="30000">
                <a:solidFill>
                  <a:srgbClr val="ffffff"/>
                </a:solidFill>
                <a:latin typeface="Verdana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= 6,4 к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3995640" y="2276640"/>
                <a:ext cx="9288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0" y="3786120"/>
            <a:ext cx="3929040" cy="30830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5"/>
          <p:cNvSpPr/>
          <p:nvPr/>
        </p:nvSpPr>
        <p:spPr>
          <a:xfrm>
            <a:off x="428760" y="6429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Расчет посад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1" descr="27"/>
          <p:cNvPicPr/>
          <p:nvPr/>
        </p:nvPicPr>
        <p:blipFill>
          <a:blip r:embed="rId2"/>
          <a:stretch/>
        </p:blipFill>
        <p:spPr>
          <a:xfrm>
            <a:off x="4284720" y="3716280"/>
            <a:ext cx="4572000" cy="240048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7"/>
          <p:cNvSpPr/>
          <p:nvPr/>
        </p:nvSpPr>
        <p:spPr>
          <a:xfrm>
            <a:off x="428760" y="6429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00040" y="179316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нарисуйте какую-нибудь фигуру в координатной системе       с помощью ломаной линии и запишите координаты вершин ломаной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Можно нарисовать рисунок на космическую тем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26"/>
          <p:cNvPicPr/>
          <p:nvPr/>
        </p:nvPicPr>
        <p:blipFill>
          <a:blip r:embed="rId1"/>
          <a:stretch/>
        </p:blipFill>
        <p:spPr>
          <a:xfrm>
            <a:off x="428760" y="2857680"/>
            <a:ext cx="2000160" cy="229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2928960" y="1428840"/>
          <a:ext cx="4572000" cy="4387680"/>
        </p:xfrm>
        <a:graphic>
          <a:graphicData uri="http://schemas.openxmlformats.org/drawingml/2006/table">
            <a:tbl>
              <a:tblPr/>
              <a:tblGrid>
                <a:gridCol w="253800"/>
                <a:gridCol w="25416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254160"/>
                <a:gridCol w="261720"/>
                <a:gridCol w="246240"/>
                <a:gridCol w="253800"/>
                <a:gridCol w="254160"/>
              </a:tblGrid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2928960" y="1428480"/>
            <a:ext cx="4572000" cy="4429080"/>
            <a:chOff x="2928960" y="1428480"/>
            <a:chExt cx="4572000" cy="4429080"/>
          </a:xfrm>
        </p:grpSpPr>
        <p:sp>
          <p:nvSpPr>
            <p:cNvPr id="168" name="Line 14"/>
            <p:cNvSpPr/>
            <p:nvPr/>
          </p:nvSpPr>
          <p:spPr>
            <a:xfrm flipV="1">
              <a:off x="5214960" y="1428480"/>
              <a:ext cx="0" cy="442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2928960" y="3857400"/>
              <a:ext cx="45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 flipH="1" flipV="1">
              <a:off x="4222440" y="3034080"/>
              <a:ext cx="1571760" cy="1809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Line 11"/>
            <p:cNvSpPr/>
            <p:nvPr/>
          </p:nvSpPr>
          <p:spPr>
            <a:xfrm>
              <a:off x="4222440" y="3034440"/>
              <a:ext cx="1992240" cy="808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 flipH="1">
              <a:off x="4500360" y="3850560"/>
              <a:ext cx="1800000" cy="707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 flipV="1">
              <a:off x="4499640" y="2844000"/>
              <a:ext cx="1000080" cy="1714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500440" y="2843280"/>
              <a:ext cx="285840" cy="200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5" name="TextBox 16"/>
          <p:cNvSpPr/>
          <p:nvPr/>
        </p:nvSpPr>
        <p:spPr>
          <a:xfrm>
            <a:off x="785880" y="42876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от такая звездочка получилась у экипажа №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9680" y="571320"/>
            <a:ext cx="53578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Проверка готовности 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путешествию</a:t>
            </a: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(устный счет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" name="Picture 11" descr="4"/>
          <p:cNvPicPr/>
          <p:nvPr/>
        </p:nvPicPr>
        <p:blipFill>
          <a:blip r:embed="rId1"/>
          <a:srcRect l="0" t="0" r="0" b="47"/>
          <a:stretch/>
        </p:blipFill>
        <p:spPr>
          <a:xfrm>
            <a:off x="5786280" y="428760"/>
            <a:ext cx="2805120" cy="221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4786200" y="4071960"/>
                <a:ext cx="164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6500880" y="4071960"/>
                <a:ext cx="153036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5" name=""/>
          <p:cNvGraphicFramePr/>
          <p:nvPr/>
        </p:nvGraphicFramePr>
        <p:xfrm>
          <a:off x="1214280" y="3000240"/>
          <a:ext cx="6929640" cy="3071880"/>
        </p:xfrm>
        <a:graphic>
          <a:graphicData uri="http://schemas.openxmlformats.org/drawingml/2006/table">
            <a:tbl>
              <a:tblPr/>
              <a:tblGrid>
                <a:gridCol w="1731960"/>
                <a:gridCol w="1731960"/>
                <a:gridCol w="1733760"/>
                <a:gridCol w="1731960"/>
              </a:tblGrid>
              <a:tr h="102420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 :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 : (–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∙ (–1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 ∙ (–10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 ∙ (–0,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8"/>
              <p:cNvSpPr txBox="1"/>
              <p:nvPr/>
            </p:nvSpPr>
            <p:spPr>
              <a:xfrm>
                <a:off x="3357720" y="4143240"/>
                <a:ext cx="1199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0"/>
              <p:cNvSpPr txBox="1"/>
              <p:nvPr/>
            </p:nvSpPr>
            <p:spPr>
              <a:xfrm>
                <a:off x="1500120" y="5124600"/>
                <a:ext cx="1143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2"/>
              <p:cNvSpPr txBox="1"/>
              <p:nvPr/>
            </p:nvSpPr>
            <p:spPr>
              <a:xfrm>
                <a:off x="3000240" y="5143680"/>
                <a:ext cx="1684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34"/>
              <p:cNvSpPr txBox="1"/>
              <p:nvPr/>
            </p:nvSpPr>
            <p:spPr>
              <a:xfrm>
                <a:off x="5000760" y="5143680"/>
                <a:ext cx="11430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6"/>
              <p:cNvSpPr txBox="1"/>
              <p:nvPr/>
            </p:nvSpPr>
            <p:spPr>
              <a:xfrm>
                <a:off x="6715080" y="5156280"/>
                <a:ext cx="10000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6762600" y="2286000"/>
            <a:ext cx="2381400" cy="4210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357800" y="2500200"/>
          <a:ext cx="3357360" cy="1214640"/>
        </p:xfrm>
        <a:graphic>
          <a:graphicData uri="http://schemas.openxmlformats.org/drawingml/2006/table">
            <a:tbl>
              <a:tblPr/>
              <a:tblGrid>
                <a:gridCol w="560160"/>
                <a:gridCol w="559080"/>
                <a:gridCol w="560160"/>
                <a:gridCol w="558720"/>
                <a:gridCol w="560520"/>
                <a:gridCol w="558720"/>
              </a:tblGrid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42960" y="4929120"/>
          <a:ext cx="3143160" cy="1214640"/>
        </p:xfrm>
        <a:graphic>
          <a:graphicData uri="http://schemas.openxmlformats.org/drawingml/2006/table">
            <a:tbl>
              <a:tblPr/>
              <a:tblGrid>
                <a:gridCol w="523800"/>
                <a:gridCol w="476280"/>
                <a:gridCol w="571680"/>
                <a:gridCol w="523800"/>
                <a:gridCol w="523800"/>
                <a:gridCol w="523800"/>
              </a:tblGrid>
              <a:tr h="590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1285920" y="1071720"/>
                <a:ext cx="2500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6"/>
              <p:cNvSpPr txBox="1"/>
              <p:nvPr/>
            </p:nvSpPr>
            <p:spPr>
              <a:xfrm>
                <a:off x="1285920" y="2571840"/>
                <a:ext cx="214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1285920" y="3929040"/>
                <a:ext cx="2500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24"/>
          <p:cNvSpPr/>
          <p:nvPr/>
        </p:nvSpPr>
        <p:spPr>
          <a:xfrm>
            <a:off x="4412880" y="75168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Rectangle 25"/>
          <p:cNvSpPr/>
          <p:nvPr/>
        </p:nvSpPr>
        <p:spPr>
          <a:xfrm>
            <a:off x="381960" y="26438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2 ря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381960" y="41439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3 ря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Прямоугольник 30"/>
          <p:cNvSpPr/>
          <p:nvPr/>
        </p:nvSpPr>
        <p:spPr>
          <a:xfrm>
            <a:off x="428760" y="21420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Задания для экипажей ракет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Прямоугольник 31"/>
          <p:cNvSpPr/>
          <p:nvPr/>
        </p:nvSpPr>
        <p:spPr>
          <a:xfrm>
            <a:off x="214200" y="1071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1 ряд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57800" y="928800"/>
          <a:ext cx="3341520" cy="1357200"/>
        </p:xfrm>
        <a:graphic>
          <a:graphicData uri="http://schemas.openxmlformats.org/drawingml/2006/table">
            <a:tbl>
              <a:tblPr/>
              <a:tblGrid>
                <a:gridCol w="557280"/>
                <a:gridCol w="556920"/>
                <a:gridCol w="555840"/>
                <a:gridCol w="557280"/>
                <a:gridCol w="556920"/>
                <a:gridCol w="557280"/>
              </a:tblGrid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33"/>
              <p:cNvSpPr txBox="1"/>
              <p:nvPr/>
            </p:nvSpPr>
            <p:spPr>
              <a:xfrm>
                <a:off x="4500720" y="1000080"/>
                <a:ext cx="357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32"/>
              <p:cNvSpPr txBox="1"/>
              <p:nvPr/>
            </p:nvSpPr>
            <p:spPr>
              <a:xfrm>
                <a:off x="5500800" y="1000080"/>
                <a:ext cx="428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1"/>
              <p:cNvSpPr txBox="1"/>
              <p:nvPr/>
            </p:nvSpPr>
            <p:spPr>
              <a:xfrm>
                <a:off x="6072120" y="965160"/>
                <a:ext cx="42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0"/>
              <p:cNvSpPr txBox="1"/>
              <p:nvPr/>
            </p:nvSpPr>
            <p:spPr>
              <a:xfrm>
                <a:off x="6643800" y="1000080"/>
                <a:ext cx="4284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9"/>
              <p:cNvSpPr txBox="1"/>
              <p:nvPr/>
            </p:nvSpPr>
            <p:spPr>
              <a:xfrm>
                <a:off x="7215120" y="1000080"/>
                <a:ext cx="46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4"/>
              <p:cNvSpPr txBox="1"/>
              <p:nvPr/>
            </p:nvSpPr>
            <p:spPr>
              <a:xfrm>
                <a:off x="4429080" y="2500200"/>
                <a:ext cx="285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6"/>
              <p:cNvSpPr txBox="1"/>
              <p:nvPr/>
            </p:nvSpPr>
            <p:spPr>
              <a:xfrm>
                <a:off x="5572080" y="2462040"/>
                <a:ext cx="3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8"/>
              <p:cNvSpPr txBox="1"/>
              <p:nvPr/>
            </p:nvSpPr>
            <p:spPr>
              <a:xfrm>
                <a:off x="6072120" y="2500200"/>
                <a:ext cx="405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0"/>
              <p:cNvSpPr txBox="1"/>
              <p:nvPr/>
            </p:nvSpPr>
            <p:spPr>
              <a:xfrm>
                <a:off x="6715080" y="2500200"/>
                <a:ext cx="357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42"/>
              <p:cNvSpPr txBox="1"/>
              <p:nvPr/>
            </p:nvSpPr>
            <p:spPr>
              <a:xfrm>
                <a:off x="7286760" y="2500200"/>
                <a:ext cx="3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4"/>
              <p:cNvSpPr txBox="1"/>
              <p:nvPr/>
            </p:nvSpPr>
            <p:spPr>
              <a:xfrm>
                <a:off x="714240" y="4929120"/>
                <a:ext cx="46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6"/>
              <p:cNvSpPr txBox="1"/>
              <p:nvPr/>
            </p:nvSpPr>
            <p:spPr>
              <a:xfrm>
                <a:off x="1714680" y="4929120"/>
                <a:ext cx="431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8"/>
              <p:cNvSpPr txBox="1"/>
              <p:nvPr/>
            </p:nvSpPr>
            <p:spPr>
              <a:xfrm>
                <a:off x="2286000" y="4929120"/>
                <a:ext cx="4287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50"/>
              <p:cNvSpPr txBox="1"/>
              <p:nvPr/>
            </p:nvSpPr>
            <p:spPr>
              <a:xfrm>
                <a:off x="2857680" y="4929120"/>
                <a:ext cx="357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" name="Rectangle 52"/>
          <p:cNvSpPr/>
          <p:nvPr/>
        </p:nvSpPr>
        <p:spPr>
          <a:xfrm>
            <a:off x="4071960" y="4862880"/>
            <a:ext cx="3357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В примере три действия, результат каждого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действия имеет свой код. В итоге получаем номер ракеты. Он будет состоять из 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двух букв 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и </a:t>
            </a:r>
            <a:r>
              <a:rPr b="1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одной цифры</a:t>
            </a:r>
            <a:r>
              <a:rPr b="0" lang="en-US" sz="1400" spc="-1" strike="noStrike">
                <a:solidFill>
                  <a:srgbClr val="ff0066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00040" y="357120"/>
            <a:ext cx="7161120" cy="11620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Verdana"/>
              </a:rPr>
              <a:t>Блиц-турнир для командиров экипажей</a:t>
            </a: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900000" y="1500120"/>
            <a:ext cx="474372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2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Picture 8" descr="Earth"/>
          <p:cNvPicPr/>
          <p:nvPr/>
        </p:nvPicPr>
        <p:blipFill>
          <a:blip r:embed="rId3"/>
          <a:stretch/>
        </p:blipFill>
        <p:spPr>
          <a:xfrm>
            <a:off x="6572160" y="2928960"/>
            <a:ext cx="2571840" cy="2571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285840" y="1428840"/>
            <a:ext cx="828684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числа называются простыми? составны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ему равно число π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колько осей симметрии имеет квадрат?  окружность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ие два числа называются взаимно-обратны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овите формулу длины окруж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зовите формулу площади кру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сложить два числа с разными зна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умножить два числа с разными зна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умножить два отрицательных числа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ак разделить два числа с разными зна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формулируйте правило деления двух дроб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ое свойство пропор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Дополнительные вопрос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 Назовите фамилии космонавтов, конструкторов космической техники, основоположника космонавти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1989000"/>
            <a:ext cx="1454040" cy="1800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14200" y="1268280"/>
            <a:ext cx="8929800" cy="40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писаны координаты точек, которые вы должны отметить в построенных вами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системах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координат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соединив их последовательно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1 экипа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2;- 4), (- 4, 3), (4, 0), ( - 3; - 3), (1; 4), ( 2; - 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2 экипа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6; 2), (- 4, - 5), (0, 6), ( 4; - 5), (- 6; 2), ( 6; 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 экипаж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3; 4), (0, - 5), ( - 3, 4), ( 5; - 2), ( - 6; - 2), ( 3; 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500040" y="357120"/>
            <a:ext cx="71611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</a:rPr>
              <a:t>Звёздные координат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25"/>
          <p:cNvPicPr/>
          <p:nvPr/>
        </p:nvPicPr>
        <p:blipFill>
          <a:blip r:embed="rId2"/>
          <a:stretch/>
        </p:blipFill>
        <p:spPr>
          <a:xfrm>
            <a:off x="5857920" y="2857680"/>
            <a:ext cx="2571840" cy="35668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5143680" y="1928880"/>
            <a:ext cx="40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61 – 2011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357120" y="17146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урманы справились с поставленной задач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Что же у них получилось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642960" y="364320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дания у всех одинаковые, так как маршрут нашего путешествия один          1961 – 2011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Что же означает этот код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428760" y="428760"/>
            <a:ext cx="47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Определение маршру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00040" y="528624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50 лет со дня первого полета человека в Косм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Moon"/>
          <p:cNvPicPr/>
          <p:nvPr/>
        </p:nvPicPr>
        <p:blipFill>
          <a:blip r:embed="rId2"/>
          <a:srcRect l="0" t="0" r="0" b="-51"/>
          <a:stretch/>
        </p:blipFill>
        <p:spPr>
          <a:xfrm>
            <a:off x="5724360" y="260280"/>
            <a:ext cx="3211560" cy="2898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79280" y="333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357120" y="3071880"/>
            <a:ext cx="8501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79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лина экватора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Лу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≈ 10,9 тыс. км. Чему равна длина диаметра Луны? Рассчитайте с помощью калькулятора и ответ округлите до соты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79360"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79360"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-27936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лина радиуса земной орбиты равна 149,6 млн. км.  Определите длину орбиты.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857160" y="785880"/>
            <a:ext cx="57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Путь к Лун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580720" y="393372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=2πR=πd       d≈3,47 тыс.к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869440" y="522936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≈939,36 млн. к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4" descr="007"/>
          <p:cNvPicPr/>
          <p:nvPr/>
        </p:nvPicPr>
        <p:blipFill>
          <a:blip r:embed="rId1"/>
          <a:stretch/>
        </p:blipFill>
        <p:spPr>
          <a:xfrm>
            <a:off x="5857920" y="0"/>
            <a:ext cx="3081240" cy="2286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571680" y="571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Verdana"/>
                <a:ea typeface="Times New Roman"/>
              </a:rPr>
              <a:t>Математический  аукцио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4"/>
              <p:cNvSpPr txBox="1"/>
              <p:nvPr/>
            </p:nvSpPr>
            <p:spPr>
              <a:xfrm>
                <a:off x="1785960" y="2571840"/>
                <a:ext cx="17143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6072120" y="2571840"/>
                <a:ext cx="16686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785960" y="3357720"/>
                <a:ext cx="1857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6000840" y="3357720"/>
                <a:ext cx="1785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1785960" y="4000680"/>
                <a:ext cx="1950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6000840" y="4071960"/>
                <a:ext cx="1928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8"/>
              <p:cNvSpPr txBox="1"/>
              <p:nvPr/>
            </p:nvSpPr>
            <p:spPr>
              <a:xfrm>
                <a:off x="1857240" y="5000760"/>
                <a:ext cx="16430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6000840" y="4929120"/>
                <a:ext cx="207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2000160" y="5929200"/>
                <a:ext cx="17146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5"/>
          <p:cNvSpPr/>
          <p:nvPr/>
        </p:nvSpPr>
        <p:spPr>
          <a:xfrm>
            <a:off x="142920" y="275148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1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158000" y="7099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142920" y="34657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2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4177800" y="194796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42920" y="428652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3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4177800" y="3186360"/>
            <a:ext cx="16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142920" y="503748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 4   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22"/>
          <p:cNvSpPr/>
          <p:nvPr/>
        </p:nvSpPr>
        <p:spPr>
          <a:xfrm>
            <a:off x="4118400" y="4424760"/>
            <a:ext cx="180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78200" y="5858280"/>
            <a:ext cx="6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т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 5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0" y="61437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(утешительный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Прямоугольник 26"/>
          <p:cNvSpPr/>
          <p:nvPr/>
        </p:nvSpPr>
        <p:spPr>
          <a:xfrm>
            <a:off x="6072120" y="5786280"/>
            <a:ext cx="9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99cf"/>
            </a:gs>
            <a:gs pos="100000">
              <a:srgbClr val="e0e1ef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Solar_sys"/>
          <p:cNvPicPr/>
          <p:nvPr/>
        </p:nvPicPr>
        <p:blipFill>
          <a:blip r:embed="rId1"/>
          <a:stretch/>
        </p:blipFill>
        <p:spPr>
          <a:xfrm>
            <a:off x="4460760" y="3857760"/>
            <a:ext cx="4394160" cy="2757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928800" y="2000160"/>
                <a:ext cx="278604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,5</m:t>
                        </m:r>
                      </m:num>
                      <m:den>
                        <m:r>
                          <m:t xml:space="preserve">6,3</m:t>
                        </m:r>
                        <m:r>
                          <m:t xml:space="preserve">⋅</m:t>
                        </m:r>
                        <m:r>
                          <m:t xml:space="preserve">4,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7"/>
          <p:cNvSpPr/>
          <p:nvPr/>
        </p:nvSpPr>
        <p:spPr>
          <a:xfrm>
            <a:off x="500040" y="57168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Звёздный ло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571680" y="11430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«Зажги свою звезду»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7-конечная звезда 9"/>
          <p:cNvSpPr/>
          <p:nvPr/>
        </p:nvSpPr>
        <p:spPr>
          <a:xfrm>
            <a:off x="3857760" y="2286000"/>
            <a:ext cx="500040" cy="500040"/>
          </a:xfrm>
          <a:prstGeom prst="pie">
            <a:avLst/>
          </a:prstGeom>
          <a:solidFill>
            <a:srgbClr val="ff0066"/>
          </a:solidFill>
          <a:ln w="25560">
            <a:solidFill>
              <a:srgbClr val="ddde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ЗСОШ №2   Коломиец О.Л.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9:12:22Z</dcterms:created>
  <dc:creator>donadecasa</dc:creator>
  <dc:description/>
  <dc:language>en-US</dc:language>
  <cp:lastModifiedBy>Пользователь</cp:lastModifiedBy>
  <dcterms:modified xsi:type="dcterms:W3CDTF">2011-06-01T10:38:24Z</dcterms:modified>
  <cp:revision>124</cp:revision>
  <dc:subject/>
  <dc:title>Викторина о космо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2f000000000001024140</vt:lpwstr>
  </property>
</Properties>
</file>