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F6F2-7197-4EA9-B03B-C15CCDD4A3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587D-DBDE-414A-8254-655041A86DB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FB07-F2A4-4A89-899A-35F5492D0F7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0085-4CBE-441D-ADF6-C7FB940FBEA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4CD0-EBDE-46D0-968B-C323797B58C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D65-AC8C-4B90-B99B-7D8DAA86284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E64C-9545-4FB9-B85D-C3F4753C2A7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A938-98B0-4325-A48F-EF139834D4B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3E1A-1C54-4760-B3A3-D9CB1146F6E1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33D0-D926-4B06-9327-478A6E22241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ABC0-519B-4D5F-9949-9ACEEB7F6FD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32DB-AD20-4C55-8EFF-5CF6F085375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4B39-2AAA-4EBD-AFF5-149B9961C17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9D6-BCB1-40E9-AAEB-9E3E6153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6F4-779F-49E9-AF34-16BD6ABF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DF5-EAAB-46E6-97DD-B266435D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10A-365F-4998-8DF0-A8003FF3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939-A0AF-491F-BEB4-0D94D242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10B-AB30-444E-883C-29A68359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822-1821-4375-BF7D-124F0069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51D-0016-448C-A87D-5C3612DD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B13-C082-4F47-8E2E-FB978FAB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B2B-159C-475E-BE33-3D8233C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E28-416B-419F-B150-49ED676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E87-3C24-4840-9FF3-8E6390C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98FD-56AA-4E54-A5AF-8F516026932E}" type="datetime">
              <a:rPr b="0" lang="en-US" sz="14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1E96-2AD9-434A-916D-0029B2F87586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285920"/>
            <a:ext cx="8065800" cy="681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Космическое путешествие</a:t>
            </a:r>
            <a:endParaRPr b="0" lang="en-US" sz="4000" spc="-1" strike="noStrike">
              <a:solidFill>
                <a:srgbClr val="e3ebf1"/>
              </a:solidFill>
              <a:latin typeface="Verdana"/>
            </a:endParaRPr>
          </a:p>
        </p:txBody>
      </p:sp>
      <p:pic>
        <p:nvPicPr>
          <p:cNvPr id="49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857760" y="2928960"/>
            <a:ext cx="1377720" cy="170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85920" y="2286000"/>
            <a:ext cx="6858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тематика  6 клас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бобщающий урок проверки знани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"/>
          <p:cNvPicPr/>
          <p:nvPr/>
        </p:nvPicPr>
        <p:blipFill>
          <a:blip r:embed="rId1"/>
          <a:srcRect l="0" t="0" r="-79" b="0"/>
          <a:stretch/>
        </p:blipFill>
        <p:spPr>
          <a:xfrm>
            <a:off x="8280360" y="0"/>
            <a:ext cx="863640" cy="287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720" y="-72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20" y="-72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24000" y="17060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утешествие подошло к концу. Чтобы посадить корабли на Землю необходимо рассчитать площадь и периметр  посадочной площадки, которая является квадратом со стороной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000840" y="300204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= 2,56 км</a:t>
            </a:r>
            <a:r>
              <a:rPr b="0" lang="ru-RU" sz="1600" spc="-1" strike="noStrike" baseline="30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,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= 6,4 к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3995640" y="2276640"/>
                <a:ext cx="9288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0" y="3786120"/>
            <a:ext cx="3929040" cy="30830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5"/>
          <p:cNvSpPr/>
          <p:nvPr/>
        </p:nvSpPr>
        <p:spPr>
          <a:xfrm>
            <a:off x="428760" y="6429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Расчет посад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27"/>
          <p:cNvPicPr/>
          <p:nvPr/>
        </p:nvPicPr>
        <p:blipFill>
          <a:blip r:embed="rId2"/>
          <a:stretch/>
        </p:blipFill>
        <p:spPr>
          <a:xfrm>
            <a:off x="4284720" y="3716280"/>
            <a:ext cx="4572000" cy="240048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7"/>
          <p:cNvSpPr/>
          <p:nvPr/>
        </p:nvSpPr>
        <p:spPr>
          <a:xfrm>
            <a:off x="428760" y="6429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00040" y="179316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рисуйте какую-нибудь фигуру в координатной системе       с помощью ломаной линии и запишите координаты вершин ломано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Можно нарисовать рисунок на космическую тем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6"/>
          <p:cNvPicPr/>
          <p:nvPr/>
        </p:nvPicPr>
        <p:blipFill>
          <a:blip r:embed="rId1"/>
          <a:stretch/>
        </p:blipFill>
        <p:spPr>
          <a:xfrm>
            <a:off x="428760" y="2857680"/>
            <a:ext cx="2000160" cy="22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2928960" y="1428840"/>
          <a:ext cx="4572000" cy="438768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61720"/>
                <a:gridCol w="246240"/>
                <a:gridCol w="253800"/>
                <a:gridCol w="254160"/>
              </a:tblGrid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2928960" y="1428480"/>
            <a:ext cx="4572000" cy="4429080"/>
            <a:chOff x="2928960" y="1428480"/>
            <a:chExt cx="4572000" cy="4429080"/>
          </a:xfrm>
        </p:grpSpPr>
        <p:sp>
          <p:nvSpPr>
            <p:cNvPr id="168" name="Line 14"/>
            <p:cNvSpPr/>
            <p:nvPr/>
          </p:nvSpPr>
          <p:spPr>
            <a:xfrm flipV="1">
              <a:off x="5214960" y="1428480"/>
              <a:ext cx="0" cy="442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2928960" y="385740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 flipH="1" flipV="1">
              <a:off x="4222440" y="3034080"/>
              <a:ext cx="1571760" cy="1809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Line 11"/>
            <p:cNvSpPr/>
            <p:nvPr/>
          </p:nvSpPr>
          <p:spPr>
            <a:xfrm>
              <a:off x="4222440" y="3034440"/>
              <a:ext cx="1992240" cy="808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 flipH="1">
              <a:off x="4500360" y="3850560"/>
              <a:ext cx="1800000" cy="707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 flipV="1">
              <a:off x="4499640" y="2844000"/>
              <a:ext cx="1000080" cy="1714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500440" y="2843280"/>
              <a:ext cx="285840" cy="200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5" name="TextBox 16"/>
          <p:cNvSpPr/>
          <p:nvPr/>
        </p:nvSpPr>
        <p:spPr>
          <a:xfrm>
            <a:off x="785880" y="4287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от такая звездочка получилась у экипажа №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9680" y="571320"/>
            <a:ext cx="53578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Проверка готовности 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путешествию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(устный счет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Picture 11" descr="4"/>
          <p:cNvPicPr/>
          <p:nvPr/>
        </p:nvPicPr>
        <p:blipFill>
          <a:blip r:embed="rId1"/>
          <a:srcRect l="0" t="0" r="0" b="47"/>
          <a:stretch/>
        </p:blipFill>
        <p:spPr>
          <a:xfrm>
            <a:off x="5786280" y="428760"/>
            <a:ext cx="2805120" cy="221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4786200" y="4071960"/>
                <a:ext cx="164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6500880" y="4071960"/>
                <a:ext cx="1530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5" name=""/>
          <p:cNvGraphicFramePr/>
          <p:nvPr/>
        </p:nvGraphicFramePr>
        <p:xfrm>
          <a:off x="1214280" y="3000240"/>
          <a:ext cx="6929640" cy="3071880"/>
        </p:xfrm>
        <a:graphic>
          <a:graphicData uri="http://schemas.openxmlformats.org/drawingml/2006/table">
            <a:tbl>
              <a:tblPr/>
              <a:tblGrid>
                <a:gridCol w="1731960"/>
                <a:gridCol w="1731960"/>
                <a:gridCol w="1733760"/>
                <a:gridCol w="1731960"/>
              </a:tblGrid>
              <a:tr h="102420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 :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 : (–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∙ (–1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 ∙ (–1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 ∙ (–0,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8"/>
              <p:cNvSpPr txBox="1"/>
              <p:nvPr/>
            </p:nvSpPr>
            <p:spPr>
              <a:xfrm>
                <a:off x="3357720" y="4143240"/>
                <a:ext cx="1199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0"/>
              <p:cNvSpPr txBox="1"/>
              <p:nvPr/>
            </p:nvSpPr>
            <p:spPr>
              <a:xfrm>
                <a:off x="1500120" y="5124600"/>
                <a:ext cx="1143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2"/>
              <p:cNvSpPr txBox="1"/>
              <p:nvPr/>
            </p:nvSpPr>
            <p:spPr>
              <a:xfrm>
                <a:off x="3000240" y="5143680"/>
                <a:ext cx="1684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4"/>
              <p:cNvSpPr txBox="1"/>
              <p:nvPr/>
            </p:nvSpPr>
            <p:spPr>
              <a:xfrm>
                <a:off x="5000760" y="5143680"/>
                <a:ext cx="11430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6"/>
              <p:cNvSpPr txBox="1"/>
              <p:nvPr/>
            </p:nvSpPr>
            <p:spPr>
              <a:xfrm>
                <a:off x="6715080" y="5156280"/>
                <a:ext cx="10000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6762600" y="2286000"/>
            <a:ext cx="2381400" cy="4210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357800" y="2500200"/>
          <a:ext cx="3357360" cy="1214640"/>
        </p:xfrm>
        <a:graphic>
          <a:graphicData uri="http://schemas.openxmlformats.org/drawingml/2006/table">
            <a:tbl>
              <a:tblPr/>
              <a:tblGrid>
                <a:gridCol w="560160"/>
                <a:gridCol w="559080"/>
                <a:gridCol w="560160"/>
                <a:gridCol w="558720"/>
                <a:gridCol w="560520"/>
                <a:gridCol w="558720"/>
              </a:tblGrid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42960" y="4929120"/>
          <a:ext cx="3143160" cy="1214640"/>
        </p:xfrm>
        <a:graphic>
          <a:graphicData uri="http://schemas.openxmlformats.org/drawingml/2006/table">
            <a:tbl>
              <a:tblPr/>
              <a:tblGrid>
                <a:gridCol w="523800"/>
                <a:gridCol w="476280"/>
                <a:gridCol w="571680"/>
                <a:gridCol w="523800"/>
                <a:gridCol w="523800"/>
                <a:gridCol w="523800"/>
              </a:tblGrid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Object 22"/>
              <p:cNvSpPr txBox="1"/>
              <p:nvPr/>
            </p:nvSpPr>
            <p:spPr>
              <a:xfrm>
                <a:off x="1285920" y="1071720"/>
                <a:ext cx="2500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1285920" y="2571840"/>
                <a:ext cx="2143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1285920" y="3929040"/>
                <a:ext cx="25002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24"/>
          <p:cNvSpPr/>
          <p:nvPr/>
        </p:nvSpPr>
        <p:spPr>
          <a:xfrm>
            <a:off x="4412880" y="751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tangle 25"/>
          <p:cNvSpPr/>
          <p:nvPr/>
        </p:nvSpPr>
        <p:spPr>
          <a:xfrm>
            <a:off x="381960" y="26438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2 ряд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1960" y="41439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3 ряд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Прямоугольник 30"/>
          <p:cNvSpPr/>
          <p:nvPr/>
        </p:nvSpPr>
        <p:spPr>
          <a:xfrm>
            <a:off x="428760" y="21420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Задания для экипажей ракет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Прямоугольник 31"/>
          <p:cNvSpPr/>
          <p:nvPr/>
        </p:nvSpPr>
        <p:spPr>
          <a:xfrm>
            <a:off x="214200" y="1071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1 ряд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57800" y="928800"/>
          <a:ext cx="3341520" cy="1357200"/>
        </p:xfrm>
        <a:graphic>
          <a:graphicData uri="http://schemas.openxmlformats.org/drawingml/2006/table">
            <a:tbl>
              <a:tblPr/>
              <a:tblGrid>
                <a:gridCol w="557280"/>
                <a:gridCol w="556920"/>
                <a:gridCol w="555840"/>
                <a:gridCol w="557280"/>
                <a:gridCol w="556920"/>
                <a:gridCol w="557280"/>
              </a:tblGrid>
              <a:tr h="66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Object 33"/>
              <p:cNvSpPr txBox="1"/>
              <p:nvPr/>
            </p:nvSpPr>
            <p:spPr>
              <a:xfrm>
                <a:off x="4500720" y="1000080"/>
                <a:ext cx="357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32"/>
              <p:cNvSpPr txBox="1"/>
              <p:nvPr/>
            </p:nvSpPr>
            <p:spPr>
              <a:xfrm>
                <a:off x="5500800" y="1000080"/>
                <a:ext cx="428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1"/>
              <p:cNvSpPr txBox="1"/>
              <p:nvPr/>
            </p:nvSpPr>
            <p:spPr>
              <a:xfrm>
                <a:off x="6072120" y="965160"/>
                <a:ext cx="42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0"/>
              <p:cNvSpPr txBox="1"/>
              <p:nvPr/>
            </p:nvSpPr>
            <p:spPr>
              <a:xfrm>
                <a:off x="6643800" y="1000080"/>
                <a:ext cx="428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9"/>
              <p:cNvSpPr txBox="1"/>
              <p:nvPr/>
            </p:nvSpPr>
            <p:spPr>
              <a:xfrm>
                <a:off x="7215120" y="1000080"/>
                <a:ext cx="46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4"/>
              <p:cNvSpPr txBox="1"/>
              <p:nvPr/>
            </p:nvSpPr>
            <p:spPr>
              <a:xfrm>
                <a:off x="4429080" y="2500200"/>
                <a:ext cx="285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6"/>
              <p:cNvSpPr txBox="1"/>
              <p:nvPr/>
            </p:nvSpPr>
            <p:spPr>
              <a:xfrm>
                <a:off x="5572080" y="2462040"/>
                <a:ext cx="3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8"/>
              <p:cNvSpPr txBox="1"/>
              <p:nvPr/>
            </p:nvSpPr>
            <p:spPr>
              <a:xfrm>
                <a:off x="6072120" y="2500200"/>
                <a:ext cx="405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0"/>
              <p:cNvSpPr txBox="1"/>
              <p:nvPr/>
            </p:nvSpPr>
            <p:spPr>
              <a:xfrm>
                <a:off x="6715080" y="2500200"/>
                <a:ext cx="3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2"/>
              <p:cNvSpPr txBox="1"/>
              <p:nvPr/>
            </p:nvSpPr>
            <p:spPr>
              <a:xfrm>
                <a:off x="7286760" y="2500200"/>
                <a:ext cx="35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4"/>
              <p:cNvSpPr txBox="1"/>
              <p:nvPr/>
            </p:nvSpPr>
            <p:spPr>
              <a:xfrm>
                <a:off x="714240" y="4929120"/>
                <a:ext cx="46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6"/>
              <p:cNvSpPr txBox="1"/>
              <p:nvPr/>
            </p:nvSpPr>
            <p:spPr>
              <a:xfrm>
                <a:off x="1714680" y="4929120"/>
                <a:ext cx="431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8"/>
              <p:cNvSpPr txBox="1"/>
              <p:nvPr/>
            </p:nvSpPr>
            <p:spPr>
              <a:xfrm>
                <a:off x="2286000" y="4929120"/>
                <a:ext cx="428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0"/>
              <p:cNvSpPr txBox="1"/>
              <p:nvPr/>
            </p:nvSpPr>
            <p:spPr>
              <a:xfrm>
                <a:off x="2857680" y="4929120"/>
                <a:ext cx="357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Rectangle 52"/>
          <p:cNvSpPr/>
          <p:nvPr/>
        </p:nvSpPr>
        <p:spPr>
          <a:xfrm>
            <a:off x="4071960" y="4862880"/>
            <a:ext cx="3357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В примере три действия, результат каждого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действия имеет свой код. В итоге получаем номер ракеты. Он будет состоять из 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двух букв 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одной цифры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0040" y="357120"/>
            <a:ext cx="7161120" cy="11620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Verdana"/>
              </a:rPr>
              <a:t>Блиц-турнир для командиров экипажей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500120"/>
            <a:ext cx="474372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2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Picture 8" descr="Earth"/>
          <p:cNvPicPr/>
          <p:nvPr/>
        </p:nvPicPr>
        <p:blipFill>
          <a:blip r:embed="rId3"/>
          <a:stretch/>
        </p:blipFill>
        <p:spPr>
          <a:xfrm>
            <a:off x="6572160" y="2928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285840" y="1428840"/>
            <a:ext cx="82868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е числа называются простыми? составны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ему равно число π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олько осей симметрии имеет квадрат?  окружность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е два числа называются взаимно-обратны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зовите формулу длины окруж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зовите формулу площади кру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сложить два числа с разными знака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умножить два числа с разными знака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умножить два отрицательных числа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разделить два числа с разными знака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формулируйте правило деления двух дроб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ое свойство пропор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Дополнительные вопрос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Назовите фамилии космонавтов, конструкторов космической техники, основоположника космонавт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1989000"/>
            <a:ext cx="1454040" cy="1800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214200" y="1268280"/>
            <a:ext cx="89298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Записаны координаты точек, которые вы должны отметить в построенных вами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системах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координат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оединив их последовательн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1 экипаж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2;- 4), (- 4, 3), (4, 0), ( - 3; - 3), (1; 4), ( 2; - 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2 экипаж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6; 2), (- 4, - 5), (0, 6), ( 4; - 5), (- 6; 2), ( 6; 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 экипаж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3; 4), (0, - 5), ( - 3, 4), ( 5; - 2), ( - 6; - 2), ( 3; 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00040" y="357120"/>
            <a:ext cx="716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Verdana"/>
              </a:rPr>
              <a:t>Звёздные координа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25"/>
          <p:cNvPicPr/>
          <p:nvPr/>
        </p:nvPicPr>
        <p:blipFill>
          <a:blip r:embed="rId2"/>
          <a:stretch/>
        </p:blipFill>
        <p:spPr>
          <a:xfrm>
            <a:off x="5857920" y="2857680"/>
            <a:ext cx="2571840" cy="35668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5143680" y="1928880"/>
            <a:ext cx="400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61 – 2011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57120" y="17146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турманы справились с поставленной задач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Что же у них получилось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642960" y="364320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Задания у всех одинаковые, так как маршрут нашего путешествия один          1961 – 2011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Что же означает этот код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428760" y="428760"/>
            <a:ext cx="47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Определение маршру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00040" y="528624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50 лет со дня первого полета человека в Косм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Moon"/>
          <p:cNvPicPr/>
          <p:nvPr/>
        </p:nvPicPr>
        <p:blipFill>
          <a:blip r:embed="rId2"/>
          <a:srcRect l="0" t="0" r="0" b="-51"/>
          <a:stretch/>
        </p:blipFill>
        <p:spPr>
          <a:xfrm>
            <a:off x="5724360" y="260280"/>
            <a:ext cx="3211560" cy="2898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179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357120" y="3071880"/>
            <a:ext cx="8501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79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лина экватора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Лун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≈ 10,9 тыс. км. Чему равна длина диаметра Луны? Рассчитайте с помощью калькулятора и ответ округлите до сот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79360"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79360"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79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лина радиуса земной орбиты равна 149,6 млн. км.  Определите длину орбиты.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857160" y="78588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Путь к Лун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580720" y="39337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=2πR=πd       d≈3,47 тыс.к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869440" y="522936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С≈939,36 млн. к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4" descr="007"/>
          <p:cNvPicPr/>
          <p:nvPr/>
        </p:nvPicPr>
        <p:blipFill>
          <a:blip r:embed="rId1"/>
          <a:stretch/>
        </p:blipFill>
        <p:spPr>
          <a:xfrm>
            <a:off x="5857920" y="0"/>
            <a:ext cx="3081240" cy="2286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571680" y="571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Математический  аукцио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4"/>
              <p:cNvSpPr txBox="1"/>
              <p:nvPr/>
            </p:nvSpPr>
            <p:spPr>
              <a:xfrm>
                <a:off x="1785960" y="2571840"/>
                <a:ext cx="1714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6072120" y="2571840"/>
                <a:ext cx="1668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785960" y="3357720"/>
                <a:ext cx="1857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6000840" y="3357720"/>
                <a:ext cx="1785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1785960" y="4000680"/>
                <a:ext cx="1950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6000840" y="4071960"/>
                <a:ext cx="1928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1857240" y="5000760"/>
                <a:ext cx="16430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6000840" y="4929120"/>
                <a:ext cx="2071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2000160" y="5929200"/>
                <a:ext cx="17146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5"/>
          <p:cNvSpPr/>
          <p:nvPr/>
        </p:nvSpPr>
        <p:spPr>
          <a:xfrm>
            <a:off x="142920" y="27514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 1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158000" y="7099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142920" y="34657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 2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177800" y="194796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42920" y="42865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 3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4177800" y="318636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142920" y="503748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 4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4118400" y="44247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78200" y="5858280"/>
            <a:ext cx="6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 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0" y="61437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(утешительный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Прямоугольник 26"/>
          <p:cNvSpPr/>
          <p:nvPr/>
        </p:nvSpPr>
        <p:spPr>
          <a:xfrm>
            <a:off x="6072120" y="5786280"/>
            <a:ext cx="9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Solar_sys"/>
          <p:cNvPicPr/>
          <p:nvPr/>
        </p:nvPicPr>
        <p:blipFill>
          <a:blip r:embed="rId1"/>
          <a:stretch/>
        </p:blipFill>
        <p:spPr>
          <a:xfrm>
            <a:off x="4460760" y="3857760"/>
            <a:ext cx="4394160" cy="2757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928800" y="2000160"/>
                <a:ext cx="278604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,5</m:t>
                        </m:r>
                      </m:num>
                      <m:den>
                        <m:r>
                          <m:t xml:space="preserve">6,3</m:t>
                        </m:r>
                        <m:r>
                          <m:t xml:space="preserve">⋅</m:t>
                        </m:r>
                        <m:r>
                          <m:t xml:space="preserve">4,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Прямоугольник 7"/>
          <p:cNvSpPr/>
          <p:nvPr/>
        </p:nvSpPr>
        <p:spPr>
          <a:xfrm>
            <a:off x="500040" y="5716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Звёздный ло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571680" y="114300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«Зажги свою звезду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7-конечная звезда 9"/>
          <p:cNvSpPr/>
          <p:nvPr/>
        </p:nvSpPr>
        <p:spPr>
          <a:xfrm>
            <a:off x="3857760" y="2286000"/>
            <a:ext cx="500040" cy="500040"/>
          </a:xfrm>
          <a:prstGeom prst="pie">
            <a:avLst/>
          </a:prstGeom>
          <a:solidFill>
            <a:srgbClr val="ff0066"/>
          </a:solidFill>
          <a:ln w="25560">
            <a:solidFill>
              <a:srgbClr val="ddd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12:22Z</dcterms:created>
  <dc:creator>donadecasa</dc:creator>
  <dc:description/>
  <dc:language>en-US</dc:language>
  <cp:lastModifiedBy>Пользователь</cp:lastModifiedBy>
  <dcterms:modified xsi:type="dcterms:W3CDTF">2011-06-01T10:38:24Z</dcterms:modified>
  <cp:revision>124</cp:revision>
  <dc:subject/>
  <dc:title>Викторина о космо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2f000000000001024140</vt:lpwstr>
  </property>
</Properties>
</file>