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E15-0736-4001-A8EC-41C7274B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7A0-51AA-4F81-9DFE-024BF685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82E-9CC6-41D6-8790-EA6CC7DD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58F-9841-47C5-ADAA-5257A2A8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815B-7104-4FDE-8E07-58120517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4375-0152-40EE-B902-806949B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B5A-ABE4-4981-A447-1984B122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2B56-751F-464B-9CFE-B46BA060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55A-6194-4078-A9C6-B7CAEC99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EF01-3006-4247-A966-AC480DC8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0B2F-1819-48F9-884A-8FE8606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B82-4CFD-490D-80D5-3DFAA07B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7A49-F5E2-477E-9550-2AA1DAF1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56CA-91F1-4413-BDF8-F43D3B96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CDB9-14A4-49C9-AA91-95B5F216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EDD0-5F8E-4A6A-804D-448569CE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145A-A27E-42FE-8B61-DDCC6BCA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191-2DC4-4D28-94E7-009D0693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745-5045-4E55-B426-7C56C70F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F93-CD08-428B-8ED1-9AD8DA85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100-97D6-43F5-AA33-6A321FE9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F5D-117F-4088-8857-6DE7FB8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538-A861-4785-9E3D-E21DBD75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6AC-5735-41B7-A8B4-741ADE1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BDA1-682A-4BB0-A7EF-FF6C35F9E8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1C7-E2D7-4502-A4A0-530086A443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Малин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Выполнила учениц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 класса «Б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МОУ «СОШ №2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Ефремова 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33116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арственное растение. Мали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Растёт малина в лесах по склонам оврагов и лесных вырубках. Ещё с древности малину ценили и знали как лечебную ягоду. Стакан  сока придает силы, снижает жар, повышает сопротивляемость организма при болезни. Это лечебный чай. В ней содержится витамин С. 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3:28:39Z</dcterms:created>
  <dc:creator>User</dc:creator>
  <dc:description/>
  <dc:language>en-US</dc:language>
  <cp:lastModifiedBy>*</cp:lastModifiedBy>
  <dcterms:modified xsi:type="dcterms:W3CDTF">2008-05-23T17:13:20Z</dcterms:modified>
  <cp:revision>2</cp:revision>
  <dc:subject/>
  <dc:title>Малина</dc:title>
</cp:coreProperties>
</file>