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80C-68C2-48D5-A95F-9B91EB82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DB3-3474-4A0E-9077-8DE2B8A0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C02-3301-489A-B1F9-8C0B1703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32C-62EB-4ECD-9017-733BAE16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52FA-BF9B-420B-8C4E-B3889400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BEB2-470E-4A54-8424-358C1B55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73E8-4B00-4A53-8C05-EA56EE63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69E5-B3D4-4D7E-905F-47DE5142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B08A-1B1C-49EF-8E82-915C8509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53FA-B7CA-403F-B6AE-BC648103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9E17-9ECB-42EF-8630-47418C80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652-3319-431E-A63F-B0D67905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FFB2-DEAE-4359-B3D1-D2DC0325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B7A1-2F34-439B-8681-EBA17273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00A0-9D45-48AC-BF92-27DCAB7C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FE3E-9503-4C19-8124-FED37531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38B2-39E0-4598-9AA8-D6EFF365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048-0A98-4B44-B2D2-3A8E955F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77F-31B4-42E8-9E0F-497CE1EE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36F-0A99-4F71-9BBC-F8EE235C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2CC-6F15-4AB6-8494-4153470C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4B5-348A-48B6-B9EA-737E6739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B91-F1A7-428D-9F85-CCE85EAB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08E-1BF1-4522-B1FA-B9CE1CA3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7171-CA40-4320-B071-181CF776D5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47A0-57A6-4C74-BA99-8FE8806E05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Малин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Выполнила учениц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1 класса «Б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МОУ «СОШ №2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Ефремова П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33116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карственное растение. Мали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Растёт малина в лесах по склонам оврагов и лесных вырубках. Ещё с древности малину ценили и знали как лечебную ягоду. Стакан  сока придает силы, снижает жар, повышает сопротивляемость организма при болезни. Это лечебный чай. В ней содержится витамин С.  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3:28:39Z</dcterms:created>
  <dc:creator>User</dc:creator>
  <dc:description/>
  <dc:language>en-US</dc:language>
  <cp:lastModifiedBy>*</cp:lastModifiedBy>
  <dcterms:modified xsi:type="dcterms:W3CDTF">2008-05-23T17:13:20Z</dcterms:modified>
  <cp:revision>2</cp:revision>
  <dc:subject/>
  <dc:title>Малина</dc:title>
</cp:coreProperties>
</file>