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1654-15EB-4450-AE9C-EC428CEE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560-C606-45E3-B2B7-0B2109E4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E4D-5B03-44BD-BC32-049B3651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086-5847-4200-81F9-77FC34A8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D05D-1413-4533-9855-5D2D23B9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7A32-B6B9-40B0-A16F-205C275F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381-3CE1-4AC1-A595-350FC71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8E7-EAE1-439C-B38A-FB1161FB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E3B-EDB4-4E98-BC2F-75457221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D69-F16C-45F5-BF96-8EF77288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BC2-5A7F-4F31-A483-A5DC9405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143-1E1E-45D0-A80F-4DA10F2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4B11-C454-438C-B933-EDBB4D64E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Малина обыкнов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полнила Шмакова Марина ученица 1 класса «Б»                             МОУ «СОШ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Лекарственное растение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Ма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79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Широко распространенный общеизвестный кустарник, встречающийся в лесах особенно на вырубках и лесных полянах по всей Сибири цветет в конце мая – июне лечебное значение имеют в основном ягоды малины, в которых содержатся дубильные и флавоновые вещества, ифирное масло органические кислоты (муравьиные, капроновая, салициловая, лимонная, яблочная). Пектины, сахара, антоцианы, клетчатка, слизь, витамины С, В1, В2, В6, никотиновая и фолиевая кислоты. Ягоды применяются как прекрасное потогонное средство при про простудных заболеваниях в виде отваров, настоев, чаев (две столовых ложки чая сухих ягод заваривают в стакане кипятка, после 20 минутного настаивания процеживают и выпивают 2-3 стакана в течение 1-2 чайных ложки). Сиропом из ягод часто улучшают вкус лекарств при приеме препаратов из ягод нужно учитывать что из-за наличия в них пуриновых оснований они противопоказаны при нефрите и подагре (соколов, замутаев 1988). Отвар листьев в народной медицине принимают внут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33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т кашля, болезни горла, при лихорадочном состоянии, а наружно удаляют с лица угри и прыщи отвар корней используют при лечении тяжелой форме бронхиальной астмы. Листья обрывают в период цветения стараясь не повреждать при этом ветки сушить листья следует в тени по возможности быстрее. Хранят сухие ягоды и листья в плотных ящиках, выложенных бумагой, или в плотных меш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6T03:20:15Z</dcterms:created>
  <dc:creator>User</dc:creator>
  <dc:description/>
  <dc:language>en-US</dc:language>
  <cp:lastModifiedBy>User</cp:lastModifiedBy>
  <dcterms:modified xsi:type="dcterms:W3CDTF">1980-04-06T03:26:48Z</dcterms:modified>
  <cp:revision>1</cp:revision>
  <dc:subject/>
  <dc:title>Малина обыкновенная</dc:title>
</cp:coreProperties>
</file>