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652-2DEA-4FC1-B9A4-EDFB0132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34C-64FE-46DB-AAE5-20EF358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28A-8FEB-408C-9E6B-6E82BB44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F1E-4C07-4745-98B4-93170831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D99-ABEA-40EA-AF37-8A1EE38C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15B-6FD4-458E-B925-36FD8584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1E9-2311-4330-B96B-2F657979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FCC-46FE-43FC-943E-FBD46DBF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ACC-B0FF-46CE-86E8-A6B4968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6F6-00D7-4D9D-961A-419DCDC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F0F-88D0-4310-975C-356E334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360-8493-401C-BF80-D2E6892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347-87D5-46F6-983D-BA06BF56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алина обыкно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полнила Шмакова Марина ученица 1 класса «Б»                             МОУ «СОШ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екарственное растение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а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9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Широко распространенный общеизвестный кустарник, встречающийся в лесах особенно на вырубках и лесных полянах по всей Сибири цветет в конце мая – июне лечебное значение имеют в основном ягоды малины, в которых содержатся дубильные и флавоновые вещества, ифирное масло органические кислоты (муравьиные, капроновая, салициловая, лимонная, яблочная). Пектины, сахара, антоцианы, клетчатка, слизь, витамины С, В1, В2, В6, никотиновая и фолиевая кислоты. Ягоды применяются как прекрасное потогонное средство при про простудных заболеваниях в виде отваров, настоев, чаев (две столовых ложки чая сухих ягод заваривают в стакане кипятка, после 20 минутного настаивания процеживают и выпивают 2-3 стакана в течение 1-2 чайных ложки). Сиропом из ягод часто улучшают вкус лекарств при приеме препаратов из ягод нужно учитывать что из-за наличия в них пуриновых оснований они противопоказаны при нефрите и подагре (соколов, замутаев 1988). Отвар листьев в народной медицине принимают внут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3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 кашля, болезни горла, при лихорадочном состоянии, а наружно удаляют с лица угри и прыщи отвар корней используют при лечении тяжелой форме бронхиальной астмы. Листья обрывают в период цветения стараясь не повреждать при этом ветки сушить листья следует в тени по возможности быстрее. Хранят сухие ягоды и листья в плотных ящиках, выложенных бумагой, или в плотных ме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20:15Z</dcterms:created>
  <dc:creator>User</dc:creator>
  <dc:description/>
  <dc:language>en-US</dc:language>
  <cp:lastModifiedBy>User</cp:lastModifiedBy>
  <dcterms:modified xsi:type="dcterms:W3CDTF">1980-04-06T03:26:48Z</dcterms:modified>
  <cp:revision>1</cp:revision>
  <dc:subject/>
  <dc:title>Малина обыкновенная</dc:title>
</cp:coreProperties>
</file>