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A19-D14A-4D70-916C-1548EFFA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AB37-BC8C-43C3-9CE8-6745B463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6B9-C5A9-4ED4-8CE2-4BF1EE4C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C98-6210-4FB3-923A-608A4767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E36-4E34-468A-8F4D-CD4D0160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ED47-D414-4DBA-991C-87E85BDC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67E-1A82-4D7B-AC87-666A2962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585D-098E-4BD5-A071-8CDE37CA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26E-4F14-47B3-9146-45EA3F23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C3AC-F483-4015-A41A-0BF73736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2ED-8772-4186-8BA7-65B839F3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01C2-B5FC-4F4C-85E9-6C7017A6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FE2D-3BA4-4CEC-98D1-6846FFB01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ОБЛЕПИХА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  </a:t>
            </a:r>
            <a:br>
              <a:rPr sz="4400"/>
            </a:br>
            <a:br>
              <a:rPr sz="4400"/>
            </a:b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Выполнила Васильева Екатерина </a:t>
            </a:r>
            <a:br>
              <a:rPr sz="2000"/>
            </a:b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Ученица 1класса «Б» </a:t>
            </a:r>
            <a:br>
              <a:rPr sz="2000"/>
            </a:b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МОУ «СОШ №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98720" y="3886200"/>
            <a:ext cx="5146560" cy="1752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93080" y="692280"/>
            <a:ext cx="13716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Лекарственное растение.</a:t>
            </a:r>
            <a:br>
              <a:rPr sz="3600"/>
            </a:b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Облепи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Широко известный кустарник или невысокое дерево с гладкой корой и узкими листочками, сверху зелеными, снизу серебристо-белыми. Цветки мелкие, желтые. Плоды - желтые, оранжевые ягоды. Облепиха встречается в Восточной и Западной Сибири (особенно в Алтайском кра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Основную ценность облепихи составляют её плоды и особенно получаемое из них облепиховое мас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Облепиховое масло является хорошим средством при различных кожных заболеваниях, особенно сопровождаемых недостатком витаминов в организме. Им лечат экзему, волчанку и другие болезни, смазывая кожу, слизистые оболочки и принимая внутрь. Маслом можно лечить и некоторые глазные болезни (трахому и </a:t>
            </a: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Особенно целебно облепиховое масло при лечении ожогов, так как оно обладаетобеззараживающими, обезболивающими и ранозаживляющими свойств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Считают, что подобные свойства масла в основном обусловлены присутствием в нем стериновых и тритерпеновых соединений. Ценится оно и как средство лечения лучевых поражений кожи и язвенной болезни желуд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3716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Облепиха. Польза для здоров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Сок свежих ягод облепихи, сироп и настойка из них применяется при гиповитаминозе А (куриной слепоте), цинге и других авитаминозах. Сок обладает бактериостатическим действие , а также повышает уровень гемоглобина в крови и антитоксическую функцию печени, снижет количество холестерина в крови. Ягоды широко используются в пищевой промышленности для приготовления варенья, ликеров, витаминных со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В народной медицине листьями лечат ревматизм, желудочно-кишечные заболевания и кожные боле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Из коры облепихи выделено вещество, обладающее противоопухолевым действием. Подобное же действие оказывает спиртовой экстракт коры. Листья имеют в своем составе много танина и поэтому могут использовать при дублении ко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При облысении рекомендуют употреблять в пищу ягоды или отвар молодых веток облепихи и этим отваром протирать кожу головы и вол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Плоды, листья и кора облепихи находят широкое применение в тибетской медицине: их используют как составные части смесей для лечения бронхо-лёгочных заболеваний, язвенной болезни желудка и двенадцатиперстной кишки; издавна считали, что плоды облепихи лечат болезни сердца и крови, очищают легкие от гноя и разжижают кровь . По данным азербайджанской народной медицины, сок ягод облепихи препятствует выпадению волос, предупреждает образование перхо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4-06T03:38:02Z</dcterms:created>
  <dc:creator>User</dc:creator>
  <dc:description/>
  <dc:language>en-US</dc:language>
  <cp:lastModifiedBy>User</cp:lastModifiedBy>
  <dcterms:modified xsi:type="dcterms:W3CDTF">1980-04-06T07:04:36Z</dcterms:modified>
  <cp:revision>2</cp:revision>
  <dc:subject/>
  <dc:title>ОБЛЕПИХА    Выполнила Васильева Екатерина  Ученица 1класса «Б»  МОУ «СОШ №2»</dc:title>
</cp:coreProperties>
</file>