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A0AB-4785-474D-986E-F07ECD01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932-4AE1-4FC3-8520-AA030C87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3E0-5695-434E-9122-49A18355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321-E079-463A-8E9A-82F788D2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106-6A93-4CD8-B3CD-4CC69A5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F0B-A25F-4C7B-88DE-7ACD167B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48E-C7A9-4E52-A3B7-1FCAF7F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01A-33D1-4095-9BD3-1DD9F40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85D-9AEF-44B4-BE91-EEBF4AEE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393-1118-49EA-8652-43095B6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B83-7852-4BEB-A182-11BE27C2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588-965D-4D2B-AF2E-3F9F1E04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2ED-288A-4967-91F9-C6510C2C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27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ОБЛЕПИХА</a:t>
            </a: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  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Выполнила Васильева Екатерина </a:t>
            </a:r>
            <a:br>
              <a:rPr sz="2000"/>
            </a:b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Ученица 1класса «Б» </a:t>
            </a:r>
            <a:br>
              <a:rPr sz="2000"/>
            </a:b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МОУ «СОШ №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98720" y="3886200"/>
            <a:ext cx="514656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93080" y="692280"/>
            <a:ext cx="13716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Лекарственное растение.</a:t>
            </a:r>
            <a:br>
              <a:rPr sz="3600"/>
            </a:b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блепи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Широко известный кустарник или невысокое дерево с гладкой корой и узкими листочками, сверху зелеными, снизу серебристо-белыми. Цветки мелкие, желтые. Плоды - желтые, оранжевые ягоды. Облепиха встречается в Восточной и Западной Сибири (особенно в Алтайском кра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Основную ценность облепихи составляют её плоды и особенно получаемое из них облепиховое мас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Облепиховое масло является хорошим средством при различных кожных заболеваниях, особенно сопровождаемых недостатком витаминов в организме. Им лечат экзему, волчанку и другие болезни, смазывая кожу, слизистые оболочки и принимая внутрь. Маслом можно лечить и некоторые глазные болезни (трахому и </a:t>
            </a: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Особенно целебно облепиховое масло при лечении ожогов, так как оно обладаетобеззараживающими, обезболивающими и ранозаживляющими свойств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Считают, что подобные свойства масла в основном обусловлены присутствием в нем стериновых и тритерпеновых соединений. Ценится оно и как средство лечения лучевых поражений кожи и язвенной болезни желу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3716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Облепиха. Польза для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Сок свежих ягод облепихи, сироп и настойка из них применяется при гиповитаминозе А (куриной слепоте), цинге и других авитаминозах. Сок обладает бактериостатическим действие , а также повышает уровень гемоглобина в крови и антитоксическую функцию печени, снижет количество холестерина в крови. Ягоды широко используются в пищевой промышленности для приготовления варенья, ликеров, витаминных со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В народной медицине листьями лечат ревматизм, желудочно-кишечные заболевания и кожные боле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Из коры облепихи выделено вещество, обладающее противоопухолевым действием. Подобное же действие оказывает спиртовой экстракт коры. Листья имеют в своем составе много танина и поэтому могут использовать при дублении ко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При облысении рекомендуют употреблять в пищу ягоды или отвар молодых веток облепихи и этим отваром протирать кожу головы и вол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Плоды, листья и кора облепихи находят широкое применение в тибетской медицине: их используют как составные части смесей для лечения бронхо-лёгочных заболеваний, язвенной болезни желудка и двенадцатиперстной кишки; издавна считали, что плоды облепихи лечат болезни сердца и крови, очищают легкие от гноя и разжижают кровь . По данным азербайджанской народной медицины, сок ягод облепихи препятствует выпадению волос, предупреждает образование перх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4-06T03:38:02Z</dcterms:created>
  <dc:creator>User</dc:creator>
  <dc:description/>
  <dc:language>en-US</dc:language>
  <cp:lastModifiedBy>User</cp:lastModifiedBy>
  <dcterms:modified xsi:type="dcterms:W3CDTF">1980-04-06T07:04:36Z</dcterms:modified>
  <cp:revision>2</cp:revision>
  <dc:subject/>
  <dc:title>ОБЛЕПИХА    Выполнила Васильева Екатерина  Ученица 1класса «Б»  МОУ «СОШ №2»</dc:title>
</cp:coreProperties>
</file>