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AE9-82F5-4BFD-BE36-D22EA8EF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25A-5779-4795-99C4-2192403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F17-A43D-4DC9-8E58-666360F6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45C-0F4A-46D4-B957-4EC12BED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DE37-DB83-42E3-A7F3-51659CD2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BA55-F72B-4331-BD3B-B79FF0FE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7391-DC6B-44B9-ABA7-2ED06679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409-8C13-4B79-8B24-650CC0BA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EB3-6400-4ABD-944A-B3E6C201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51AE-F86E-4F0A-A224-84459219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030B-9FDF-4954-88D8-837A4725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D67-17C9-48A0-B7A3-82EB6E86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379E-FFA3-4C37-A2A5-919E76D9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0270-5F98-4464-AD2E-72D14186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F1DA-8878-4DBC-AB03-A2EB1497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7BD7-5ED4-4D17-9F86-479E0807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2173-99D3-489C-826E-CFE6D2D6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235-4EBD-43A5-8986-32658173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E331-298B-4F43-BDB3-04B5C1B1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9CE-FD6E-455D-85DB-A7B6BD0B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762-C33A-418C-86D6-F12E70D3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1FB-E1E0-4415-A4C2-89A844BD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6A9-7B6C-404F-AFFB-35728E5A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C57-C972-4673-8504-8361098E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9CCA-5051-4FEB-A3EB-446AE01408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BD11-C057-486D-8B13-B719CC13FB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ДУВАНЧИ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полнил работу                          Крестосов Даниил                                       ученик МОУ «СОШ №2»                               1класса «Б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879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одуванчик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ноголетнее растение с голыми продолговатыми листьями, с коротким толстым корнем. Цветки с желтым цветом .При созревании приобретает цвет белый и круглую форму головки. При ветре шар разлетается по всему полю. Соприкасаясь с землёй семена срастаются в землю и жизнь одуванчика снова продолжае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арственный одуванчи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ьзу приносит корень одуванчика и листья, цветки. Из цветка варят варенье.  Корень и листья приносят пользу здоровью: желчегонное средство, усиливает работу поджелудочной желе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5:04Z</dcterms:created>
  <dc:creator>User</dc:creator>
  <dc:description/>
  <dc:language>en-US</dc:language>
  <cp:lastModifiedBy>User</cp:lastModifiedBy>
  <dcterms:modified xsi:type="dcterms:W3CDTF">1980-04-06T07:07:29Z</dcterms:modified>
  <cp:revision>3</cp:revision>
  <dc:subject/>
  <dc:title>ОДУВАНЧИК</dc:title>
</cp:coreProperties>
</file>