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68FB-D45A-444C-8180-04252391F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B811-E372-4B6C-A5BC-B87CF392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2D33-460C-4318-ADD1-E7A98F41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0A0A-9B8C-4162-AFFC-79D246470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27F9-4EA4-4879-9B38-3985D104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B274-F6B1-4534-9A90-2445E80D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3FF6-26A8-4368-9829-A35481AE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882C-ABE6-46E7-AD98-CE27AA25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B179-AEEC-4AAF-8A75-94A2AB3F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05A5-8697-4660-B88E-FC21A622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57BA-E801-4F90-AB6B-500A0F0B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ABA7-3F62-4FD0-BAE8-36E70696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0755-64E8-4B5D-BF76-1D07B2C7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4151-C6DC-4519-B8C3-9649990D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363E-FCA8-48D8-9590-535023B6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26E9-CCB4-43AF-AB4D-C344A5712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E3F7-3E50-4E3D-BE15-832D06658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E2EA-6CA5-4CF4-8930-1AC3997E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F930-C1A6-4CF8-B997-F0597CFA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934A-5D0B-4006-A730-390926AC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17F5-E3FD-435A-AF3B-659421D0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E232-A737-4DD2-AF9A-A545735C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F1ED-CF1C-45C4-AA06-DE70F711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4256-62A5-47A4-AC3D-597DF244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D6E7-56B3-4595-8F1F-E025F303E1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7CFD-038B-48EB-A9ED-7FCCA5328E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ОДУВАНЧИ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ыполнил работу                          Крестосов Даниил                                       ученик МОУ «СОШ №2»                               1класса «Б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87964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Что такое одуванчик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Многолетнее растение с голыми продолговатыми листьями, с коротким толстым корнем. Цветки с желтым цветом .При созревании приобретает цвет белый и круглую форму головки. При ветре шар разлетается по всему полю. Соприкасаясь с землёй семена срастаются в землю и жизнь одуванчика снова продолжаетс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Лекарственный одуванчи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льзу приносит корень одуванчика и листья, цветки. Из цветка варят варенье.  Корень и листья приносят пользу здоровью: желчегонное средство, усиливает работу поджелудочной желез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7:25:04Z</dcterms:created>
  <dc:creator>User</dc:creator>
  <dc:description/>
  <dc:language>en-US</dc:language>
  <cp:lastModifiedBy>User</cp:lastModifiedBy>
  <dcterms:modified xsi:type="dcterms:W3CDTF">1980-04-06T07:07:29Z</dcterms:modified>
  <cp:revision>3</cp:revision>
  <dc:subject/>
  <dc:title>ОДУВАНЧИК</dc:title>
</cp:coreProperties>
</file>