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1421-98FD-487C-A6CA-46A1574B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752-6386-4F6C-8E06-F4BAF4D4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A3D-E9C3-462F-8557-0C150B51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3FD-3FC0-44E6-BC0A-4470A823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720A-C76A-4F60-9C46-515E63AD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7B62-ED7C-48A9-8902-168D6848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7A1D-612D-4A91-AD4F-98EF0E7F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058F-1680-4EBC-81A9-3FE7D784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B339-E190-463A-8995-F8E40D59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DFFF-F198-4C9D-AF43-A180207D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665A-8748-4B73-9E46-B619DB24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917F-FDCD-41B6-B685-3B52D0CA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27EB-6B96-478C-B521-6E07F225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F356-74DD-433C-A8CE-F60B3535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D0A4-F469-4258-B7B3-1CF45013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2615-3ACB-4B30-9819-C98357BF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AFC3-8D13-4814-B275-3178DBDA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D14-F4F1-452E-91B7-28F9CFFE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233-FCE8-4199-9FAD-DC9FC46A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5EB-987E-4252-8981-C7B14ECB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9DD-F420-4A49-98C1-BD9CB85F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4DEF-5FEA-42FE-A633-2FC82DBD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76C-2012-415D-BA47-94A3069B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06F-B12A-4DC4-B3D3-B94E58D6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9CC2-83BF-4A92-AD2B-329FAD1207B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6ED8-9EA9-45DE-8B1B-E8BAB610E2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Подсолнух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 Маслаков Семён                         ученик 1класса «Б»                                                    МОУ «СОШ№2»                                          г.Назаро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одсолну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45147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ревшее семечко падает в поч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7028" t="0" r="9569" b="18747"/>
          <a:stretch/>
        </p:blipFill>
        <p:spPr>
          <a:xfrm>
            <a:off x="324000" y="2997360"/>
            <a:ext cx="3995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4-05T03:50:25Z</dcterms:created>
  <dc:creator>User</dc:creator>
  <dc:description/>
  <dc:language>en-US</dc:language>
  <cp:lastModifiedBy>User</cp:lastModifiedBy>
  <dcterms:modified xsi:type="dcterms:W3CDTF">1980-04-05T04:07:09Z</dcterms:modified>
  <cp:revision>2</cp:revision>
  <dc:subject/>
  <dc:title>Подсолнух</dc:title>
</cp:coreProperties>
</file>