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A0FA-D688-4C39-B00A-393A0211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15EB-CBF4-4FAE-B651-1F28C29A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31FB-1DC0-495A-87A2-2B7C84B2F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050E-8B7C-45A9-9460-F847DA9B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3E9C-4487-416F-80BF-BE9ABCE4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D326-A386-40ED-9D07-2A8852DC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27A9-D0C1-4776-809F-AE8B25D9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0990-08BF-4AB4-9C1B-C4DDED2C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E1D0-FD42-40EA-BFEE-D3DD9548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D1F8-F9B9-41A1-B522-AD0742F6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FFAF-3D20-442C-899D-FBCB7A22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FD92-DB19-4DA0-9A33-F92E84FA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CD7F-F2DF-4C6C-B95E-9E98DA2E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24BB-3D11-45B9-A08D-C80FD85F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88CB-F64B-4AD3-8032-18BF6EA6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72D2-3803-4D1C-8F9E-94A1F4B5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F276-23FC-452F-B72B-703E61EEB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EE36-085C-45E1-8C8A-368AC110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4471-72FA-44A7-AD04-436EE3D7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A4B9-E4A3-4056-B82B-3D91A43D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747C-8142-404D-BF8B-35E05881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69D0-61F1-4A31-B3C4-49CB79D9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AE8F-C5CB-4A3A-8AC2-9217FDFB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87B9-3AD9-4A9D-A238-38942919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C449-A16D-489F-A0A5-75FF2D8FBDA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130E-0F88-43BC-92E4-24A703B8505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Подсолнух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олнил Маслаков Семён                         ученик 1класса «Б»                                                    МОУ «СОШ№2»                                          г.Назаро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дсолну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45147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зревшее семечко падает в почв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7028" t="0" r="9569" b="18747"/>
          <a:stretch/>
        </p:blipFill>
        <p:spPr>
          <a:xfrm>
            <a:off x="324000" y="2997360"/>
            <a:ext cx="39956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4-05T03:50:25Z</dcterms:created>
  <dc:creator>User</dc:creator>
  <dc:description/>
  <dc:language>en-US</dc:language>
  <cp:lastModifiedBy>User</cp:lastModifiedBy>
  <dcterms:modified xsi:type="dcterms:W3CDTF">1980-04-05T04:07:09Z</dcterms:modified>
  <cp:revision>2</cp:revision>
  <dc:subject/>
  <dc:title>Подсолнух</dc:title>
</cp:coreProperties>
</file>