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331-8510-4211-B6A6-146051BF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2C3-7C0C-4E0D-B3AA-4A25A4D1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FCA-502D-4970-A58C-93C9DAEC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7BB-0003-4516-9A26-5DFC4CBD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0804B-C1BD-47C1-A81D-5A6FDDF1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08FA7-07B3-4594-A0EE-1DC39BFC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C4A2C-B642-4110-B5BA-807EEAE1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14BF6-0D92-4242-A4B8-862C0138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7530C-2171-4D98-A12C-8332F0D0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DC0A-6CAE-46E1-9D8C-897425F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EA317-EFD2-4486-AD3C-BB214F8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894-461D-477A-8EE9-4175CFCA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5AADB-95FF-4FAB-955C-31830009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C17BB-7785-44DF-A81B-22ACE28A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D98A5-FC09-419F-8E4C-9E7D4407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2ED83-F72B-4274-A5BC-6AF1AFF6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383EE-F551-45E6-9D82-EF065B0B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03F-37F7-44D6-8341-28CB1003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5B9-9246-4A08-862E-67741E04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F03-55E2-4EDA-B52D-6941B0C8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DED-D81A-4611-933C-C3DA90B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6E3-5274-4FFF-883F-AB6DD3B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CF6-A2EC-489E-B016-0ECFAE8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73E-DE1B-4018-B394-01DC7A7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C691-D85C-4CBB-9965-4B23C8499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56E4-FB7E-49C4-9016-53AB79E697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мороди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 Гуляев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к 1 класса «Б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У «СОШ №2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екарственное растение Смород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хочу рассказать об удивительном растении – смородина. Эти кустики с вкусными красными, черными  и белыми ягодами растут в каждом саду. Про лечебные свойства смородины люди знали еще четыреста лет наза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ьза для здоров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В ягодках смородины есть много витаминов, а еще много аскорбиновой кислоты такие витаминки мне дают, когда я болею простудой. У растения смородины все лечебное и ягоды, и листья, и веточки. Ею лечатся от многих взрослых болезней, а детей лечат от просту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5T03:44:36Z</dcterms:created>
  <dc:creator>User</dc:creator>
  <dc:description/>
  <dc:language>en-US</dc:language>
  <cp:lastModifiedBy>45</cp:lastModifiedBy>
  <dcterms:modified xsi:type="dcterms:W3CDTF">2008-05-22T13:19:46Z</dcterms:modified>
  <cp:revision>3</cp:revision>
  <dc:subject/>
  <dc:title>Смородина</dc:title>
</cp:coreProperties>
</file>