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4FEE-C4B1-4D04-928B-7D4F71CD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6AA-3572-4792-AF9A-8C933BF8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28FB-CBEA-4FD6-B46F-295D0AF2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A11-2757-4C3F-AB9C-42F48B79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8C177-5147-4CD6-AC0E-EF43A276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E6EEF-07A5-4ED6-B731-8DFA015A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921B8-488E-4833-8516-6F279E8A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CBF8A-D17F-4247-BA23-789D152D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D36CF-175D-47FE-BDA2-F6D0584D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95CC7-53AD-427C-957B-75C05BD9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32980-C70B-4A78-9AA1-1E206F00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2D6-E37A-43FC-B468-7FAD50C9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EF8EA-25D7-4D1B-9E18-15D4F537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FADB2-09FB-488F-B581-5CE97C82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E3324-2B5C-49FF-B30C-1132C494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24A2C-FFB8-4EAF-A123-7C7A7DA6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A6985-016D-4651-B0E2-B72D1EA8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A1B-8340-4D1A-B323-26256B62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DA9-9FA9-4ECA-9125-C5B5ED17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BCC-BD2A-4A52-93E6-5D6727D0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ED8-5E6B-4653-80BF-8E454FEB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D4B-E9EE-438F-AF49-78DD4319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A48-F63F-4DD5-BF88-D33941FA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DF6-D75D-4DFE-AD30-412ACBAE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C7D4-ABDC-4312-A6C9-EA1EBB984C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1217-0D05-4B4A-AD77-1842000DD2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Смородин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 Гуляев 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еник 1 класса «Б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У «СОШ №2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Лекарственное растение Смороди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хочу рассказать об удивительном растении – смородина. Эти кустики с вкусными красными, черными  и белыми ягодами растут в каждом саду. Про лечебные свойства смородины люди знали еще четыреста лет наза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льза для здоровь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В ягодках смородины есть много витаминов, а еще много аскорбиновой кислоты такие витаминки мне дают, когда я болею простудой. У растения смородины все лечебное и ягоды, и листья, и веточки. Ею лечатся от многих взрослых болезней, а детей лечат от простуд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4-05T03:44:36Z</dcterms:created>
  <dc:creator>User</dc:creator>
  <dc:description/>
  <dc:language>en-US</dc:language>
  <cp:lastModifiedBy>45</cp:lastModifiedBy>
  <dcterms:modified xsi:type="dcterms:W3CDTF">2008-05-22T13:19:46Z</dcterms:modified>
  <cp:revision>3</cp:revision>
  <dc:subject/>
  <dc:title>Смородина</dc:title>
</cp:coreProperties>
</file>