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C77-8E1A-4D74-A303-901ADE7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3AC-1B09-4491-9ACA-323054B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BC3-66B6-4A81-A46B-0C7EDF88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991-051F-4DDC-84AC-3E3AFEA6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3BD-E313-48BE-A071-A7F8033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466-F214-4FE8-9A51-0D5C1E80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90C-1CE4-42FF-BED8-A84B5C6B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B1F-CAF4-41ED-B137-9B16AB8C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7B0-8B1C-45E2-957D-DE2C1969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809-E520-4747-989D-C1B4C61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8E5-D14A-41AD-9839-6D4E1123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80A-7D99-4EB8-9026-F03A8853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EE50-B8DB-4564-92A0-DB297716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8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об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28526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60786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Творческое кре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62864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Алагуев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4005360"/>
            <a:ext cx="53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Ольга Лазаревн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07920"/>
          <a:ext cx="9144000" cy="5774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епочка зависим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ограммно-метод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                   Слово                    Словосочет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русскому языку с системой дополнительных творческих заданий (5-9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пецкурса «Развитие речи» (6-8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МЭ (9 кл.) с дидактическим материалом и компьютерными презента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ГЭ (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ед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Теория сочинений разных типов и жанров» (9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Литературный процесс» (10-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 литературе для гуманитарных классов с системой самостоятельных творческих рабо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литературе с системой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ство                Опы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факультатива «Воспитание творческого читателя» (9-11 класс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те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 образова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H="1">
            <a:off x="1618920" y="162864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206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997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492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581360"/>
            <a:ext cx="1222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157720"/>
            <a:ext cx="122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4724280"/>
            <a:ext cx="100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68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жить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950080"/>
            <a:ext cx="649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087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ая школа в настоящее время призвана обеспечить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178080" cy="403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789360"/>
            <a:ext cx="3564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мпет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240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75708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ункцион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от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84720" y="141300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аирова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084640"/>
            <a:ext cx="2664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5084640"/>
            <a:ext cx="2735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221000"/>
            <a:ext cx="529272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рофессионально-трудовог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53000"/>
            <a:ext cx="403236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084640"/>
            <a:ext cx="3167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фере смысло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653000"/>
            <a:ext cx="3672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ценностных ориент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1413000"/>
            <a:ext cx="2952720" cy="7920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снов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обр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789360"/>
            <a:ext cx="3780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4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44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4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44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6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76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6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1305000"/>
          <a:ext cx="9144000" cy="555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мес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   и  Дел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узнать каждого ребё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явить творческий потенц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оздать условия для его разви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можем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и  Талант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 Сп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 и    творчество, 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е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интере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ссея раз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профил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и мо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 Мир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948360" y="5516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обща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1673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133720"/>
            <a:ext cx="252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живание отношений:  учитель-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133720"/>
            <a:ext cx="3889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гуманистической  основе острейших проблем 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6680" y="229392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7280" y="1197000"/>
            <a:ext cx="1440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485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01920" y="3475080"/>
            <a:ext cx="120600" cy="3771720"/>
          </a:xfrm>
          <a:custGeom>
            <a:avLst/>
            <a:gdLst>
              <a:gd name="textAreaLeft" fmla="*/ 0 w 120600"/>
              <a:gd name="textAreaRight" fmla="*/ 43560 w 120600"/>
              <a:gd name="textAreaTop" fmla="*/ 98280 h 3771720"/>
              <a:gd name="textAreaBottom" fmla="*/ 3673440 h 37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542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сновной метод работ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00240" y="763560"/>
            <a:ext cx="17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19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Духовный контакт                                              Педагогический 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70640"/>
            <a:ext cx="8640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урок  3 «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чества                                 свободы                    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56416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оюз рав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143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00720" y="839520"/>
            <a:ext cx="446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Трактата индийских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«Наука радост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ни, что радость творчества – непобедимая сила, тогда как уныние и отрицание погубят всё, за что ты не взялс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ь, вся жизнь Вселенной, всегда утверждение. Творить можно, только утвержд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 в силе каждый день. А для этого научись действовать, а не ждать; творить, а не собираться с дух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52640"/>
            <a:ext cx="4537080" cy="496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89000"/>
            <a:ext cx="4464000" cy="693720"/>
          </a:xfrm>
          <a:prstGeom prst="flowChartTerminator">
            <a:avLst/>
          </a:prstGeom>
          <a:gradFill rotWithShape="0">
            <a:gsLst>
              <a:gs pos="0">
                <a:srgbClr val="663012"/>
              </a:gs>
              <a:gs pos="50000">
                <a:srgbClr val="ffefd1"/>
              </a:gs>
              <a:gs pos="100000">
                <a:srgbClr val="663012"/>
              </a:gs>
            </a:gsLst>
            <a:lin ang="13500000"/>
          </a:gradFill>
          <a:ln w="381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евиз мо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6564240"/>
            <a:ext cx="7705800" cy="1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3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7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64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76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1640" y="9079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пуск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557360"/>
          <a:ext cx="8305920" cy="23032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рудированный,  но  за счёт огромной информационной нагру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инимающий жизненные явления, но 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меющий круг общения, но обладающий множеством комплексов в общ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>
            <a:off x="2195640" y="126828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2000" y="1413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1036440" cy="178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4005360"/>
            <a:ext cx="64087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60280"/>
            <a:ext cx="799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403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916280"/>
            <a:ext cx="2735280" cy="1441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ое и эмоциональное обогащение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1916280"/>
            <a:ext cx="295092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и развитие творческого потенциа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916280"/>
            <a:ext cx="2592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ллектива творческих лич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2661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2207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672920" cy="181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2087280" cy="1649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333360"/>
            <a:ext cx="2592360" cy="1655640"/>
          </a:xfrm>
          <a:prstGeom prst="downArrowCallout">
            <a:avLst>
              <a:gd name="adj1" fmla="val 39148"/>
              <a:gd name="adj2" fmla="val 3914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спит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89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«В детях всё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еличайшие возмож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Л.Н. Толстой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62120" y="535680"/>
            <a:ext cx="5819760" cy="126324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Ученик + Учитель =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рограмма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бучения и воспит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565360"/>
            <a:ext cx="1943280" cy="144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ная, эмоционально бога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2924280"/>
            <a:ext cx="1943280" cy="1439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вор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565360"/>
            <a:ext cx="2160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о адаптир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0500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0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24000" y="549360"/>
          <a:ext cx="8640360" cy="5576040"/>
        </p:xfrm>
        <a:graphic>
          <a:graphicData uri="http://schemas.openxmlformats.org/drawingml/2006/table">
            <a:tbl>
              <a:tblPr/>
              <a:tblGrid>
                <a:gridCol w="1467360"/>
                <a:gridCol w="71730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едагогические усло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21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учение в сотрудничестве»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роект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и дифференцированный подход к обуч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исследовательской деятель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клуба любителей чт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системе дополнительного образо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бщ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ые творческие дел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программ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ы индивидуального саморазвит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учи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773360"/>
          <a:ext cx="4465440" cy="425772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Работа с одаренными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пецкурс «Основы исследовательской деятельнос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оздание индивидуальной образовательной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1220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34080"/>
            <a:ext cx="2411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учи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734080"/>
            <a:ext cx="1943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734080"/>
            <a:ext cx="352872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с олимпиад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5805360"/>
            <a:ext cx="2124000" cy="1052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баз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97360"/>
            <a:ext cx="2556000" cy="119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ью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4797360"/>
            <a:ext cx="208764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797360"/>
            <a:ext cx="352872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-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797360"/>
            <a:ext cx="2124000" cy="129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офи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255600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ру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3933720"/>
            <a:ext cx="194328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352872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О «Гели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28640"/>
            <a:ext cx="2771640" cy="263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импиа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рн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708280"/>
            <a:ext cx="2087640" cy="1557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076640"/>
            <a:ext cx="2124000" cy="1054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ЕГЭ, ЕМ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284640"/>
            <a:ext cx="3528720" cy="981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135200">
            <a:off x="-34920" y="977400"/>
            <a:ext cx="9610560" cy="172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 rot="20564400">
            <a:off x="-360" y="691920"/>
            <a:ext cx="750960" cy="53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9142560" cy="179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91425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-396720" y="5276880"/>
            <a:ext cx="914220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9316 0.01319 E">
                                      <p:cBhvr>
                                        <p:cTn id="2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4:40:27Z</dcterms:created>
  <dc:creator>Oem</dc:creator>
  <dc:description/>
  <dc:language>en-US</dc:language>
  <cp:lastModifiedBy>Oem</cp:lastModifiedBy>
  <dcterms:modified xsi:type="dcterms:W3CDTF">2010-12-25T15:33:02Z</dcterms:modified>
  <cp:revision>4</cp:revision>
  <dc:subject/>
  <dc:title>Слайд 1</dc:title>
</cp:coreProperties>
</file>