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14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4C4-B90A-4656-8172-673A71FC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BF3-E48D-45C2-BF80-7EBA79C1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BAB-3E9C-4930-86D0-C61DC5DB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F92-A095-461B-8542-D08BE2C2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581-7720-4F0D-8924-EE426DC7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B92-EDC6-4F9B-B1A3-05F25488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6A5-FB41-4FAF-8CEE-E7F577C3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EA6-D750-4870-AA79-C8DA8DC1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B32-FBAA-407B-9209-F2110665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60D-CCE9-407E-9A5E-AEC1BC0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03B-2B22-4038-8D66-10BF2F5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494-CA5C-4548-B877-D8E6C02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0A80-E9DB-49AB-948A-645D7330D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3.xml"/><Relationship Id="rId3" Type="http://schemas.openxmlformats.org/officeDocument/2006/relationships/image" Target="../media/image9.wm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89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общ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28526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60786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Творческое кре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628640"/>
            <a:ext cx="532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cb46c"/>
                    </a:gs>
                    <a:gs pos="50000">
                      <a:srgbClr val="ffff66"/>
                    </a:gs>
                    <a:gs pos="100000">
                      <a:srgbClr val="fcb46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OdessaScript"/>
              </a:rPr>
              <a:t>Алагуева</a:t>
            </a:r>
            <a:endParaRPr b="1" lang="en-US" sz="1800" spc="1" strike="noStrike">
              <a:ln w="284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cb46c"/>
                  </a:gs>
                  <a:gs pos="50000">
                    <a:srgbClr val="ffff66"/>
                  </a:gs>
                  <a:gs pos="100000">
                    <a:srgbClr val="fcb46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OdessaScript"/>
              <a:ea typeface="OdessaScrip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4005360"/>
            <a:ext cx="532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cb46c"/>
                    </a:gs>
                    <a:gs pos="50000">
                      <a:srgbClr val="ffff66"/>
                    </a:gs>
                    <a:gs pos="100000">
                      <a:srgbClr val="fcb46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OdessaScript"/>
              </a:rPr>
              <a:t>Ольга Лазаревна</a:t>
            </a:r>
            <a:endParaRPr b="1" lang="en-US" sz="1800" spc="1" strike="noStrike">
              <a:ln w="284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cb46c"/>
                  </a:gs>
                  <a:gs pos="50000">
                    <a:srgbClr val="ffff66"/>
                  </a:gs>
                  <a:gs pos="100000">
                    <a:srgbClr val="fcb46c"/>
                  </a:gs>
                </a:gsLst>
                <a:lin ang="54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OdessaScript"/>
              <a:ea typeface="OdessaScrip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907920"/>
          <a:ext cx="9144000" cy="5774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Цепочка зависим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рограммно-методическ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вук                   Слово                    Словосочет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е программы по русскому языку с системой дополнительных творческих заданий (5-9 класс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спецкурса «Развитие речи» (6-8 класс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дготовки к ЕМЭ (9 кл.) с дидактическим материалом и компьютерными презента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дготовки к ЕГЭ (11 к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еден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элективного курса «Теория сочинений разных типов и жанров» (9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элективного курса «Литературный процесс» (10-11 к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 литературе для гуманитарных классов с системой самостоятельных творческих рабо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е программы по литературе с системой разноуровневых зад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ство                Опы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факультатива «Воспитание творческого читателя» (9-11 классы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те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лексная программа образован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H="1">
            <a:off x="1618920" y="1628640"/>
            <a:ext cx="1584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206064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2997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492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4581360"/>
            <a:ext cx="12222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157720"/>
            <a:ext cx="1222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800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07640" y="4724280"/>
            <a:ext cx="100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71640" y="189000"/>
            <a:ext cx="568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жить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40000" y="5950080"/>
            <a:ext cx="649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20876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временная школа в настоящее время призвана обеспечить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178080" cy="403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789360"/>
            <a:ext cx="3564000" cy="433440"/>
          </a:xfrm>
          <a:prstGeom prst="rect">
            <a:avLst/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компетен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024000" cy="2881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75708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ункцион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мот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796000" y="134136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84720" y="1413000"/>
            <a:ext cx="27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аирова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084640"/>
            <a:ext cx="266400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5084640"/>
            <a:ext cx="273528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4221000"/>
            <a:ext cx="529272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профессионально-трудовог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653000"/>
            <a:ext cx="403236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личност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084640"/>
            <a:ext cx="316728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фере смысло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653000"/>
            <a:ext cx="367200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ценностных ориента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1413000"/>
            <a:ext cx="2952720" cy="7920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Основ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риобр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3789360"/>
            <a:ext cx="3780000" cy="433440"/>
          </a:xfrm>
          <a:prstGeom prst="rect">
            <a:avLst/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44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44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44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44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6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36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600"/>
                            </p:stCondLst>
                            <p:childTnLst>
                              <p:par>
                                <p:cTn id="3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76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16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36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1305000"/>
          <a:ext cx="9144000" cy="5553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вмес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   и  Дел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узнать каждого ребён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явить творческий потенци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оздать условия для его разви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д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к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ь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можем вс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и  Талант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ублика Сп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 и    творчество, 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е буду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интере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ссея раз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  профил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и мо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   Мир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948360" y="5516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79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71640" y="18900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общатьс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1673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2133720"/>
            <a:ext cx="252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аживание отношений:  учитель-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2133720"/>
            <a:ext cx="3889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на гуманистической  основе острейших проблем  соврем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6680" y="229392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27280" y="1197000"/>
            <a:ext cx="14400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1268280"/>
            <a:ext cx="1485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01920" y="3475080"/>
            <a:ext cx="120600" cy="3771720"/>
          </a:xfrm>
          <a:custGeom>
            <a:avLst/>
            <a:gdLst>
              <a:gd name="textAreaLeft" fmla="*/ 0 w 120600"/>
              <a:gd name="textAreaRight" fmla="*/ 43560 w 120600"/>
              <a:gd name="textAreaTop" fmla="*/ 98280 h 3771720"/>
              <a:gd name="textAreaBottom" fmla="*/ 3673440 h 37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3542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сновной метод работ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00240" y="763560"/>
            <a:ext cx="17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4119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Духовный контакт                                              Педагогический принц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770640"/>
            <a:ext cx="8640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урок  3 «с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ворчества                                 свободы                     со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556416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оюз рав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143964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00720" y="839520"/>
            <a:ext cx="4465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з Трактата индийских уч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«Наука радост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мни, что радость творчества – непобедимая сила, тогда как уныние и отрицание погубят всё, за что ты не взялся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знь, вся жизнь Вселенной, всегда утверждение. Творить можно, только утвержд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и в силе каждый день. А для этого научись действовать, а не ждать; творить, а не собираться с духо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052640"/>
            <a:ext cx="4537080" cy="4968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189000"/>
            <a:ext cx="4464000" cy="693720"/>
          </a:xfrm>
          <a:prstGeom prst="flowChartTerminator">
            <a:avLst/>
          </a:prstGeom>
          <a:gradFill rotWithShape="0">
            <a:gsLst>
              <a:gs pos="0">
                <a:srgbClr val="663012"/>
              </a:gs>
              <a:gs pos="50000">
                <a:srgbClr val="ffefd1"/>
              </a:gs>
              <a:gs pos="100000">
                <a:srgbClr val="663012"/>
              </a:gs>
            </a:gsLst>
            <a:lin ang="13500000"/>
          </a:gradFill>
          <a:ln w="381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евиз мое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1280" y="6564240"/>
            <a:ext cx="7705800" cy="1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9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20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13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196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7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64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3976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71640" y="9079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ыпуск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557360"/>
          <a:ext cx="8305920" cy="23032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рудированный,  но  за счёт огромной информационной нагру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инимающий жизненные явления, но пасс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меющий круг общения, но обладающий множеством комплексов в общ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>
            <a:off x="2195640" y="1268280"/>
            <a:ext cx="1008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72000" y="14130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56000" y="3284640"/>
            <a:ext cx="1036440" cy="1787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76360" y="4005360"/>
            <a:ext cx="640872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делать??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7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читель должен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оздавать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развития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Учитель должен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здавать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ля развития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260280"/>
            <a:ext cx="7993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делать??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2403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6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7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916280"/>
            <a:ext cx="2735280" cy="1441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ллектуальное и эмоциональное обогащение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1916280"/>
            <a:ext cx="295092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е и развитие творческого потенциа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916280"/>
            <a:ext cx="259236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ллектива творческих лич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26614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12207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1672920" cy="181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780000" y="2997360"/>
            <a:ext cx="2087280" cy="1649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260280"/>
            <a:ext cx="2592360" cy="1656000"/>
          </a:xfrm>
          <a:prstGeom prst="downArrowCallout">
            <a:avLst>
              <a:gd name="adj1" fmla="val 39139"/>
              <a:gd name="adj2" fmla="val 39136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уко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260280"/>
            <a:ext cx="2592360" cy="1656000"/>
          </a:xfrm>
          <a:prstGeom prst="downArrowCallout">
            <a:avLst>
              <a:gd name="adj1" fmla="val 39139"/>
              <a:gd name="adj2" fmla="val 39136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 вы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1640" y="333360"/>
            <a:ext cx="2592360" cy="1655640"/>
          </a:xfrm>
          <a:prstGeom prst="downArrowCallout">
            <a:avLst>
              <a:gd name="adj1" fmla="val 39148"/>
              <a:gd name="adj2" fmla="val 3914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спита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лекс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89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«В детях всё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еличайшие возмож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Л.Н. Толстой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62120" y="535680"/>
            <a:ext cx="5819760" cy="126324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Ученик + Учитель =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программа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бучения и воспит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565360"/>
            <a:ext cx="1943280" cy="1440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зованная, эмоционально богат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2924280"/>
            <a:ext cx="1943280" cy="14396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вор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2565360"/>
            <a:ext cx="216036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о адаптиров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84464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220500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6000" y="184464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35280" y="4437000"/>
            <a:ext cx="20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24000" y="549360"/>
          <a:ext cx="8640360" cy="5576040"/>
        </p:xfrm>
        <a:graphic>
          <a:graphicData uri="http://schemas.openxmlformats.org/drawingml/2006/table">
            <a:tbl>
              <a:tblPr/>
              <a:tblGrid>
                <a:gridCol w="1467360"/>
                <a:gridCol w="717300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ч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едагогические усло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21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чи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учение в сотрудничестве»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проект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и дифференцированный подход к обучени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исследовательской деятельно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клуба любителей чт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системе дополнительного образо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63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бщ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Д (коллективные творческие дела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 программ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ы индивидуального саморазвит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771640" y="18900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учитьс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411280" y="1773360"/>
          <a:ext cx="4465440" cy="425772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Работа с одаренными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Спецкурс «Основы исследовательской деятельност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8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Создание индивидуальной образовательной траек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1220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734080"/>
            <a:ext cx="241128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учи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5734080"/>
            <a:ext cx="194328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5734080"/>
            <a:ext cx="352872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 с олимпиад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5805360"/>
            <a:ext cx="2124000" cy="1052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баз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797360"/>
            <a:ext cx="2556000" cy="1195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ью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4797360"/>
            <a:ext cx="2087640" cy="1268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4797360"/>
            <a:ext cx="3528720" cy="1268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о-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797360"/>
            <a:ext cx="2124000" cy="129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рофи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255600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Эруд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3933720"/>
            <a:ext cx="194328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у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Л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933720"/>
            <a:ext cx="352872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ИО «Гели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28640"/>
            <a:ext cx="2771640" cy="2635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лимпиа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урни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т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708280"/>
            <a:ext cx="2087640" cy="1557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4076640"/>
            <a:ext cx="2124000" cy="1054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ЕГЭ, ЕМ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284640"/>
            <a:ext cx="3528720" cy="981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ферен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1135200">
            <a:off x="-34920" y="977400"/>
            <a:ext cx="9610560" cy="1725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 rot="20564400">
            <a:off x="-360" y="691920"/>
            <a:ext cx="750960" cy="53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9142560" cy="179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914256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-396720" y="5276880"/>
            <a:ext cx="914220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9316 0.01319 E">
                                      <p:cBhvr>
                                        <p:cTn id="21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4:40:27Z</dcterms:created>
  <dc:creator>Oem</dc:creator>
  <dc:description/>
  <dc:language>en-US</dc:language>
  <cp:lastModifiedBy>Oem</cp:lastModifiedBy>
  <dcterms:modified xsi:type="dcterms:W3CDTF">2010-12-25T15:33:02Z</dcterms:modified>
  <cp:revision>4</cp:revision>
  <dc:subject/>
  <dc:title>Слайд 1</dc:title>
</cp:coreProperties>
</file>