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E8A-218D-4E79-BB70-0B8D316B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347-FE0D-43CA-97E7-A2290FEE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271-EE53-4729-91C1-77C1D2A9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05AD-FC59-4D51-8002-2E420C78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350-3C30-4077-8CCF-B89B63B3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A638-4EE6-4642-B3A8-3D7388C2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F54B-99F7-41A0-8DE4-D656803C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FCD-1FC9-4BC5-9E7A-3D34EAED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204-7E0C-446E-B81F-7A2D02D6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A570-8B0F-4A7C-B54D-255DA754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5F18-9B7F-4641-830E-7C391CDE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5AD-06AE-4EB9-A59D-1EBEADD3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7A72-98C0-4ED6-9B89-3A144344E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4027" t="0" r="0" b="47900"/>
          <a:stretch/>
        </p:blipFill>
        <p:spPr>
          <a:xfrm>
            <a:off x="0" y="189000"/>
            <a:ext cx="9144000" cy="3573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42920" y="3500280"/>
            <a:ext cx="702144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ffff">
                    <a:alpha val="76000"/>
                  </a:srgbClr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оект 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ffff">
                  <a:alpha val="76000"/>
                </a:srgbClr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ffff">
                    <a:alpha val="76000"/>
                  </a:srgbClr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Зеленая аптека»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ffff">
                  <a:alpha val="76000"/>
                </a:srgbClr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0"/>
            <a:ext cx="86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тушка природа—для лечения народа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6156360"/>
            <a:ext cx="457200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ыполнили ученики 1 класса «Б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уководитель:  Ганжа С.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 этап: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пределяем круг вопро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2959560"/>
            <a:ext cx="87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Что такое лекарственные раст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Какую пользу приносят  лекарственные растен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76720" y="4581360"/>
            <a:ext cx="2124360" cy="2057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II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этап: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просим у взросл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Что такое лекарственные раст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карственные растения - это, пожалуй, самый старый метод лечения. Не только наши   прабабушки  заваривали чаи и  делали настои,    но и самые первые знахари использовали их в своих настоях. Также хотим заметить, что травы в основном эффективны  против несерьезных заболеваний: простуды, коликов в животе, головной боли и подобных. Но для более серьезного анализа болезни и выявления возможных скрытых заболеваний нужно ВСЕГДА обращаться к вра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5589720"/>
            <a:ext cx="3524400" cy="942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V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. этап: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смотрим справочник, заглянем в энциклопед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1560" y="3496680"/>
            <a:ext cx="74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36000" y="4797360"/>
            <a:ext cx="1676160" cy="1876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1844640"/>
            <a:ext cx="813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лечения внутренних и наружных заболеваний на Ру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хотно использовали прикладывание растений и приём их внутрь (например, прикладывали капусту, лён, горчицу, орешник или   пили их соки). Наряду с растительными лекарствен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паратами, русский народ с давних времён применял 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чебной практике мёд. Назначался он в чистом виде и в смес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аром трав, с маслом, уксусом, салом, пивом, печёным луком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 многими другими веществами. Изучению многовекового опыта народов в использовании растений с лечебной целью в нашей стране придаётся большое значени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Выв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39280" y="1557360"/>
            <a:ext cx="8209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аботка данного проекта – это путь    к саморазвитию личности   через осознание собственных потребностей, через самореализацию в творческой 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роцессе творческой работы дети получают полное и глубокое удовлетворение от сделанного, развивается  их творческая активность, определяется социальная позиция ребёнка. При этом заботятся о своём здоровье, воспитывается бережное  отношение к раст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72280" y="4562640"/>
            <a:ext cx="3771720" cy="2295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820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ним прислушаться нам стои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 разных трав полезных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 серьёзнейших болезне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02840" y="45154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067280" y="189000"/>
            <a:ext cx="4673520" cy="4321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258920" y="4149720"/>
            <a:ext cx="64101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Будьте здоров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Цели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влечется каждый участник в активный познавательный процесс  по     изучению  лекарственных  раст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уется  культура  здоровья  младших школьников  как части  общей   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учатся обрабатывать: классифицировать, систематизировать, обобщать изученный материал, делать вы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619280" y="4076640"/>
            <a:ext cx="1800360" cy="1513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Задачи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знакомить  учащихся через организацию исследовательской деятельности с  лекарственными растени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овать навык исследовательской деятель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ть эмоционально-чувственную сферу личности младшего школьника в  процессе взаимодействия с объектами природно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362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еречень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ритериев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проверки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достижения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ланируемых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результато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44956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озраст учащихся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ремя работы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над проектом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арт-м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Материально-техническое и учебно-методическое оснащение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тоснимки, книжный  фонд  школьной  и городской библиотек;  слайды  «Лекарственные  раст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Дополнительно привлекаемые участники (специалисты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родители  уча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держательность доклад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пользование при выступлении И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Основной вопрос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Насколько природа  может помочь тебе сохранить и укрепить здоров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анируемый конечный результ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учение знаний о том, как природа  может помочь тебе сохранить и укрепить здоровь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мы исследований уча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е лекарственные растения ес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де растут лекарственные   растения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 можно лечить без таблет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УЩЕСТВЛЕНИЕ УЧЕБНОГО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бота построена по типу творческого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бота над проектом была разбита на этап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BD20052_" descr=""/>
          <p:cNvPicPr/>
          <p:nvPr/>
        </p:nvPicPr>
        <p:blipFill>
          <a:blip r:embed="rId1"/>
          <a:stretch/>
        </p:blipFill>
        <p:spPr>
          <a:xfrm>
            <a:off x="6659640" y="1773360"/>
            <a:ext cx="1562040" cy="1133280"/>
          </a:xfrm>
          <a:prstGeom prst="rect">
            <a:avLst/>
          </a:prstGeom>
          <a:ln w="0">
            <a:noFill/>
          </a:ln>
        </p:spPr>
      </p:pic>
      <p:pic>
        <p:nvPicPr>
          <p:cNvPr id="62" name="BD20115_" descr=""/>
          <p:cNvPicPr/>
          <p:nvPr/>
        </p:nvPicPr>
        <p:blipFill>
          <a:blip r:embed="rId2"/>
          <a:stretch/>
        </p:blipFill>
        <p:spPr>
          <a:xfrm>
            <a:off x="6095880" y="5486400"/>
            <a:ext cx="3048120" cy="1371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251280"/>
            <a:ext cx="69310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  <a:ea typeface="Times New Roman"/>
              </a:rPr>
              <a:t>I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  <a:ea typeface="Times New Roman"/>
              </a:rPr>
              <a:t>. этап: </a:t>
            </a:r>
            <a:r>
              <a:rPr b="0" lang="ru-RU" sz="4800" spc="-1" strike="noStrike">
                <a:solidFill>
                  <a:srgbClr val="333399"/>
                </a:solidFill>
                <a:latin typeface="Monotype Corsiva"/>
                <a:ea typeface="Times New Roman"/>
              </a:rPr>
              <a:t>подума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наступлением зимы мы стали чащ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еть: появился кашель, насморк, боли в гор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2715480"/>
            <a:ext cx="864072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 у нас  возникла идея: выздороветь без таблеток,                                 а при помощи лекарственных  растений.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все поняли, что нам необходи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олнительные теоретические свед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 решили заняться поиском нуж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нформации.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803160" y="71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5:04:34Z</dcterms:created>
  <dc:creator>ганжа</dc:creator>
  <dc:description/>
  <dc:language>en-US</dc:language>
  <cp:lastModifiedBy>a</cp:lastModifiedBy>
  <dcterms:modified xsi:type="dcterms:W3CDTF">2009-05-20T11:40:44Z</dcterms:modified>
  <cp:revision>30</cp:revision>
  <dc:subject/>
  <dc:title>зелёная аптека</dc:title>
</cp:coreProperties>
</file>