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CF2-AED5-4AA0-8FCB-56A93A54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E621-BBC7-4293-99AE-4EBA8D61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411-F6E5-4F01-9474-21961AA5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BCE-51D2-4114-8711-15750F22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E49-9FB0-4231-9475-45763733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10C-5B12-46B0-8515-98696584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52B-5FBB-46BC-92C9-914C5125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A20-4010-4EAC-BD28-E3694B32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10F-0D72-4DEB-BBBC-9CAC5132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F31-D00A-4B6C-9575-D5E29C9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267D-E0C8-495F-B3FD-F177DA1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93A-D056-443F-9A02-017DE6B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C25D-5B41-4C6A-A0A3-800E613E0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27" t="0" r="0" b="47900"/>
          <a:stretch/>
        </p:blipFill>
        <p:spPr>
          <a:xfrm>
            <a:off x="0" y="189000"/>
            <a:ext cx="9144000" cy="3573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3500280"/>
            <a:ext cx="702144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>
                    <a:alpha val="76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ект 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>
                  <a:alpha val="76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>
                    <a:alpha val="76000"/>
                  </a:srgbClr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«Зеленая аптека»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>
                  <a:alpha val="76000"/>
                </a:srgbClr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0"/>
            <a:ext cx="86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ушка природа—для лечения народа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1640" y="6156360"/>
            <a:ext cx="45720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полнили ученики 1 класса «Б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:  Ганжа С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 этап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пределяем круг вопро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2959560"/>
            <a:ext cx="87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Что такое лекарственные раст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Какую пользу приносят  лекарственные раст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6720" y="4581360"/>
            <a:ext cx="212436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этап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просим у взросл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Что такое лекарственные раст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карственные растения - это, пожалуй, самый старый метод лечения. Не только наши   прабабушки  заваривали чаи и  делали настои,    но и самые первые знахари использовали их в своих настоях. Также хотим заметить, что травы в основном эффективны  против несерьезных заболеваний: простуды, коликов в животе, головной боли и подобных. Но для более серьезного анализа болезни и выявления возможных скрытых заболеваний нужно ВСЕГДА обращаться к вр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932360" y="5589720"/>
            <a:ext cx="3524400" cy="942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 этап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смотрим справочник, заглянем в энциклопед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1560" y="3496680"/>
            <a:ext cx="74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36000" y="4797360"/>
            <a:ext cx="1676160" cy="1876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1844640"/>
            <a:ext cx="813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лечения внутренних и наружных заболеваний на Ру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хотно использовали прикладывание растений и приём их внутрь (например, прикладывали капусту, лён, горчицу, орешник или   пили их соки). Наряду с растительными лекарстве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паратами, русский народ с давних времён применял 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бной практике мёд. Назначался он в чистом виде и в смес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аром трав, с маслом, уксусом, салом, пивом, печёным луком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 многими другими веществами. Изучению многовекового опыта народов в использовании растений с лечебной целью в нашей стране придаётся большое значени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9280" y="1557360"/>
            <a:ext cx="8209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ка данного проекта – это путь    к саморазвитию личности   через осознание собственных потребностей, через самореализацию в творческой 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цессе творческой работы дети получают полное и глубокое удовлетворение от сделанного, развивается  их творческая активность, определяется социальная позиция ребёнка. При этом заботятся о своём здоровье, воспитывается бережное  отношение к раст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72280" y="4562640"/>
            <a:ext cx="3771720" cy="2295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ним прислушаться нам стои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 разных трав полез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 серьёзнейших болезне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02840" y="45154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067280" y="189000"/>
            <a:ext cx="4673520" cy="432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258920" y="4149720"/>
            <a:ext cx="64101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Будьте здоров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Цели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влечется каждый участник в активный познавательный процесс  по     изучению  лекарственных  раст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уется  культура  здоровья  младших школьников  как части  общей   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чатся обрабатывать: классифицировать, систематизировать, обобщать изученный материал, делать вы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619280" y="4076640"/>
            <a:ext cx="1800360" cy="151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Задачи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знакомить  учащихся через организацию исследовательской деятельности с  лекарственными растен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ть навык исследовательск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ть эмоционально-чувственную сферу личности младшего школьника в  процессе взаимодействия с объектами природно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еречень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ритериев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проверки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достижения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ланируемых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результато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4956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озраст учащихс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ремя работ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над проектом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март-м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Материально-техническое и учебно-методическое оснащение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снимки, книжный  фонд  школьной  и городской библиотек;  слайды  «Лекарственные  раст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Дополнительно привлекаемые участники (специалисты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родители 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держательность доклад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ьзование при выступлении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Основной вопрос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асколько природа  может помочь тебе сохранить и укрепить здоров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ируемый конечный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учение знаний о том, как природа  может помочь тебе сохранить и укрепить здоровь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мы исследований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лекарственные растения ес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растут лекарственные   растения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можно лечить без таблет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УЩЕСТВЛЕНИЕ УЧЕБНОГО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бота построена по типу творческого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абота над проектом была разбита на этап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bbe0e3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D20052_" descr=""/>
          <p:cNvPicPr/>
          <p:nvPr/>
        </p:nvPicPr>
        <p:blipFill>
          <a:blip r:embed="rId1"/>
          <a:stretch/>
        </p:blipFill>
        <p:spPr>
          <a:xfrm>
            <a:off x="6659640" y="1773360"/>
            <a:ext cx="156204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BD20115_" descr=""/>
          <p:cNvPicPr/>
          <p:nvPr/>
        </p:nvPicPr>
        <p:blipFill>
          <a:blip r:embed="rId2"/>
          <a:stretch/>
        </p:blipFill>
        <p:spPr>
          <a:xfrm>
            <a:off x="6095880" y="5486400"/>
            <a:ext cx="3048120" cy="1371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251280"/>
            <a:ext cx="69310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I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  <a:ea typeface="Times New Roman"/>
              </a:rPr>
              <a:t>. этап: </a:t>
            </a:r>
            <a:r>
              <a:rPr b="0" lang="ru-RU" sz="48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подума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наступлением зимы мы стали чащ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ть: появился кашель, насморк, боли в гор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715480"/>
            <a:ext cx="864072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у нас  возникла идея: выздороветь без таблеток,                                 а при помощи лекарственных  растений.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все поняли, что нам необход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ые теоретические свед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решили заняться поиском нуж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ции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803160" y="71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5:04:34Z</dcterms:created>
  <dc:creator>ганжа</dc:creator>
  <dc:description/>
  <dc:language>en-US</dc:language>
  <cp:lastModifiedBy>a</cp:lastModifiedBy>
  <dcterms:modified xsi:type="dcterms:W3CDTF">2009-05-20T11:40:44Z</dcterms:modified>
  <cp:revision>30</cp:revision>
  <dc:subject/>
  <dc:title>зелёная аптека</dc:title>
</cp:coreProperties>
</file>