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C936-EAC0-4793-988D-F0C537FF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5B8-7E40-4EE9-A8DD-624FDED8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DB06-BD8C-476C-9BF1-FCAEFB29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9DEA-0324-4528-A1AB-AFBA869E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B222-B796-4955-A2BD-B1018C0B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53F2-B71E-4BE6-99D8-7B7E11D8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957C-A67C-4420-9FFC-3E000029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A9F0-4B3E-49A4-BC0E-FB3C3160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F779-B13F-467B-B420-29370113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F726-94B5-46E0-829E-82AF225B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755E-3405-4FBC-B7FC-DA83DC3A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13AE-0930-41C3-BB86-6DE4A42F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5F61-D255-48DD-8582-DD5B776D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BF9A-7D3D-4C06-A849-38F1EE30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3C53-AEC9-45E5-A614-57AAABC7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38D5-E907-4979-BD06-9B01AC17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9DFC-D8A6-403C-9EA3-4362EC7B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06A3B-4E17-4405-997B-FB055424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2582C-ED2B-4DD2-A545-A0591A8A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33CB3-8DFD-4725-8BBD-16CDF53A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E6E5A-7EEC-446E-95DC-5ADA535A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3626E-0436-40D5-A38B-6249A356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FA90-2C0F-4C01-9088-DE76C5AD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DF228-F6F3-4C34-B5DD-F2565F36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3F206-DDB9-4D3C-B437-0C379E37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059C3-FEE2-4A95-98B5-BD3B9B03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E3EE8-A418-49D0-854D-B688FA3C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8DCF4-BF4B-418E-9CE1-9BAD8FA0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71197-96E7-4785-BD2A-0832237B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9CACA-A41A-4646-B77C-24804390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4D0A-B7FE-4DB1-9C16-93A19C1D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68C-F5EF-410D-8871-F9990C25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4CB-23A7-4827-87CA-CC517E02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7F7-B14C-4D0D-A23A-1986F0AE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072-CCBC-418E-A09B-C2615CB4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2CE-0DC0-4792-BBA0-78C662E2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7695-FC2C-4D3F-92CE-7931116153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70A6-C3BC-44F0-9155-F06B4B29A5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7A40-DE36-4881-86F5-51BF6CA61E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1143000" y="642960"/>
            <a:ext cx="771516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ОУ – 2009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Бушов  Игорь</a:t>
            </a:r>
            <a:endParaRPr b="1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9 «А» класс</a:t>
            </a:r>
            <a:endParaRPr b="1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Демографическая ситуация в России»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уководитель:  Россова О.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Picture 5" descr="C:\Documents and Settings\Ученик\Рабочий стол\Фото092.jpg"/>
          <p:cNvPicPr/>
          <p:nvPr/>
        </p:nvPicPr>
        <p:blipFill>
          <a:blip r:embed="rId1"/>
          <a:stretch/>
        </p:blipFill>
        <p:spPr>
          <a:xfrm>
            <a:off x="250920" y="189000"/>
            <a:ext cx="2554200" cy="340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468360" y="2133720"/>
          <a:ext cx="8136000" cy="4478040"/>
        </p:xfrm>
        <a:graphic>
          <a:graphicData uri="http://schemas.openxmlformats.org/drawingml/2006/table">
            <a:tbl>
              <a:tblPr/>
              <a:tblGrid>
                <a:gridCol w="1150920"/>
                <a:gridCol w="865080"/>
                <a:gridCol w="2087640"/>
                <a:gridCol w="1368360"/>
                <a:gridCol w="1368360"/>
                <a:gridCol w="1295640"/>
              </a:tblGrid>
              <a:tr h="2654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Регион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Год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Численность населения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(всего тыс.чел.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В том числе в возрасте ( В %):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- моложе трудоспособного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 – в трудоспособном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3 – старше трудоспособного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Российская федерация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00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45,2 млн.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8,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61,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1.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00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41,9 млн.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5,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63,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Text Box 144"/>
          <p:cNvSpPr/>
          <p:nvPr/>
        </p:nvSpPr>
        <p:spPr>
          <a:xfrm>
            <a:off x="1311120" y="441360"/>
            <a:ext cx="700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Таблица № 6 Изменение возрастного состава населения регионов России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по итогам статистических данных 2002 и 2008 гг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437000"/>
            <a:ext cx="3816360" cy="2181240"/>
          </a:xfrm>
          <a:prstGeom prst="verticalScrol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Улучшение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качества  жизни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Россиян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"/>
          <p:cNvSpPr/>
          <p:nvPr/>
        </p:nvSpPr>
        <p:spPr>
          <a:xfrm>
            <a:off x="4427640" y="189000"/>
            <a:ext cx="3816360" cy="2468520"/>
          </a:xfrm>
          <a:prstGeom prst="verticalScrol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Повышение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уровня  здоровья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населения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4149720"/>
            <a:ext cx="4032000" cy="2540160"/>
          </a:xfrm>
          <a:prstGeom prst="verticalScrol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формирование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идеологии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здоровой и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продолжительной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жизни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89000"/>
            <a:ext cx="4392720" cy="2590560"/>
          </a:xfrm>
          <a:prstGeom prst="verticalScrol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Обеспечение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гарантий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гражданам на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бесплатную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медицинскую помощь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"/>
          <p:cNvSpPr/>
          <p:nvPr/>
        </p:nvSpPr>
        <p:spPr>
          <a:xfrm>
            <a:off x="2411280" y="2708280"/>
            <a:ext cx="3672000" cy="1800360"/>
          </a:xfrm>
          <a:prstGeom prst="verticalScrol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Укрепление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института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семьи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00"/>
                            </p:stCondLst>
                            <p:childTnLst>
                              <p:par>
                                <p:cTn id="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Это глобальная проблема и решать ее придется, по-видимому, глобально, что не лишает нас возможности пытаться решить ее и в «отдельно взятой стране». Нашей. Но это будет трудно, долго и дорого. Придется во многом поменять весь образ жизни, повернуть его «лицом к семье»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1143000" y="642960"/>
            <a:ext cx="771516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ОУ – 2009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Бушов  Игорь</a:t>
            </a:r>
            <a:endParaRPr b="1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9 «А» класс</a:t>
            </a:r>
            <a:endParaRPr b="1" lang="en-US" sz="6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Демографическая ситуация в России»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уководитель:  Россова О.Е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4" name="Picture 5" descr="C:\Documents and Settings\Ученик\Рабочий стол\Фото092.jpg"/>
          <p:cNvPicPr/>
          <p:nvPr/>
        </p:nvPicPr>
        <p:blipFill>
          <a:blip r:embed="rId1"/>
          <a:stretch/>
        </p:blipFill>
        <p:spPr>
          <a:xfrm>
            <a:off x="250920" y="189000"/>
            <a:ext cx="2554200" cy="340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равочник терминов в сфере экономики, финансах, торгов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м В.Я. «Новое в России. Цифры и факты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м В.Я., Дронов В.П. «География России. Население и хозяйство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ные по демографии в России. (Росста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ебцова В.Е. «Экономическая и социальная география в Росси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900"/>
                            </p:stCondLst>
                            <p:childTnLst>
                              <p:par>
                                <p:cTn id="2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763640" y="1628640"/>
            <a:ext cx="518472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АСИБО </a:t>
            </a:r>
            <a:endParaRPr b="1" lang="en-US" sz="3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 </a:t>
            </a:r>
            <a:endParaRPr b="1" lang="en-US" sz="3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НИМАНИЕ !</a:t>
            </a:r>
            <a:endParaRPr b="1" lang="en-US" sz="36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285840" y="3500280"/>
            <a:ext cx="5329080" cy="2727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486240" cy="3333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250920" y="549360"/>
            <a:ext cx="6337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МОГРАФИЧЕСКАЯ</a:t>
            </a:r>
            <a:endParaRPr b="1" i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ИТУАЦИЯ </a:t>
            </a:r>
            <a:endParaRPr b="1" i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ОССИИ</a:t>
            </a:r>
            <a:endParaRPr b="1" i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ЦЕЛЬ РАБОТЫ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анализировать основные демографические показатели в современной России : численность населения, рождаемость и смертность, естественный прирост, половой и возрастной состав населения, продолжительность жизни россия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азать важность демографической политики для государ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25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179280" y="836640"/>
          <a:ext cx="7993080" cy="6145200"/>
        </p:xfrm>
        <a:graphic>
          <a:graphicData uri="http://schemas.openxmlformats.org/drawingml/2006/table">
            <a:tbl>
              <a:tblPr/>
              <a:tblGrid>
                <a:gridCol w="1081080"/>
                <a:gridCol w="1816200"/>
                <a:gridCol w="1855800"/>
                <a:gridCol w="1655640"/>
                <a:gridCol w="158436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  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Городское и сельское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население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Городское население,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чел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Сельское население,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чел.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Доля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городского населения, %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89</a:t>
                      </a:r>
                      <a:endParaRPr b="1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7 021 869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7 959 00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 062 867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3, 43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1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8 325 63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9 208 80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 116 83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3,6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3</a:t>
                      </a:r>
                      <a:endParaRPr b="1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8 648 34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9 498 32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 150 01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.6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6</a:t>
                      </a:r>
                      <a:endParaRPr b="1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8 292 34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8 311 47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 980 86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.0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1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6 956 81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7 005 3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 951 49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.0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1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3 474 48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4 719 35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 755 13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.9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1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2 288 34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3 325 56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 962 77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.6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1" lang="en-US" sz="2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1 925 42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3 121 23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 804 19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.59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 Box 344"/>
          <p:cNvSpPr/>
          <p:nvPr/>
        </p:nvSpPr>
        <p:spPr>
          <a:xfrm>
            <a:off x="0" y="341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ТАБЛ. №1. ЧИСЛЕННОСТЬ НАСЕЛЕНИЯ В РОССИИ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324000" y="1773360"/>
          <a:ext cx="8134200" cy="4303440"/>
        </p:xfrm>
        <a:graphic>
          <a:graphicData uri="http://schemas.openxmlformats.org/drawingml/2006/table">
            <a:tbl>
              <a:tblPr/>
              <a:tblGrid>
                <a:gridCol w="3152520"/>
                <a:gridCol w="1611360"/>
                <a:gridCol w="1859040"/>
                <a:gridCol w="1511280"/>
              </a:tblGrid>
              <a:tr h="112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гионы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. населения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 чел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3 го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. населения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 чел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2 го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. населения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ыс. чел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6 го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Центральный ФО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	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3796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380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82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Северо- Западный Ф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525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397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256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Южный Ф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109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290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33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Приволжский Ф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3008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3115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204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Уральский Ф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260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237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165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Сибирский Ф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128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006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924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Дальневосточный Ф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804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669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556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213"/>
          <p:cNvSpPr/>
          <p:nvPr/>
        </p:nvSpPr>
        <p:spPr>
          <a:xfrm>
            <a:off x="395280" y="54936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Табл.№2.  ИЗМЕНЕНИЕ ЧИСЛЕННОСТИ  НАСЕЛЕНИЯ           РЕГИОНОВ РОССИИ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800" y="731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95280" y="1844640"/>
          <a:ext cx="7993080" cy="4862520"/>
        </p:xfrm>
        <a:graphic>
          <a:graphicData uri="http://schemas.openxmlformats.org/drawingml/2006/table">
            <a:tbl>
              <a:tblPr/>
              <a:tblGrid>
                <a:gridCol w="1938240"/>
                <a:gridCol w="2098800"/>
                <a:gridCol w="1977840"/>
                <a:gridCol w="19782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РЕГИОН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ОБЩИЙ ПРИРОСТ НАСЕЛЕНИ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ЕСТЕСТВЕННЫЙ ПРИРОС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МИГРАЦИОН-НЫЙ ПРИРОСТ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Централь-ны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 145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277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132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Северо - западны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81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89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8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Южны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5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47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41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Приволжс-ки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55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137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81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Уральски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13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42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28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Сибирски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61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71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10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Дальне-восточны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76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14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80"/>
                          </a:solidFill>
                          <a:latin typeface="Arial Black"/>
                          <a:ea typeface="Times New Roman"/>
                        </a:rPr>
                        <a:t>-61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24" name="Rectangle 212"/>
          <p:cNvSpPr/>
          <p:nvPr/>
        </p:nvSpPr>
        <p:spPr>
          <a:xfrm>
            <a:off x="-181080" y="634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220"/>
          <p:cNvSpPr/>
          <p:nvPr/>
        </p:nvSpPr>
        <p:spPr>
          <a:xfrm>
            <a:off x="324000" y="26028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Таблица №3 .Компоненты изменения численности населения федеральных округов Российской Федерации за 2008 год. (тыс. человек)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395280" y="1989000"/>
          <a:ext cx="7561440" cy="4140360"/>
        </p:xfrm>
        <a:graphic>
          <a:graphicData uri="http://schemas.openxmlformats.org/drawingml/2006/table">
            <a:tbl>
              <a:tblPr/>
              <a:tblGrid>
                <a:gridCol w="1568520"/>
                <a:gridCol w="2066760"/>
                <a:gridCol w="2065320"/>
                <a:gridCol w="18608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год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оба пола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мужчины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женщины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996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65.8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59.6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72.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00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65.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58.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72.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00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65.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58.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71.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00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64.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58.7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71.8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00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65.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59.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72.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005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65.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58.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72.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006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64.7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58.67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71.8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Rectangle 49"/>
          <p:cNvSpPr/>
          <p:nvPr/>
        </p:nvSpPr>
        <p:spPr>
          <a:xfrm>
            <a:off x="0" y="503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Text Box 50"/>
          <p:cNvSpPr/>
          <p:nvPr/>
        </p:nvSpPr>
        <p:spPr>
          <a:xfrm>
            <a:off x="1187280" y="47628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Таблица №4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 .Динамика средней продолжительности жизни(число лет) в России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324000" y="1728720"/>
          <a:ext cx="7559640" cy="49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28720"/>
                    <a:ext cx="755964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7"/>
          <p:cNvSpPr/>
          <p:nvPr/>
        </p:nvSpPr>
        <p:spPr>
          <a:xfrm>
            <a:off x="1600200" y="295200"/>
            <a:ext cx="556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Диаграмма №1. Динамика средней продолжительности жизни в России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250920" y="115920"/>
          <a:ext cx="8642160" cy="6719760"/>
        </p:xfrm>
        <a:graphic>
          <a:graphicData uri="http://schemas.openxmlformats.org/drawingml/2006/table">
            <a:tbl>
              <a:tblPr/>
              <a:tblGrid>
                <a:gridCol w="3960720"/>
                <a:gridCol w="985680"/>
                <a:gridCol w="1030320"/>
                <a:gridCol w="1481400"/>
                <a:gridCol w="1184040"/>
              </a:tblGrid>
              <a:tr h="91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 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8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ГО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рост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+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быль(-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%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ко всем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мершим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Всего умерших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85.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00.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-15,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болезни кровообращения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07.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16,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-9,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57,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новообразовани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4,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5.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-0,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3,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внешние причины смерт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0.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2.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-2,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0,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транспортные травмы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.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.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-0,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,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отравления алкоголем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,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.2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-0,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,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самоубийств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,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,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+0,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,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убийств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,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,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-0,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.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болезни органов дыхани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6,8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,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-0,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3.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болезни органов пищеварени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.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8.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-0,7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4.3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инфекционные и паразитарные болезни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2.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3,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-0,1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1.6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5:32:28Z</dcterms:created>
  <dc:creator>User</dc:creator>
  <dc:description/>
  <dc:language>en-US</dc:language>
  <cp:lastModifiedBy>User</cp:lastModifiedBy>
  <dcterms:modified xsi:type="dcterms:W3CDTF">2009-04-30T05:08:59Z</dcterms:modified>
  <cp:revision>12</cp:revision>
  <dc:subject/>
  <dc:title>Слайд 1</dc:title>
</cp:coreProperties>
</file>