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C30-59D4-4B53-B557-0ED8617D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044-0D74-4046-941A-5B03A81F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346-EAB6-4D0E-856F-7006D217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10B-AD2A-4AAE-AA7C-31BD7520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33D5-775D-4030-9986-D0F03DCE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594C-33DB-4D34-A9A0-25968A89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26DF-46D4-4F81-8E31-8C362886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DED5-3DF4-4A64-A06F-A706975C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D177-F592-495B-AFD9-B8DD0024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1CF5-00C8-45FB-A07F-84A1ADD3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67A2-7C80-4760-864A-78AF3200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E23-1774-43AA-A24D-9B59A872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3C8E-1C81-483B-ADE6-A8564D39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576B-CADB-4450-B2A6-169C1876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F7D7-885C-4F00-BE9D-F1389C50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B181-6319-4DFF-AEC5-61EA65EF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3DB8-5617-4809-8735-FEEA7F4C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8BC0-3A1D-4985-961B-A5A79D77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BA29F-62A3-4042-873D-183F5F3D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379D4-0A66-4EF4-8913-DD95F201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3097-D8DE-4E44-8586-C96B61F2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4BB73-883F-4FB8-ADA5-B32BAB46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D3AA-6D57-4225-B307-B38CEF60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EFCEB-7130-49FE-9736-4F9E468F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BEE9D-BF3D-41F8-BEE7-06C3AB3B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7A13D-89AA-44D1-A492-02D428AE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9EF17-19E5-48B5-A934-4FB64F64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DB138-1B0B-40D0-892A-D5B2065A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99E96-58D0-46E4-81A7-0DA5EC37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0ABFE-2CB0-40D0-971A-0671A4E2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DE44A-CBE3-4A2A-9948-9BEE5BD3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3ECA1-1BDD-471C-B05A-374BEBAA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CA2C6-90F4-4C58-9DDF-E9E46F96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DBED-AF81-48A1-B4B0-AF9D7C34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BAE49-BE31-4038-AC2E-ADF81EA6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7CBF8-5F07-4A5D-8FAA-4B090957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0B5DB-FD9D-405E-9A47-B8FB44AE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198D3-8C22-4234-9570-02243041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42A25-442C-4F19-9F3E-DA5D1853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AC72A-C350-4933-9C11-C7179D2E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BB13D-BD59-4367-800C-A088CF05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A4DCB-CDBE-4825-A471-6ABD6258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4EAD0-E814-4B94-961E-9C2DDAF0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DE2B2-D304-4B04-BCA0-3A18C9AC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C82-3A32-4EA3-B5E1-D031989E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A5242-0FB6-413B-A6C1-69B05EA3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79590-6D84-4B31-BA7C-7F9FF4B7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ECF54-61DE-4F32-878F-C4EBD5CB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BF013-F201-44CE-AF34-2E68EA27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21792-71BE-4172-A507-FD9B3774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0631A-81B4-4136-BC8D-9190143E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8C7A6-5C5E-4EEA-AEBF-42626CD8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C8C1C-F029-4F3E-80FF-43E0DF65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019A8-C5B1-42F5-BD36-0A19E810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32C76-926E-4F81-BACA-83F4ED9A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9AB-668A-49B3-B98E-687201DD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F29CB-C80B-4919-A50C-B2C390CC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FDEF5-A758-46CE-8AF0-A69CEDA6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0C4D8-5C7B-4D6E-8ADC-4B27E3DD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01041-A265-4CA9-B525-BC9DD5EB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BFC4D-EC21-4B3A-AF54-2E24418D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C5ADA-6BFA-41C4-A9BA-7A0CA6F8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5E697-6E37-483B-AC16-6D3C05F8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C614F-6BD2-43F5-9600-8A00BC4D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DAD24-D603-4840-A605-0D445FE2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E3DDC-6286-4AE2-BF3C-2F8B0D76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7FE-523D-457C-BBD1-64A09D2C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1FA14-6040-4828-8B89-261C9A69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D4A0E-39B3-4116-B5E8-173C1EF5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04770-3E90-4AE5-BE49-E3E7AF48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890-62BA-4D9F-941A-564C09E4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B4A-A3A7-4A73-8538-CF900CE3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30E1-53BD-4D57-9B3A-2D6E0C6E7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593F-DAEE-41F5-B680-3CAD21CFD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B051-E9F8-4D28-BA7D-B5269D4A4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1DD6-EC6A-45DF-B405-BC11ECA60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7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9D79-7DAB-4E70-8E49-C8976E827A8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3115-FA74-45CC-B085-AA3820D0454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Tahoma"/>
              </a:rPr>
              <a:t>Приведите  в соответствие виды моделей  мирового хозяйства , критерии их выделения и состав: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Tahoma"/>
              </a:rPr>
              <a:t>1)Двухчленная 2) трёхчленная 3) многочленна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cc"/>
                </a:solidFill>
                <a:latin typeface="Tahoma"/>
              </a:rPr>
              <a:t>А) Крупнейшие производители ВВ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cc"/>
                </a:solidFill>
                <a:latin typeface="Tahoma"/>
              </a:rPr>
              <a:t>Б) Структура хозяй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cc"/>
                </a:solidFill>
                <a:latin typeface="Tahoma"/>
              </a:rPr>
              <a:t>В) Уровень социально-экономического разви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а) развитые (север) и развивающиеся (юг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б) Центр, Полупериферия, Перифе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в) главные центры мирового хозяй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b7"/>
                </a:solidFill>
                <a:uFillTx/>
                <a:latin typeface="Arial Black"/>
              </a:rPr>
              <a:t>Приведите  в соответствие типы регионов по экономическому развитию, их местоположение и страны, в которых они находятся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594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)высокоразвитый  б) старопромышленный в) нового освоения г) отсталый рай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Аляска, 2) регион Большого Парижа, 3) Рур, 4) « Силиконовая долина», 5) Сицил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) ФРГ, б) Италия, В) США. Г) Фран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Приведите в соответствие  ТНК, страны, в которых они расположены их штаб-квартиры, и сферы их деятельности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-181440" y="1599840"/>
            <a:ext cx="9325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А) Великобритания  Б) ФРГ В) Нидерланды Г) США  Д) Швейцария  Е) Япо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Verdana"/>
              </a:rPr>
              <a:t>1)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Boeing  2) Daimler Chrysler </a:t>
            </a:r>
            <a:r>
              <a:rPr b="1" lang="ru-RU" sz="2800" spc="-1" strike="noStrike">
                <a:solidFill>
                  <a:srgbClr val="cc33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3) IBM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4) Nestle</a:t>
            </a:r>
            <a:r>
              <a:rPr b="1" lang="ru-RU" sz="2800" spc="-1" strike="noStrike">
                <a:solidFill>
                  <a:srgbClr val="cc33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 5) Shell </a:t>
            </a:r>
            <a:r>
              <a:rPr b="1" lang="ru-RU" sz="2800" spc="-1" strike="noStrike">
                <a:solidFill>
                  <a:srgbClr val="cc33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 6) Toyot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а) авиационная промышленность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б) автомобилестроение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) компьютеростроение , г) нефтехимия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д) пищевая промышленнос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17:44Z</dcterms:created>
  <dc:creator>Школа</dc:creator>
  <dc:description/>
  <dc:language>en-US</dc:language>
  <cp:lastModifiedBy>Школа</cp:lastModifiedBy>
  <dcterms:modified xsi:type="dcterms:W3CDTF">2010-12-19T14:41:16Z</dcterms:modified>
  <cp:revision>3</cp:revision>
  <dc:subject/>
  <dc:title>Приведите  в соответствие виды моделей  мирового хозяйства , критерии их выделения и состав:</dc:title>
</cp:coreProperties>
</file>