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ABFD3-6658-4EE7-B6C5-7F2F65DDF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99ECB-F84B-44D5-8373-458C42AEA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867E4-360E-4187-95B7-5EFDF0585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07E31-0D01-4E85-A324-7B6692BC5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B9621-6EB4-4E1B-A843-B57D06CDD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A9BDB-6C11-4C9F-8B44-C0B0B2B67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1F47D-5E8A-4B7C-A0C4-2E9138A2E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186AC-54D6-42E8-A43D-1CCC9D325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EC6C4-0EA3-49BB-8544-95859F905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F260F-092B-4D63-B56A-54FDF2005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D89D6-44B9-46E5-8A44-1143DFC53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CF1AE-CE37-48A0-B722-DB06E9498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4B8BA-9057-42D7-9B45-C0B0FE27E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74A00-E5AA-41C2-ACE9-A8465B404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6DC3F-182A-42B9-A8F9-70C40D723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65C4E-808A-4168-99B8-7DA3779E0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67520-3037-47D4-B806-4DA319A8F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34CD32-B305-477F-A8E8-B1D1C1570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C1AF38-A619-4B38-841F-6308DFF63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5D9F28-E5A1-4EC4-B834-9F85B4FE2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F83832-B8FA-4C66-90BA-A6FEE11AC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29FC1F-2748-4593-BF54-097ADFBA8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E8CEB-BAB1-46CE-BA9F-7B95DE069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C2DB47-14C1-4482-998D-57FD9327F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BF9B6A-0B56-46C3-B51D-595B8A0B5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BCDA83-FD2C-4C1F-B9EE-C77F988AB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17427C-A802-45D6-8E95-94A278D99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A6B88D-3116-4405-81F9-8AE65E6AB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C247A7-75DF-4A29-AD81-9EBAE4840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CF7375-7B3C-4142-BDB6-87BC27360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2DA923-F67E-4672-9996-24566E4A3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4F2C5C-8856-46A9-979A-5FA571FD8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AE9C49-D32E-4DFE-903A-F2B472552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EBE3C-F978-4537-AA5A-2CD0780C3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D75DB9-8532-45A1-BE60-853C91537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2D5C09-E3DC-4344-904A-2354FEBE8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0EEB80-C3DE-479B-A592-1F02CABE4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D25309-4E72-4953-99E3-AB9FBF5F3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598175-7D53-4883-955B-2061571F9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DEDF86-B081-4271-A3C3-E1667C78E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5F219E-B1C0-4187-A936-249DB39DD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941925-06D7-4234-B425-EC680A095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FC466A-0AF1-4428-BD67-9C1BF37E4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C04EAF-4502-4D59-8E8A-B349BF792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7A129-F094-4BC7-9B52-F3CC2FBE3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52F7ED-D82B-4908-86C5-0C38DD8E7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E514FB-F832-4933-BC25-DAE0FBB1E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A9A9EE-26DB-46B4-9FB3-C0BE04A10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948B81-90EA-4539-A7CC-F672AC925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7235B4-86B2-4430-A544-AAE1A3E7E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7413B4-37FC-4887-A1C3-0899917D7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9E0885-C17C-4AB8-A958-9F30FCD6D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745EA7-0220-4B2A-9DAE-020F0B182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A993C2-4A81-4809-8C40-CC71A93C0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5DF7E7-0614-4610-8DC5-672B2EC1F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ADA9F-187B-4743-B8E6-2CF483B7C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006772-414F-4A8C-BAD9-4665DC5CF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714087-11B3-4356-9ABC-21C75FAFC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ED189D-6905-445A-A8F6-1640BFFC8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43332A-F871-40D8-9FC4-B3CB7ABE8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553D83-9162-4569-9338-763BE242C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4DBDA8-30FA-4715-8C90-398E938E8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69E543-7DFF-4C06-9995-29224AA33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5E7030-65BC-414B-BF41-C8CE4CC96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8CFB75-9AAD-4246-ADAA-370A19205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78FD97-FB34-4F2C-835C-DDA383BCD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A7517-08B0-4FBD-A73D-DED375EF6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C6F37C-4EFE-4E8F-99F6-89604F1EA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6C4D7E-980C-4D4B-9FCC-6511E6A13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9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3BE2A7-85A5-4AD6-8FA1-3453DCAF1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F90D6-5B7D-4F20-B5A2-B0317ACB2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CAEE6-5049-4B2C-80FC-CC8F50FE3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A6514-075D-43B2-9DD4-66BC89F37D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9B962-43C3-4914-ABDA-028259D672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82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0" name="PlaceHolder 1"/>
          <p:cNvSpPr>
            <a:spLocks noGrp="1"/>
          </p:cNvSpPr>
          <p:nvPr>
            <p:ph type="dt" idx="7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ftr" idx="8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Num" idx="9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CEAA2-94EC-4709-883A-926122D4F2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132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dt" idx="10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ftr" idx="11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sldNum" idx="12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C7D11-266C-4DF6-88FB-EF965D9F44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8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79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12273-0CC2-444D-A2E9-0ED4987229CA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5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236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771E2-4D9D-4F94-BF94-F1B260C63244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800000"/>
                </a:solidFill>
                <a:uFillTx/>
                <a:latin typeface="Tahoma"/>
              </a:rPr>
              <a:t>Приведите  в соответствие виды моделей  мирового хозяйства , критерии их выделения и состав: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0" y="1904760"/>
            <a:ext cx="91440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ff00"/>
                </a:solidFill>
                <a:latin typeface="Tahoma"/>
              </a:rPr>
              <a:t>1)Двухчленная 2) трёхчленная 3) многочленная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66cc"/>
                </a:solidFill>
                <a:latin typeface="Tahoma"/>
              </a:rPr>
              <a:t>А) Крупнейшие производители ВВП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66cc"/>
                </a:solidFill>
                <a:latin typeface="Tahoma"/>
              </a:rPr>
              <a:t>Б) Структура хозяйств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66cc"/>
                </a:solidFill>
                <a:latin typeface="Tahoma"/>
              </a:rPr>
              <a:t>В) Уровень социально-экономического развит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ahoma"/>
              </a:rPr>
              <a:t>а) развитые (север) и развивающиеся (юг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ahoma"/>
              </a:rPr>
              <a:t>б) Центр, Полупериферия, Перифер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ahoma"/>
              </a:rPr>
              <a:t>в) главные центры мирового хозяйств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0" y="244440"/>
            <a:ext cx="88423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b7"/>
                </a:solidFill>
                <a:uFillTx/>
                <a:latin typeface="Arial Black"/>
              </a:rPr>
              <a:t>Приведите  в соответствие типы регионов по экономическому развитию, их местоположение и страны, в которых они находятся: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250920" y="2276640"/>
            <a:ext cx="859464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а)высокоразвитый  б) старопромышленный в) нового освоения г) отсталый райо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ff"/>
                </a:solidFill>
                <a:latin typeface="Arial"/>
              </a:rPr>
              <a:t>Аляска, 2) регион Большого Парижа, 3) Рур, 4) « Силиконовая долина», 5) Сицил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а) ФРГ, б) Италия, В) США. Г) Франц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cc"/>
                </a:solidFill>
                <a:uFillTx/>
                <a:latin typeface="Arial"/>
              </a:rPr>
              <a:t>Приведите в соответствие  ТНК, страны, в которых они расположены их штаб-квартиры, и сферы их деятельности</a:t>
            </a:r>
            <a:br>
              <a:rPr sz="2800"/>
            </a:b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-181440" y="1599840"/>
            <a:ext cx="932508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А) Великобритания  Б) ФРГ В) Нидерланды Г) США  Д) Швейцария  Е) Япония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ffff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cc3300"/>
                </a:solidFill>
                <a:latin typeface="Verdana"/>
              </a:rPr>
              <a:t>1) </a:t>
            </a:r>
            <a:r>
              <a:rPr b="1" lang="en-US" sz="2800" spc="-1" strike="noStrike">
                <a:solidFill>
                  <a:srgbClr val="cc3300"/>
                </a:solidFill>
                <a:latin typeface="Verdana"/>
              </a:rPr>
              <a:t>Boeing  2) Daimler Chrysler </a:t>
            </a:r>
            <a:r>
              <a:rPr b="1" lang="ru-RU" sz="2800" spc="-1" strike="noStrike">
                <a:solidFill>
                  <a:srgbClr val="cc3300"/>
                </a:solidFill>
                <a:latin typeface="Verdana"/>
              </a:rPr>
              <a:t>   </a:t>
            </a:r>
            <a:r>
              <a:rPr b="1" lang="en-US" sz="2800" spc="-1" strike="noStrike">
                <a:solidFill>
                  <a:srgbClr val="cc3300"/>
                </a:solidFill>
                <a:latin typeface="Verdana"/>
              </a:rPr>
              <a:t>3) IBM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cc3300"/>
                </a:solidFill>
                <a:latin typeface="Verdana"/>
              </a:rPr>
              <a:t>4) Nestle</a:t>
            </a:r>
            <a:r>
              <a:rPr b="1" lang="ru-RU" sz="2800" spc="-1" strike="noStrike">
                <a:solidFill>
                  <a:srgbClr val="cc3300"/>
                </a:solidFill>
                <a:latin typeface="Verdana"/>
              </a:rPr>
              <a:t>  </a:t>
            </a:r>
            <a:r>
              <a:rPr b="1" lang="en-US" sz="2800" spc="-1" strike="noStrike">
                <a:solidFill>
                  <a:srgbClr val="cc3300"/>
                </a:solidFill>
                <a:latin typeface="Verdana"/>
              </a:rPr>
              <a:t> 5) Shell </a:t>
            </a:r>
            <a:r>
              <a:rPr b="1" lang="ru-RU" sz="2800" spc="-1" strike="noStrike">
                <a:solidFill>
                  <a:srgbClr val="cc3300"/>
                </a:solidFill>
                <a:latin typeface="Verdana"/>
              </a:rPr>
              <a:t>  </a:t>
            </a:r>
            <a:r>
              <a:rPr b="1" lang="en-US" sz="2800" spc="-1" strike="noStrike">
                <a:solidFill>
                  <a:srgbClr val="cc3300"/>
                </a:solidFill>
                <a:latin typeface="Verdana"/>
              </a:rPr>
              <a:t> 6) Toyota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Verdana"/>
              </a:rPr>
              <a:t>а) авиационная промышленность,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Verdana"/>
              </a:rPr>
              <a:t>б) автомобилестроение,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Verdana"/>
              </a:rPr>
              <a:t>в) компьютеростроение , г) нефтехимия,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Verdana"/>
              </a:rPr>
              <a:t>д) пищевая промышленность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9T18:17:44Z</dcterms:created>
  <dc:creator>Школа</dc:creator>
  <dc:description/>
  <dc:language>en-US</dc:language>
  <cp:lastModifiedBy>Школа</cp:lastModifiedBy>
  <dcterms:modified xsi:type="dcterms:W3CDTF">2010-12-19T14:41:16Z</dcterms:modified>
  <cp:revision>3</cp:revision>
  <dc:subject/>
  <dc:title>Приведите  в соответствие виды моделей  мирового хозяйства , критерии их выделения и состав:</dc:title>
</cp:coreProperties>
</file>