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DB3-F3BF-472A-8551-830F4C4D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B2E-02B4-4AB0-AE9F-DB090D83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E12-17F6-4A3D-A463-BEB8491E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F06-77AE-42EC-96B1-7D61229C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586-0CB8-4092-8425-CF933568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965-FF4A-4E86-A6F4-4E367FE3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04F-E1BC-4DC8-A1C3-AA1E3417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CFD-60C1-466C-B962-8DD0FC86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545-0674-4751-A10D-837A1710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55D-4507-46A2-BDC3-3BA60780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396-AE66-4BB4-85B2-D1386CE6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762-A64E-4B31-A09F-180FCB6E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414E-C365-4C7B-BB77-687D33369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555.photobucket.com/albums/jj469/HarmonyGraceElohim/scaled640x477enchantedforest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g0.liveinternet.ru/images/attach/b/3/4/84/4084148_Buho20biblioteca.gif" TargetMode="Externa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lqalapyl.ucoz.ru/_ph/1/2/418900226.jpg" TargetMode="External"/><Relationship Id="rId2" Type="http://schemas.openxmlformats.org/officeDocument/2006/relationships/image" Target="../media/image4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555.photobucket.com/albums/jj469/HarmonyGraceElohim/scaled640x477enchantedforest.jpg" TargetMode="External"/><Relationship Id="rId2" Type="http://schemas.openxmlformats.org/officeDocument/2006/relationships/image" Target="../media/image1.jpeg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hyperlink" Target="http://img0.liveinternet.ru/images/attach/b/3/4/84/4084148_Buho20biblioteca.gif" TargetMode="Externa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lqalapyl.ucoz.ru/_ph/1/2/418900226.jpg" TargetMode="External"/><Relationship Id="rId2" Type="http://schemas.openxmlformats.org/officeDocument/2006/relationships/image" Target="../media/image4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555.photobucket.com/albums/jj469/HarmonyGraceElohim/scaled640x477enchantedforest.jpg" TargetMode="External"/><Relationship Id="rId2" Type="http://schemas.openxmlformats.org/officeDocument/2006/relationships/image" Target="../media/image1.jpeg"/><Relationship Id="rId3" Type="http://schemas.openxmlformats.org/officeDocument/2006/relationships/slide" Target="slide27.xml"/><Relationship Id="rId4" Type="http://schemas.openxmlformats.org/officeDocument/2006/relationships/slide" Target="slide2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lqalapyl.ucoz.ru/_ph/1/2/418900226.jpg" TargetMode="External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555.photobucket.com/albums/jj469/HarmonyGraceElohim/scaled640x477enchantedforest.jpg" TargetMode="External"/><Relationship Id="rId2" Type="http://schemas.openxmlformats.org/officeDocument/2006/relationships/image" Target="../media/image1.jpeg"/><Relationship Id="rId3" Type="http://schemas.openxmlformats.org/officeDocument/2006/relationships/slide" Target="slide29.xml"/><Relationship Id="rId4" Type="http://schemas.openxmlformats.org/officeDocument/2006/relationships/slide" Target="slide20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olqalapyl.ucoz.ru/_ph/1/2/418900226.jpg" TargetMode="External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555.photobucket.com/albums/jj469/HarmonyGraceElohim/scaled640x477enchantedforest.jpg" TargetMode="External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hyperlink" Target="http://img0.liveinternet.ru/images/attach/b/3/4/84/4084148_Buho20biblioteca.gif" TargetMode="Externa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555.photobucket.com/albums/jj469/HarmonyGraceElohim/scaled640x477enchantedforest.jpg" TargetMode="External"/><Relationship Id="rId2" Type="http://schemas.openxmlformats.org/officeDocument/2006/relationships/image" Target="../media/image1.jpeg"/><Relationship Id="rId3" Type="http://schemas.openxmlformats.org/officeDocument/2006/relationships/slide" Target="slide29.xml"/><Relationship Id="rId4" Type="http://schemas.openxmlformats.org/officeDocument/2006/relationships/slide" Target="slide20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olqalapyl.ucoz.ru/_ph/1/2/418900226.jpg" TargetMode="External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555.photobucket.com/albums/jj469/HarmonyGraceElohim/scaled640x477enchantedforest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olqalapyl.ucoz.ru/_ph/1/2/418900226.jpg" TargetMode="External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555.photobucket.com/albums/jj469/HarmonyGraceElohim/scaled640x477enchantedforest.jpg" TargetMode="External"/><Relationship Id="rId2" Type="http://schemas.openxmlformats.org/officeDocument/2006/relationships/image" Target="../media/image1.jpeg"/><Relationship Id="rId3" Type="http://schemas.openxmlformats.org/officeDocument/2006/relationships/slide" Target="slide29.xml"/><Relationship Id="rId4" Type="http://schemas.openxmlformats.org/officeDocument/2006/relationships/slide" Target="slide20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lqalapyl.ucoz.ru/_ph/1/2/418900226.jpg" TargetMode="External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7.xml"/><Relationship Id="rId4" Type="http://schemas.openxmlformats.org/officeDocument/2006/relationships/hyperlink" Target="http://img0.liveinternet.ru/images/attach/b/3/4/84/4084148_Buho20biblioteca.gif" TargetMode="Externa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lqalapyl.ucoz.ru/_ph/1/2/418900226.jpg" TargetMode="Externa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hyperlink" Target="http://img0.liveinternet.ru/images/attach/b/3/4/84/4084148_Buho20biblioteca.gif" TargetMode="Externa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135 из 1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Картинка 5 из 37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0"/>
            <a:ext cx="2252520" cy="225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619280" y="3284640"/>
            <a:ext cx="5832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нимательно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овед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Картинка 193 из 45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Картинка 135 из 1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86000" y="260280"/>
            <a:ext cx="666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В КАКОМ МЕЖДУНАРОДНОМ ДОКУМЕН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ПЕРЕЧИСЛЕНЫ ПРАВА ДЕ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539640" y="1268280"/>
            <a:ext cx="3456000" cy="2519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ЕЙНЫЙ КОД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4" action="ppaction://hlinksldjump"/>
          </p:cNvPr>
          <p:cNvSpPr/>
          <p:nvPr/>
        </p:nvSpPr>
        <p:spPr>
          <a:xfrm>
            <a:off x="5076720" y="1197000"/>
            <a:ext cx="3743280" cy="2519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ВЕНЦИЯ 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 ПРАВАХ РЕБЕ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Картинка 5 из 3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4437000"/>
            <a:ext cx="22528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344000" cy="6095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84360" y="5516640"/>
            <a:ext cx="6333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!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Картинка 193 из 45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>
            <a:hlinkClick r:id="rId3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Картинка 135 из 1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В СКАЗКЕ «Маша и медведь» НАРУШЕНО ПРАВ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468360" y="1125360"/>
            <a:ext cx="244800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ДИЦИНСКУЮ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6227640" y="1125360"/>
            <a:ext cx="230364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rcRect l="0" t="0" r="0" b="8338"/>
          <a:stretch/>
        </p:blipFill>
        <p:spPr>
          <a:xfrm>
            <a:off x="2987640" y="2421000"/>
            <a:ext cx="30812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344000" cy="6095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84360" y="5516640"/>
            <a:ext cx="6333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!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Картинка 193 из 45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Картинка 135 из 1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26028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В СКАЗКЕ «КОЛОБОК» НАРУШЕНО ПРАВ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539640" y="1413000"/>
            <a:ext cx="2303640" cy="151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6372360" y="1341360"/>
            <a:ext cx="230328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ОТД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rcRect l="0" t="0" r="3481" b="6765"/>
          <a:stretch/>
        </p:blipFill>
        <p:spPr>
          <a:xfrm>
            <a:off x="2987640" y="2205000"/>
            <a:ext cx="3168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344000" cy="6095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684360" y="5516640"/>
            <a:ext cx="6333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!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Картинка 193 из 45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Картинка 135 из 1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9320" y="83664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ЧТО ТАКОЕ ОБЯЗАННОСТ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684360" y="2421000"/>
            <a:ext cx="46796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тановленные зако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ила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611280" y="4437000"/>
            <a:ext cx="468000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ила пове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торые выполняются по жел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5 из 3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4365720"/>
            <a:ext cx="225252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Картинка 135 из 1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260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В СКАЗКЕ «Аленький цветочек» НАРУШЕНО ПРАВ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250920" y="1341360"/>
            <a:ext cx="230328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4" action="ppaction://hlinksldjump"/>
          </p:cNvPr>
          <p:cNvSpPr/>
          <p:nvPr/>
        </p:nvSpPr>
        <p:spPr>
          <a:xfrm>
            <a:off x="5580000" y="1341360"/>
            <a:ext cx="341964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ть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2771640" y="1844640"/>
            <a:ext cx="2633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344000" cy="6095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84360" y="5516640"/>
            <a:ext cx="6333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!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193 из 45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Картинка 135 из 1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9280" y="260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В СКАЗКЕ «Двенадцать месяцев» НАРУШЕНО ПРАВ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413000"/>
            <a:ext cx="2303640" cy="151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 УЧЁ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00720" y="1484280"/>
            <a:ext cx="230364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ОТД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rcRect l="6355" t="0" r="6731" b="6271"/>
          <a:stretch/>
        </p:blipFill>
        <p:spPr>
          <a:xfrm>
            <a:off x="2987640" y="1773360"/>
            <a:ext cx="2952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344000" cy="6095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684360" y="5516640"/>
            <a:ext cx="6333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!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Картинка 193 из 45104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Картинка 135 из 1122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9280" y="260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В СКАЗКЕ «Заюшкина избушка» НАРУШЕНО ПРАВ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413000"/>
            <a:ext cx="2303280" cy="151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1341360"/>
            <a:ext cx="230364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ОХРАНУ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ЩИ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0" r="847" b="7581"/>
          <a:stretch/>
        </p:blipFill>
        <p:spPr>
          <a:xfrm>
            <a:off x="2771640" y="1989000"/>
            <a:ext cx="3529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Картинка 193 из 45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Картинка 135 из 1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260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В СКАЗКЕ «Красная шапочка» НАРУШЕНО ПРАВ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539640" y="1413000"/>
            <a:ext cx="2303640" cy="151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4" action="ppaction://hlinksldjump"/>
          </p:cNvPr>
          <p:cNvSpPr/>
          <p:nvPr/>
        </p:nvSpPr>
        <p:spPr>
          <a:xfrm>
            <a:off x="6372360" y="1341360"/>
            <a:ext cx="230328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ОТД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rcRect l="7730" t="7352" r="11343" b="13344"/>
          <a:stretch/>
        </p:blipFill>
        <p:spPr>
          <a:xfrm>
            <a:off x="2916360" y="2133720"/>
            <a:ext cx="34160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26920" y="3716280"/>
            <a:ext cx="7129800" cy="2852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4464000" cy="3705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403280" y="4437000"/>
            <a:ext cx="63342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 справились с заданиями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344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84360" y="5516640"/>
            <a:ext cx="6333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!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Картинка 193 из 45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Картинка 135 из 112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05680" y="684360"/>
            <a:ext cx="44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ЧТО ТАКОЕ ПРАВО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900000" y="2349360"/>
            <a:ext cx="424836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умент, разрешение разрешаю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бёнку отдыхать от учё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4221000"/>
            <a:ext cx="424836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окупность норм и прави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навливающи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дей в общест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5 из 37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9640" y="4437000"/>
            <a:ext cx="22525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344000" cy="609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84360" y="5516640"/>
            <a:ext cx="6333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!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Картинка 193 из 45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>
            <a:hlinkClick r:id="rId3" action="ppaction://hlinksldjump"/>
          </p:cNvPr>
          <p:cNvSpPr/>
          <p:nvPr/>
        </p:nvSpPr>
        <p:spPr>
          <a:xfrm rot="5400000">
            <a:off x="7740360" y="5371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Картинка 135 из 1122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66760" y="15732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КАКИМ ПРА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ОБЛАДАЕТ РЕБЕН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395280" y="1268280"/>
            <a:ext cx="3745080" cy="2951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5398920" y="1268280"/>
            <a:ext cx="3745080" cy="2951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РУД И ОТД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артинка 5 из 37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4292640"/>
            <a:ext cx="225252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3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684360" y="5516640"/>
            <a:ext cx="6333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!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1:08:22Z</dcterms:created>
  <dc:creator>WIN7XP</dc:creator>
  <dc:description/>
  <dc:language>en-US</dc:language>
  <cp:lastModifiedBy>Admin</cp:lastModifiedBy>
  <dcterms:modified xsi:type="dcterms:W3CDTF">2011-02-11T06:47:46Z</dcterms:modified>
  <cp:revision>12</cp:revision>
  <dc:subject/>
  <dc:title>Слайд 1</dc:title>
</cp:coreProperties>
</file>