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A68-9A69-4EBA-95F8-EA7751FF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84C-65FF-49DA-9AB4-B60375C3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967-09A5-4927-B852-3366F444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F33-8689-4637-97B5-EB317ABF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137-12AF-4B25-A276-208414E7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1564-0D13-485E-874F-4F13C6CE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261-EFCB-4B7D-AB04-BEF353F7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58D-4C70-4C09-9645-3BA815A7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A71-6412-46EE-BA0D-43006503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7BB-C697-4621-BE8F-736C7FFE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C57-C6F4-440D-9B20-F159536D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C47-C0B7-46FA-8397-3CB1420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69B6-4CF5-4CEB-90B8-69AFA818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g0.liveinternet.ru/images/attach/b/3/4/84/4084148_Buho20biblioteca.gif" TargetMode="Externa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hyperlink" Target="http://img0.liveinternet.ru/images/attach/b/3/4/84/4084148_Buho20biblioteca.gif" TargetMode="Externa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7.xml"/><Relationship Id="rId4" Type="http://schemas.openxmlformats.org/officeDocument/2006/relationships/slide" Target="slide2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9.xml"/><Relationship Id="rId4" Type="http://schemas.openxmlformats.org/officeDocument/2006/relationships/slide" Target="slide20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hyperlink" Target="http://img0.liveinternet.ru/images/attach/b/3/4/84/4084148_Buho20biblioteca.gif" TargetMode="Externa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9.xml"/><Relationship Id="rId4" Type="http://schemas.openxmlformats.org/officeDocument/2006/relationships/slide" Target="slide20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555.photobucket.com/albums/jj469/HarmonyGraceElohim/scaled640x477enchantedforest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9.xml"/><Relationship Id="rId4" Type="http://schemas.openxmlformats.org/officeDocument/2006/relationships/slide" Target="slide20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hyperlink" Target="http://img0.liveinternet.ru/images/attach/b/3/4/84/4084148_Buho20biblioteca.gif" TargetMode="Externa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lqalapyl.ucoz.ru/_ph/1/2/418900226.jpg" TargetMode="Externa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hyperlink" Target="http://img0.liveinternet.ru/images/attach/b/3/4/84/4084148_Buho20biblioteca.gif" TargetMode="Externa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Картинка 5 из 3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0"/>
            <a:ext cx="2252520" cy="2252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19280" y="3284640"/>
            <a:ext cx="5832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нимательно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овед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86000" y="260280"/>
            <a:ext cx="66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В КАКОМ МЕЖДУНАРОДНОМ ДОКУМЕН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ЕРЕЧИСЛЕНЫ ПРАВА ДЕ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3" action="ppaction://hlinksldjump"/>
          </p:cNvPr>
          <p:cNvSpPr/>
          <p:nvPr/>
        </p:nvSpPr>
        <p:spPr>
          <a:xfrm>
            <a:off x="539640" y="1268280"/>
            <a:ext cx="3456000" cy="2519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МЕЙНЫЙ КОД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4" action="ppaction://hlinksldjump"/>
          </p:cNvPr>
          <p:cNvSpPr/>
          <p:nvPr/>
        </p:nvSpPr>
        <p:spPr>
          <a:xfrm>
            <a:off x="5076720" y="1197000"/>
            <a:ext cx="3743280" cy="2519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ВЕНЦИЯ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ПРАВАХ РЕБЕ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Картинка 5 из 3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4437000"/>
            <a:ext cx="225288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 СКАЗКЕ «Маша и медведь» НАРУШЕНО ПРАВ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468360" y="1125360"/>
            <a:ext cx="244800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ДИЦИНСКУЮ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6227640" y="1125360"/>
            <a:ext cx="230364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МЕ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rcRect l="0" t="0" r="0" b="8338"/>
          <a:stretch/>
        </p:blipFill>
        <p:spPr>
          <a:xfrm>
            <a:off x="2987640" y="2421000"/>
            <a:ext cx="30812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60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В СКАЗКЕ «КОЛОБОК» НАРУШЕНО ПРАВ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539640" y="1413000"/>
            <a:ext cx="2303640" cy="151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6372360" y="1341360"/>
            <a:ext cx="230328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ТД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rcRect l="0" t="0" r="3481" b="6765"/>
          <a:stretch/>
        </p:blipFill>
        <p:spPr>
          <a:xfrm>
            <a:off x="2987640" y="2205000"/>
            <a:ext cx="3168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9320" y="83664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ЧТО ТАКОЕ ОБЯЗАННОС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684360" y="2421000"/>
            <a:ext cx="46796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тановленные зак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ила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611280" y="4437000"/>
            <a:ext cx="468000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ила пове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торые выполняются по жел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5 из 3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4365720"/>
            <a:ext cx="22525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2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В СКАЗКЕ «Аленький цветочек» НАРУШЕНО ПРАВ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250920" y="1341360"/>
            <a:ext cx="230328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5580000" y="1341360"/>
            <a:ext cx="341964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ть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26337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2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В СКАЗКЕ «Двенадцать месяцев» НАРУШЕНО ПРАВ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413000"/>
            <a:ext cx="2303640" cy="151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 УЧЁ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0720" y="1484280"/>
            <a:ext cx="230364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ТД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rcRect l="6355" t="0" r="6731" b="6271"/>
          <a:stretch/>
        </p:blipFill>
        <p:spPr>
          <a:xfrm>
            <a:off x="2987640" y="1773360"/>
            <a:ext cx="2952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Картинка 193 из 45104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Картинка 135 из 1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280" y="2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В СКАЗКЕ «Заюшкина избушка» НАРУШЕНО ПРАВ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413000"/>
            <a:ext cx="2303280" cy="151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1341360"/>
            <a:ext cx="230364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ХРАНУ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Щ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0" r="847" b="7581"/>
          <a:stretch/>
        </p:blipFill>
        <p:spPr>
          <a:xfrm>
            <a:off x="2771640" y="1989000"/>
            <a:ext cx="3529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Картинка 135 из 11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260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В СКАЗКЕ «Красная шапочка» НАРУШЕНО ПРАВ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539640" y="1413000"/>
            <a:ext cx="2303640" cy="1512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ЖИ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6372360" y="1341360"/>
            <a:ext cx="2303280" cy="15130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ОТД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rcRect l="7730" t="7352" r="11343" b="13344"/>
          <a:stretch/>
        </p:blipFill>
        <p:spPr>
          <a:xfrm>
            <a:off x="2916360" y="2133720"/>
            <a:ext cx="34160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26920" y="3716280"/>
            <a:ext cx="7129800" cy="2852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464000" cy="3705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1403280" y="4437000"/>
            <a:ext cx="63342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 справились с заданиями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Картинка 135 из 112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05680" y="684360"/>
            <a:ext cx="446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ЧТО ТАКОЕ ПРАВ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900000" y="2349360"/>
            <a:ext cx="4248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умент, разрешение разреш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бёнку отдыхать от учё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221000"/>
            <a:ext cx="424836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вокупность норм и прави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авливающие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дей в обще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5 из 3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4437000"/>
            <a:ext cx="225252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Картинка 193 из 45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39640" y="189000"/>
            <a:ext cx="799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о д у м а 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 rot="5400000">
            <a:off x="7740360" y="53719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Картинка 135 из 1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166760" y="15732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КАКИМ ПРА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ОБЛАДАЕТ РЕБЕН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395280" y="1268280"/>
            <a:ext cx="3745080" cy="2951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5398920" y="1268280"/>
            <a:ext cx="3745080" cy="2951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РУД И ОТД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5 из 3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19640" y="4292640"/>
            <a:ext cx="22525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3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84360" y="5516640"/>
            <a:ext cx="6333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 о л о д ц ы !!!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 rot="5400000">
            <a:off x="7813440" y="5445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1:08:22Z</dcterms:created>
  <dc:creator>WIN7XP</dc:creator>
  <dc:description/>
  <dc:language>en-US</dc:language>
  <cp:lastModifiedBy>Admin</cp:lastModifiedBy>
  <dcterms:modified xsi:type="dcterms:W3CDTF">2011-02-11T06:47:46Z</dcterms:modified>
  <cp:revision>12</cp:revision>
  <dc:subject/>
  <dc:title>Слайд 1</dc:title>
</cp:coreProperties>
</file>