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BC2-7AD9-4E41-A15B-D65B9DE7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C2A-5AC0-43ED-A40D-3D920251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247-A567-4EE7-BDAB-620D6C78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CD1-0339-4B49-BE8D-1141E5FA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074-33A9-4290-BC93-6819ADF1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D9C9-34A8-4176-8AC2-0F80D33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06C5-F041-4D06-9232-0626232A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8BD4-310F-4F86-8EA6-94E4E846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2D92-72E3-41F7-ACB5-34A82F93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22C4-1499-4FC7-8119-C98A849A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0E77-0D7A-4739-83C1-63EFA10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E02-924B-4AB6-9A16-08A1E5EA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CE50-4B67-45B1-B878-1EAB6CDE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B0BB-2D1F-4531-9261-FCA2D06D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0E10-FF0C-43EE-A0D1-EA09992B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B17C-60E5-49A3-AEF1-5E8134E9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FDC6-E8C9-43A3-A8F9-EBB31C17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CEA-F835-4047-AE7F-EFF1A48A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A23-1522-4F4A-BD96-700EF6F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DA6-53E9-4850-B6AE-8D159AD8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905-5092-4EA2-8226-E26A31D3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509-52C9-42FC-A4F1-CA141258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CC1-DF17-491E-A979-61A41531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5B5-CAA4-48F3-885C-38A0350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Calibri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1C17-F709-458A-BED5-063C3EE68A9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Calibri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259-E277-44CA-BEB2-78429F94BF2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Заголовок 1"/>
          <p:cNvGrpSpPr/>
          <p:nvPr/>
        </p:nvGrpSpPr>
        <p:grpSpPr>
          <a:xfrm>
            <a:off x="328680" y="139680"/>
            <a:ext cx="8547120" cy="2792520"/>
            <a:chOff x="328680" y="139680"/>
            <a:chExt cx="8547120" cy="2792520"/>
          </a:xfrm>
        </p:grpSpPr>
        <p:pic>
          <p:nvPicPr>
            <p:cNvPr id="21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28680" y="139680"/>
              <a:ext cx="85471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85800" y="428760"/>
              <a:ext cx="777240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ffff"/>
                  </a:solidFill>
                  <a:latin typeface="Calibri"/>
                </a:rPr>
                <a:t>Деловые игры на уроках экономики</a:t>
              </a:r>
              <a:endParaRPr b="0" lang="en-US" sz="7200" spc="-1" strike="noStrike">
                <a:solidFill>
                  <a:srgbClr val="eaeaea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419640" y="3886200"/>
            <a:ext cx="5295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ренюшева Тамара Муратовн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учитель экономики МО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«Кувакинская гимназия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Алатырского района Ч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Деловая игра 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«Заработать на жизнь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2" descr="C:\Users\1\Desktop\Mar05_66.JPG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Деловая игра «Фабрика пицц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C:\Users\1\Desktop\Mar05_71.JPG"/>
          <p:cNvPicPr/>
          <p:nvPr/>
        </p:nvPicPr>
        <p:blipFill>
          <a:blip r:embed="rId1"/>
          <a:stretch/>
        </p:blipFill>
        <p:spPr>
          <a:xfrm>
            <a:off x="1042920" y="1700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36000" y="0"/>
            <a:ext cx="108000" cy="69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tIns="24120" bIns="2412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3b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Экономика – прикладная наука, которая вооружает ученика такими знаниями, чтоб он смог занять достойное место в обществе и приносить ему максимальную пользу. Поэтому на сегодняшний момент  трудно переоценить роль экономических знаний. Воспитание делового человека, личности с развитым экономическим мышлением, готовой к жизни и хозяйственной деятельности в условиях рыночных отношений, - становится одной из важнейших задач современной школы.  А широкое использование деловых игр помогает решать эту задачу более эффективно, ведь игра организует и поддерживает все интеллектуальные усилия школьников, учащийся обучается, даже не подозревая об этом.</a:t>
            </a:r>
            <a:endParaRPr b="0" lang="en-US" sz="2400" spc="-1" strike="noStrike">
              <a:solidFill>
                <a:srgbClr val="eaea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840" y="115920"/>
            <a:ext cx="892980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Деловые игры создавались для оказания помощи руководителям в принятии наиболее рациональных решений на производстве. В игре имитируется рабочая обстановка, приближенная к действительности, при этом ставится проблемная ситуация. В ходе игры среди участников распределяются роли. Различие ролевых целей и наличие общей задачи игрового коллектива помогает создавать атмосферу реальных отношений между коллегами и ту обстановку, в которой предстоит принимать решения настоящим работникам.  На данном этапе деловые игры получили очень широкое распространение в обучении учащихся в школе, так как являются педагогическим средством и активной формой обучения, которая интенсифицирует учебную деятельность, моделируя управленческие, экономические, психологические, педагогические ситуации и даёт возможность их анализировать и вырабатывать оптимальные действия в дальнейшем. При проведении деловых игр происходит приближение обучения к реальной действительности, требуя от школьников взаимодействия, творчества и инициативы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-9360" y="-28440"/>
            <a:ext cx="9153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7172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Деловые игры направлены н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4200" y="1213920"/>
            <a:ext cx="8786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влечение учащихся в удивительный мир  экономик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скрепощение учащихся, создание условий для возможности проявить себя каждому ребёнку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Целенаправленное развитие мыслительной способности учащихся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звитие интереса к учебной деятельност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звитие таких качеств как самостоятельность, творчество, коммуникабельность, ответственность, инициативность и активнос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188640"/>
            <a:ext cx="8226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При организации деловой игры на уроках экономики необходимо придерживаться следующих положений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ила игры должны быть простыми и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орошо отработанным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формулировка заданий в игре предельно доступна пониманию учащихся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ействует  принцип «играют все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чёт результатов игры должен быть открытым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гра заканчивается на уроке с обязательным получением результат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364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  <a:ea typeface="Arial"/>
              </a:rPr>
              <a:t>Трудности,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с  которыми  сталкивается  учитель </a:t>
            </a:r>
            <a:br>
              <a:rPr sz="2800"/>
            </a:b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при  подготовке   к  деловой  игре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55760" indent="-6372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Большие затраты времени;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1764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Материальные затраты;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1764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Малая численность учащихся в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классах;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1764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Недостаточное количество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часов   по учебной  программ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Деловая игра  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«Производство шариковых авторучек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C:\Users\1\Desktop\Mar05_86.JPG"/>
          <p:cNvPicPr/>
          <p:nvPr/>
        </p:nvPicPr>
        <p:blipFill>
          <a:blip r:embed="rId1"/>
          <a:stretch/>
        </p:blipFill>
        <p:spPr>
          <a:xfrm>
            <a:off x="1403280" y="1557360"/>
            <a:ext cx="6697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Деловая игра «Инфляци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2" descr="C:\Users\1\Desktop\Mar05_87.JPG"/>
          <p:cNvPicPr/>
          <p:nvPr/>
        </p:nvPicPr>
        <p:blipFill>
          <a:blip r:embed="rId1"/>
          <a:stretch/>
        </p:blipFill>
        <p:spPr>
          <a:xfrm>
            <a:off x="250920" y="1484280"/>
            <a:ext cx="4152960" cy="3508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1\Desktop\Mar05_64.JPG"/>
          <p:cNvPicPr/>
          <p:nvPr/>
        </p:nvPicPr>
        <p:blipFill>
          <a:blip r:embed="rId2"/>
          <a:stretch/>
        </p:blipFill>
        <p:spPr>
          <a:xfrm>
            <a:off x="4572000" y="3008160"/>
            <a:ext cx="4338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7:33:57Z</dcterms:created>
  <dc:creator>1</dc:creator>
  <dc:description/>
  <dc:language>en-US</dc:language>
  <cp:lastModifiedBy>Zver</cp:lastModifiedBy>
  <dcterms:modified xsi:type="dcterms:W3CDTF">2008-08-19T19:51:39Z</dcterms:modified>
  <cp:revision>17</cp:revision>
  <dc:subject/>
  <dc:title>Деловые игры на уроках экономики</dc:title>
</cp:coreProperties>
</file>