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826-4589-47AD-9D48-D3A06BE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025-A7CA-4D0E-8EB3-ABBD4DE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08C-1619-40EB-B8F7-52896DE3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CC1-E141-452B-AF9E-0DF3F494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4425-BAFC-48AA-8018-12A4B242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1D8F-DE0E-4D53-8B55-9618097B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5A78-7AF0-4E6F-AD3B-49632092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183A-00AE-41F5-A103-581AF4A4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0CC5-0AA0-4B78-A8FD-56CD701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3233-7FD9-4287-9A96-0BBC1B8A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D9A-5F62-442C-94ED-1E2543F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956-8F0B-4356-9B38-79A33323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1B96-DB90-40F8-B3DC-A402E0A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1A98-E09D-4BBC-ACCA-A47607B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98AF-B48C-44F6-AEC7-C05574FA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C168-916A-4F1E-AE57-A8886E2B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A758-9E8B-4AB7-9DE8-040954B3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C47-2A61-4E6D-8E13-B2B1AB06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3CB-1C1D-49D8-927A-CE97B57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33D-8753-4210-99C6-F87C2BD4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807-050D-4E8D-B1D7-EF1A7A3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065-A392-4BC8-9F0F-D99725C3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896-5AAD-42CA-B79B-5B9B3EE6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5D7-31C4-48CF-BDDA-AB87127D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Calibri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F5B1-0246-4832-9266-AFCEF7F0D2E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Calibri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Calibri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F2C-7480-4554-90EE-B768DE8A16F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Заголовок 1"/>
          <p:cNvGrpSpPr/>
          <p:nvPr/>
        </p:nvGrpSpPr>
        <p:grpSpPr>
          <a:xfrm>
            <a:off x="328680" y="139680"/>
            <a:ext cx="8547120" cy="2792520"/>
            <a:chOff x="328680" y="139680"/>
            <a:chExt cx="8547120" cy="2792520"/>
          </a:xfrm>
        </p:grpSpPr>
        <p:pic>
          <p:nvPicPr>
            <p:cNvPr id="21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8680" y="139680"/>
              <a:ext cx="85471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685800" y="428760"/>
              <a:ext cx="77724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ffff"/>
                  </a:solidFill>
                  <a:latin typeface="Calibri"/>
                </a:rPr>
                <a:t>Деловые игры на уроках экономики</a:t>
              </a:r>
              <a:endParaRPr b="0" lang="en-US" sz="7200" spc="-1" strike="noStrike">
                <a:solidFill>
                  <a:srgbClr val="eaeaea"/>
                </a:solidFill>
                <a:latin typeface="Calibri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419640" y="3886200"/>
            <a:ext cx="5295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Тренюшева Тамара Муратовн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учитель экономики МО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«Кувакинская гимназия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Алатырского района ЧР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Деловая игра </a:t>
            </a:r>
            <a:br>
              <a:rPr sz="4000"/>
            </a:b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«Заработать на жизнь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C:\Users\1\Desktop\Mar05_66.JPG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Деловая игра «Фабрика пицц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2" descr="C:\Users\1\Desktop\Mar05_71.JPG"/>
          <p:cNvPicPr/>
          <p:nvPr/>
        </p:nvPicPr>
        <p:blipFill>
          <a:blip r:embed="rId1"/>
          <a:stretch/>
        </p:blipFill>
        <p:spPr>
          <a:xfrm>
            <a:off x="1042920" y="1700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36000" y="0"/>
            <a:ext cx="108000" cy="698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tIns="24120" bIns="24120"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3b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Экономика – прикладная наука, которая вооружает ученика такими знаниями, чтоб он смог занять достойное место в обществе и приносить ему максимальную пользу. Поэтому на сегодняшний момент  трудно переоценить роль экономических знаний. Воспитание делового человека, личности с развитым экономическим мышлением, готовой к жизни и хозяйственной деятельности в условиях рыночных отношений, - становится одной из важнейших задач современной школы.  А широкое использование деловых игр помогает решать эту задачу более эффективно, ведь игра организует и поддерживает все интеллектуальные усилия школьников, учащийся обучается, даже не подозревая об этом.</a:t>
            </a:r>
            <a:endParaRPr b="0" lang="en-US" sz="2400" spc="-1" strike="noStrike">
              <a:solidFill>
                <a:srgbClr val="eaea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840" y="115920"/>
            <a:ext cx="8929800" cy="674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Деловые игры создавались для оказания помощи руководителям в принятии наиболее рациональных решений на производстве. В игре имитируется рабочая обстановка, приближенная к действительности, при этом ставится проблемная ситуация. В ходе игры среди участников распределяются роли. Различие ролевых целей и наличие общей задачи игрового коллектива помогает создавать атмосферу реальных отношений между коллегами и ту обстановку, в которой предстоит принимать решения настоящим работникам.  На данном этапе деловые игры получили очень широкое распространение в обучении учащихся в школе, так как являются педагогическим средством и активной формой обучения, которая интенсифицирует учебную деятельность, моделируя управленческие, экономические, психологические, педагогические ситуации и даёт возможность их анализировать и вырабатывать оптимальные действия в дальнейшем. При проведении деловых игр происходит приближение обучения к реальной действительности, требуя от школьников взаимодействия, творчества и инициативы.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-9360" y="-28440"/>
            <a:ext cx="91533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7172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Деловые игры направлены 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4200" y="1213920"/>
            <a:ext cx="87868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Вовлечение учащихся в удивительный мир  экономик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скрепощение учащихся, создание условий для возможности проявить себя каждому ребёнку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Целенаправленное развитие мыслительной способности учащихс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звитие интереса к учебной деятельност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Развитие таких качеств как самостоятельность, творчество, коммуникабельность, ответственность, инициативность и активность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При организации деловой игры на уроках экономики необходимо придерживаться следующих положений: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ила игры должны быть простыми и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хорошо отработанным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формулировка заданий в игре предельно доступна пониманию учащихся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ействует  принцип «играют все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чёт результатов игры должен быть открытым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игра заканчивается на уроке с обязательным получением результат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36424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  <a:ea typeface="Arial"/>
              </a:rPr>
              <a:t>Трудности,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с  которыми  сталкивается  учитель </a:t>
            </a:r>
            <a:br>
              <a:rPr sz="2800"/>
            </a:b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при  подготовке   к  деловой  игре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55760" indent="-6372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Большие затраты времени;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1764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Материальные затраты;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1764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Малая численность учащихся в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классах;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17640">
              <a:spcBef>
                <a:spcPts val="1001"/>
              </a:spcBef>
              <a:buClr>
                <a:srgbClr val="ccecff"/>
              </a:buClr>
              <a:buSzPct val="115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Недостаточное количеств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часов   по учебной  программ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Деловая игра 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«Производство шариковых авторучек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2" descr="C:\Users\1\Desktop\Mar05_86.JPG"/>
          <p:cNvPicPr/>
          <p:nvPr/>
        </p:nvPicPr>
        <p:blipFill>
          <a:blip r:embed="rId1"/>
          <a:stretch/>
        </p:blipFill>
        <p:spPr>
          <a:xfrm>
            <a:off x="1403280" y="1557360"/>
            <a:ext cx="6697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Деловая игра «Инфляция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Picture 2" descr="C:\Users\1\Desktop\Mar05_87.JPG"/>
          <p:cNvPicPr/>
          <p:nvPr/>
        </p:nvPicPr>
        <p:blipFill>
          <a:blip r:embed="rId1"/>
          <a:stretch/>
        </p:blipFill>
        <p:spPr>
          <a:xfrm>
            <a:off x="250920" y="1484280"/>
            <a:ext cx="4152960" cy="3508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1\Desktop\Mar05_64.JPG"/>
          <p:cNvPicPr/>
          <p:nvPr/>
        </p:nvPicPr>
        <p:blipFill>
          <a:blip r:embed="rId2"/>
          <a:stretch/>
        </p:blipFill>
        <p:spPr>
          <a:xfrm>
            <a:off x="4572000" y="3008160"/>
            <a:ext cx="4338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7:33:57Z</dcterms:created>
  <dc:creator>1</dc:creator>
  <dc:description/>
  <dc:language>en-US</dc:language>
  <cp:lastModifiedBy>Zver</cp:lastModifiedBy>
  <dcterms:modified xsi:type="dcterms:W3CDTF">2008-08-19T19:51:39Z</dcterms:modified>
  <cp:revision>17</cp:revision>
  <dc:subject/>
  <dc:title>Деловые игры на уроках экономики</dc:title>
</cp:coreProperties>
</file>