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7.png" ContentType="image/png"/>
  <Override PartName="/ppt/media/image8.png" ContentType="image/png"/>
  <Override PartName="/ppt/media/image9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678B7-F922-45C5-810B-3B2EA81B0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B058E-B2A9-4E06-805D-5A71395B8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85123-36FF-48C9-9FAF-DBA91EA8A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632C9-A73A-46B8-8368-0AF8A9254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63E5C-3B45-4E72-86B5-14210C167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C59D0-0E23-4A47-A7EC-377987998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8BB10-1CE0-4A63-ACB3-618E05C55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07BAD-A4D7-47D8-BA13-01B96AB0E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31D25-F924-405B-AE12-496BD28B9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8A8D8-43FE-454E-A1DD-4E8A53732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82426-B026-4EAE-8FE8-437E976EF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3416C-AFDD-4E9E-936E-C07F9306A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34DC0-9A42-4A36-AD3C-CECA839D3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13101-CF3E-4802-B065-61AA3B816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A84A5-171A-49E9-BBA3-7C3D3AFE4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9158A-55F7-4B43-9E10-11A88DE9A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8D568-4CD5-41C2-91A3-7C334856D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01B3F-3DD0-48FD-9C52-20D0ED8F9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97184-7C04-4D36-A157-987ED4CCD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EB098-E23C-4856-8AB9-EDF21654C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6A94E-784A-4B0B-B1AA-D712CBC48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C6118-75B2-4C9B-8BB4-6A6DD07BC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CFA03-A58A-4CCE-936A-3B824FE94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C7C15-C194-4B3A-AB2F-F29EB50CD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AA1E0-57F8-4F93-A1D2-2C64F9D36F1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E7A40-2654-4FDD-BA93-BE7F41D259D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4360" y="278100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dicine in Engl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148000" y="274320"/>
            <a:ext cx="3816360" cy="61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dical choice, a mixture of the theory of Humors, the Doctrine of Signatures, astrology, tradition, chemical science, and magic became the basis for popular medicine in Elizabethan England.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076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Europe's healthiest countri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971640" y="1268280"/>
          <a:ext cx="7667640" cy="521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1268280"/>
                    <a:ext cx="7667640" cy="521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7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9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Be healthy! </a:t>
            </a:r>
            <a:br>
              <a:rPr sz="8000"/>
            </a:b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God bye!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41264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aim of my work is to find out interesting and useful information about medical health care.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64000" y="260280"/>
            <a:ext cx="378000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ny people have dreams of becoming doctors and saving lives</a:t>
            </a: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148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716360" y="274320"/>
            <a:ext cx="4176720" cy="62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ures from Medieval England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or toothache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16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03280" y="274680"/>
            <a:ext cx="3961080" cy="61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or evil spirits in the head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870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651280" y="274320"/>
            <a:ext cx="3313080" cy="62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For general illnesses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651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292360" y="259920"/>
            <a:ext cx="353844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Blood letting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076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76720" y="274320"/>
            <a:ext cx="3610080" cy="62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Cauterisation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003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859280" y="274320"/>
            <a:ext cx="3827520" cy="61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Astrology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16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0T18:11:16Z</dcterms:created>
  <dc:creator>User</dc:creator>
  <dc:description/>
  <dc:language>en-US</dc:language>
  <cp:lastModifiedBy>User</cp:lastModifiedBy>
  <dcterms:modified xsi:type="dcterms:W3CDTF">2010-11-14T16:36:21Z</dcterms:modified>
  <cp:revision>4</cp:revision>
  <dc:subject/>
  <dc:title>Medicine in England</dc:title>
</cp:coreProperties>
</file>