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494-963F-4651-B125-9422B3FF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C08-D01F-477C-8679-FCE2233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3F2-0472-4A7D-86EF-4EE87769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F83-4539-40B4-9D0A-608541E3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6E1-3DD2-4902-9B23-5207DF01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394F-4A9F-4E27-8FCD-2AF16D30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8AF-54C0-46A8-99DB-F81B582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658D-819F-4C70-9860-AE5511A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419A-E14D-4DC6-94EF-30EDD34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0630-7C9C-46BB-9113-A4140B92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8CAB-E4E2-448D-8CFD-C1A75A5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EA0-1FBC-49CC-BF65-CC3FB3D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855D-1081-4BFA-AAB2-0A67F037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B41C-3458-46C0-9F96-FD7B6881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1AE9-A32E-4726-B266-67AB88F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AB41-B1DA-4AF6-962B-D9180FD1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DD2E-079B-46BD-BF4E-45F120FC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E82-D761-4F7D-9386-7BA79C6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735-E27D-45DA-AAC4-4736D67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A91-49E8-4B75-B809-760C35A9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65B-EFFB-486C-ACF0-3060836E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E93-6928-4B18-8C7F-6F2F300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A7F-4686-4931-A84C-010B6D5C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73D-4733-4B3B-955C-11C02F1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0E85-9D0F-4D62-B61F-E20C440DF4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0824-5EC4-4B94-BD59-16A827C8B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in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choice, a mixture of the theory of Humors, the Doctrine of Signatures, astrology, tradition, chemical science, and magic became the basis for popular medicine in Elizabethan England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Europe's healthiest count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71640" y="1268280"/>
          <a:ext cx="766764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66764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e healthy!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od 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im of my work is to find out interesting and useful information about medical health care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64000" y="260280"/>
            <a:ext cx="37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people have dreams of becoming doctors and saving lives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360" y="274320"/>
            <a:ext cx="4176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res from Medieval England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oothach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3280" y="274680"/>
            <a:ext cx="3961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evil spirits in the hea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313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For general illnesse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92360" y="259920"/>
            <a:ext cx="353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Blood letting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Cauterisa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Astrology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8:11:16Z</dcterms:created>
  <dc:creator>User</dc:creator>
  <dc:description/>
  <dc:language>en-US</dc:language>
  <cp:lastModifiedBy>User</cp:lastModifiedBy>
  <dcterms:modified xsi:type="dcterms:W3CDTF">2010-11-14T16:36:21Z</dcterms:modified>
  <cp:revision>4</cp:revision>
  <dc:subject/>
  <dc:title>Medicine in England</dc:title>
</cp:coreProperties>
</file>