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explode.wav" ContentType="audio/x-wav"/>
  <Override PartName="/ppt/media/image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ricochet.wav" ContentType="audio/x-wav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shreg.wav" ContentType="audio/x-wav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8D4-9B92-469B-AF80-E9B6FF23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0FE-5BE1-4791-8422-DD493383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174-D8BC-4824-9E90-226B1DA2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888-11FB-45FC-B6B2-60DBEB2CF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36B-3FBA-4CE7-BD5E-45A8EC25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749-7FEC-4C8A-910E-21E0EFD3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8AD-0E50-4332-BDC0-6106EE5D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161-ADC2-47D8-A7C8-947980B5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A8D-61A5-469C-8496-943AF1AE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A76-640A-4753-A2A0-54C551C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D21-8D61-4D02-9AAB-7C8D9106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8B2-3BCC-4B7E-87D9-2CC7C6C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69F2-D063-4D13-8656-F8C05C8486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61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55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56.xml"/><Relationship Id="rId13" Type="http://schemas.openxmlformats.org/officeDocument/2006/relationships/slide" Target="slide60.xml"/><Relationship Id="rId14" Type="http://schemas.openxmlformats.org/officeDocument/2006/relationships/slide" Target="slide31.xml"/><Relationship Id="rId15" Type="http://schemas.openxmlformats.org/officeDocument/2006/relationships/slide" Target="slide58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59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5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61.xml"/><Relationship Id="rId27" Type="http://schemas.openxmlformats.org/officeDocument/2006/relationships/slide" Target="slide6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56520" y="2610000"/>
            <a:ext cx="616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Окружающий мир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46400" y="4476600"/>
            <a:ext cx="296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КЛАСС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172040" y="323856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4" name="Fausto Papetti-Spely Shores.MP3" descr=""/>
          <p:cNvPicPr/>
          <p:nvPr/>
        </p:nvPicPr>
        <p:blipFill>
          <a:blip r:embed="rId1"/>
          <a:stretch/>
        </p:blipFill>
        <p:spPr>
          <a:xfrm>
            <a:off x="0" y="3371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>
            <a:off x="2357280" y="1028880"/>
            <a:ext cx="4448160" cy="2381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ные сообщества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619600" y="5276880"/>
            <a:ext cx="329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Литвиненко Татьяна Анатольевна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МОУ ТЭЛ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г. Новороссийск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2286000" y="1554120"/>
            <a:ext cx="520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дрост -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растущее растение, переходящее из яруса в ярус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95320" y="24192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Что помогает растениям жить рядом, не мешая друг другу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9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971640" y="819000"/>
            <a:ext cx="7867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Ярусность в лесу помогает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растениям жить рядом, не мешая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друг другу и разный срок цветения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81200" y="2247840"/>
            <a:ext cx="760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чему лес называют природным сообществом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7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971640" y="380880"/>
            <a:ext cx="68961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се обитатели леса живут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ообща, в одних природных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условиях. Жизнь одних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обитателей леса тесно связана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 жизнью других. Растения,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животные, грибы, бактерии тесно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вязаны друг с другом в цепи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питания. Первым звеном в этих цепях 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являются растения.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81200" y="22860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ие растения на лугу встречаются редко и почему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085760" y="361800"/>
            <a:ext cx="77155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едко встречаются на лугу деревья и кустарники, так как им не дают развиваться густо переплетённые корни травянистых растени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г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80880" y="1962000"/>
            <a:ext cx="836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Какие животные не живут на лугу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79404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685800" y="757080"/>
            <a:ext cx="750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На лугу не живут крупные животные. Им негде спрятаться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04880" y="25336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 связаны между собой организмы в сообществах луг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ff"/>
                </a:solidFill>
                <a:latin typeface="Times New Roman"/>
              </a:rPr>
              <a:t>Данный урок проводится по типу телевизионной передачи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026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1" name="Text Box 1027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Text Box 1028"/>
          <p:cNvSpPr/>
          <p:nvPr/>
        </p:nvSpPr>
        <p:spPr>
          <a:xfrm>
            <a:off x="361800" y="228600"/>
            <a:ext cx="7143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лавные связи – пищевые. Но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роме этого, растения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могают животным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укрываться от врагов.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Животные помогают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асселению плодов и семян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астени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Rectangle 1030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19040" y="217188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 животные луга приспособились к жизни на лугу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819000" y="1181160"/>
            <a:ext cx="786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Защитная окраска животных помогает им скрываться от врагов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Луг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640" y="1943280"/>
            <a:ext cx="803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их насекомых, земноводных, пресмыкающихся, птиц, млекопитающих животных можно встретить на лугу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6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Text Box 1028"/>
          <p:cNvSpPr/>
          <p:nvPr/>
        </p:nvSpPr>
        <p:spPr>
          <a:xfrm>
            <a:off x="438120" y="3808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Насекомые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бабочки, кузнечики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жуки,  муравьи, кобылки, медведк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Земноводные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жаб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Пресмыкающиеся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ящериц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Птицы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трясогузка, перепел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оростель, канюк, пустельга, лунь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Млекопитающие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– мыши, полёвки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рот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2076480"/>
            <a:ext cx="84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на полях, где много сорняков, всегда плохой урожай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66720" y="2019240"/>
            <a:ext cx="811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азвитая корневая система сорняков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забирает у культурных растений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ду и питательные минеральные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оли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5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57160" y="179064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Чем поле отличается от луг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0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1" name="Text Box 1028"/>
          <p:cNvSpPr/>
          <p:nvPr/>
        </p:nvSpPr>
        <p:spPr>
          <a:xfrm>
            <a:off x="266760" y="1295280"/>
            <a:ext cx="8324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оле – это природное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сообщество, которое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искусственно создано человеком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для культурных растений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2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3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Rectangle 1034"/>
          <p:cNvSpPr/>
          <p:nvPr/>
        </p:nvSpPr>
        <p:spPr>
          <a:xfrm>
            <a:off x="3809520" y="3056040"/>
            <a:ext cx="33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52600" y="18478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, где прежде рос горох, отлично живётся другим растениям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5" descr="10"/>
          <p:cNvPicPr/>
          <p:nvPr/>
        </p:nvPicPr>
        <p:blipFill>
          <a:blip r:embed="rId2"/>
          <a:stretch/>
        </p:blipFill>
        <p:spPr>
          <a:xfrm>
            <a:off x="0" y="0"/>
            <a:ext cx="3067200" cy="23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6" descr="11"/>
          <p:cNvPicPr/>
          <p:nvPr/>
        </p:nvPicPr>
        <p:blipFill>
          <a:blip r:embed="rId3"/>
          <a:stretch/>
        </p:blipFill>
        <p:spPr>
          <a:xfrm>
            <a:off x="6039000" y="0"/>
            <a:ext cx="3105000" cy="23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12"/>
          <p:cNvPicPr/>
          <p:nvPr/>
        </p:nvPicPr>
        <p:blipFill>
          <a:blip r:embed="rId4"/>
          <a:stretch/>
        </p:blipFill>
        <p:spPr>
          <a:xfrm>
            <a:off x="0" y="4933800"/>
            <a:ext cx="3022560" cy="226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13"/>
          <p:cNvPicPr/>
          <p:nvPr/>
        </p:nvPicPr>
        <p:blipFill>
          <a:blip r:embed="rId5"/>
          <a:stretch/>
        </p:blipFill>
        <p:spPr>
          <a:xfrm>
            <a:off x="6191280" y="49100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15"/>
          <p:cNvPicPr/>
          <p:nvPr/>
        </p:nvPicPr>
        <p:blipFill>
          <a:blip r:embed="rId6"/>
          <a:stretch/>
        </p:blipFill>
        <p:spPr>
          <a:xfrm>
            <a:off x="2857680" y="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1" descr="16"/>
          <p:cNvPicPr/>
          <p:nvPr/>
        </p:nvPicPr>
        <p:blipFill>
          <a:blip r:embed="rId7"/>
          <a:stretch/>
        </p:blipFill>
        <p:spPr>
          <a:xfrm>
            <a:off x="3009960" y="4991040"/>
            <a:ext cx="3162240" cy="21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2" descr="32"/>
          <p:cNvPicPr/>
          <p:nvPr/>
        </p:nvPicPr>
        <p:blipFill>
          <a:blip r:embed="rId8"/>
          <a:stretch/>
        </p:blipFill>
        <p:spPr>
          <a:xfrm>
            <a:off x="0" y="2438280"/>
            <a:ext cx="2897280" cy="245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3" descr="36"/>
          <p:cNvPicPr/>
          <p:nvPr/>
        </p:nvPicPr>
        <p:blipFill>
          <a:blip r:embed="rId9"/>
          <a:stretch/>
        </p:blipFill>
        <p:spPr>
          <a:xfrm>
            <a:off x="2876400" y="2228760"/>
            <a:ext cx="3670560" cy="273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4" descr="30"/>
          <p:cNvPicPr/>
          <p:nvPr/>
        </p:nvPicPr>
        <p:blipFill>
          <a:blip r:embed="rId10"/>
          <a:stretch/>
        </p:blipFill>
        <p:spPr>
          <a:xfrm>
            <a:off x="6419880" y="2422440"/>
            <a:ext cx="2724120" cy="245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8" descr="43"/>
          <p:cNvPicPr/>
          <p:nvPr/>
        </p:nvPicPr>
        <p:blipFill>
          <a:blip r:embed="rId11"/>
          <a:stretch/>
        </p:blipFill>
        <p:spPr>
          <a:xfrm>
            <a:off x="2590920" y="2185920"/>
            <a:ext cx="4071960" cy="301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" descr="39"/>
          <p:cNvPicPr/>
          <p:nvPr/>
        </p:nvPicPr>
        <p:blipFill>
          <a:blip r:embed="rId12"/>
          <a:stretch/>
        </p:blipFill>
        <p:spPr>
          <a:xfrm>
            <a:off x="0" y="0"/>
            <a:ext cx="2987640" cy="235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0" descr="31"/>
          <p:cNvPicPr/>
          <p:nvPr/>
        </p:nvPicPr>
        <p:blipFill>
          <a:blip r:embed="rId13"/>
          <a:stretch/>
        </p:blipFill>
        <p:spPr>
          <a:xfrm>
            <a:off x="6259680" y="4917960"/>
            <a:ext cx="2884320" cy="22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1" descr="26"/>
          <p:cNvPicPr/>
          <p:nvPr/>
        </p:nvPicPr>
        <p:blipFill>
          <a:blip r:embed="rId14"/>
          <a:stretch/>
        </p:blipFill>
        <p:spPr>
          <a:xfrm>
            <a:off x="6400800" y="0"/>
            <a:ext cx="2743200" cy="22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2" descr="35"/>
          <p:cNvPicPr/>
          <p:nvPr/>
        </p:nvPicPr>
        <p:blipFill>
          <a:blip r:embed="rId15"/>
          <a:stretch/>
        </p:blipFill>
        <p:spPr>
          <a:xfrm>
            <a:off x="0" y="4943520"/>
            <a:ext cx="3100320" cy="22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3" descr="04"/>
          <p:cNvPicPr/>
          <p:nvPr/>
        </p:nvPicPr>
        <p:blipFill>
          <a:blip r:embed="rId16"/>
          <a:stretch/>
        </p:blipFill>
        <p:spPr>
          <a:xfrm>
            <a:off x="0" y="0"/>
            <a:ext cx="460368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4" descr="25"/>
          <p:cNvPicPr/>
          <p:nvPr/>
        </p:nvPicPr>
        <p:blipFill>
          <a:blip r:embed="rId17"/>
          <a:stretch/>
        </p:blipFill>
        <p:spPr>
          <a:xfrm>
            <a:off x="4508640" y="3753000"/>
            <a:ext cx="4635360" cy="3390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5" descr="28"/>
          <p:cNvPicPr/>
          <p:nvPr/>
        </p:nvPicPr>
        <p:blipFill>
          <a:blip r:embed="rId18"/>
          <a:stretch/>
        </p:blipFill>
        <p:spPr>
          <a:xfrm>
            <a:off x="4564080" y="0"/>
            <a:ext cx="4579920" cy="374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6" descr="44"/>
          <p:cNvPicPr/>
          <p:nvPr/>
        </p:nvPicPr>
        <p:blipFill>
          <a:blip r:embed="rId19"/>
          <a:stretch/>
        </p:blipFill>
        <p:spPr>
          <a:xfrm>
            <a:off x="0" y="3714840"/>
            <a:ext cx="4551480" cy="352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7" descr="18"/>
          <p:cNvPicPr/>
          <p:nvPr/>
        </p:nvPicPr>
        <p:blipFill>
          <a:blip r:embed="rId20"/>
          <a:stretch/>
        </p:blipFill>
        <p:spPr>
          <a:xfrm>
            <a:off x="2381400" y="1854360"/>
            <a:ext cx="4082760" cy="311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8" descr="своя игра загл"/>
          <p:cNvPicPr/>
          <p:nvPr/>
        </p:nvPicPr>
        <p:blipFill>
          <a:blip r:embed="rId2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52600" y="723960"/>
            <a:ext cx="8076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Корни гороха усеяны крохотными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клубеньками, в которых трудятся почвенные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бактерии. Они извлекают из воздуха азот и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накапливают его в клубеньках. Растения не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умеют сами добывать азот, а корни бобовых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marL="914400" indent="-91440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насыщают почву азотными удобрениями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120" y="23814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Зависит ли жизнь хищных птиц от растений поля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41204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43080" y="0"/>
            <a:ext cx="83818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Да, потому что хищные птицы питаются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растительноядными животными. Если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будет плохой урожай растений на полях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будет меньше пищи растительноядным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животным, они будут умирать, а  значит,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будет меньше пищи и хищникам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19000" y="18669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и как полеводы борются с сорными растениями на полях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79404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28560" y="15238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леводы проводят прополку на полях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и удаляют сорные растения, так как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они наносят вред культурным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растениям. 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5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сный водоё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зовите естественные и искусственные пресные водоём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1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867120" y="571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TextBox 8"/>
          <p:cNvSpPr/>
          <p:nvPr/>
        </p:nvSpPr>
        <p:spPr>
          <a:xfrm>
            <a:off x="495360" y="704880"/>
            <a:ext cx="821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Естественные водоёмы – река, озеро, ручей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Искусственные водоёмы – пруд, канал, водохранилище</a:t>
            </a: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сный водоём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91440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 в подводные органы растений поступает кислород, необходимый для дыхания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495360" y="571680"/>
            <a:ext cx="81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В корнях и листьях водных растений имеются воздухоносные каналы. Если сорвать цветок, через место разрыва в растение начинает проникать вода. Это приводит к загниванию подводной части и в конечном счёте к гибели растения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сные водоём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47640" y="1847880"/>
            <a:ext cx="786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Кто в реке без головы живёт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2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риродные сообщ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360" y="1200240"/>
          <a:ext cx="8400960" cy="4282920"/>
        </p:xfrm>
        <a:graphic>
          <a:graphicData uri="http://schemas.openxmlformats.org/drawingml/2006/table">
            <a:tbl>
              <a:tblPr/>
              <a:tblGrid>
                <a:gridCol w="1504800"/>
                <a:gridCol w="1295640"/>
                <a:gridCol w="1400040"/>
                <a:gridCol w="1400040"/>
                <a:gridCol w="1400400"/>
                <a:gridCol w="14000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уг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е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сный водоём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лото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25">
            <a:hlinkClick r:id="rId26" action="ppaction://hlinksldjump"/>
          </p:cNvPr>
          <p:cNvSpPr/>
          <p:nvPr/>
        </p:nvSpPr>
        <p:spPr>
          <a:xfrm>
            <a:off x="3700080" y="62784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47680" y="100980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Это моллюски беззубки и перловицы. У них нет головы, но есть нога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есные водоёмы</a:t>
            </a:r>
            <a:br>
              <a:rPr sz="48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43040" y="196200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Кто живёт в капле речной воды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57200" y="285840"/>
            <a:ext cx="8020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 капле воды живут – </a:t>
            </a: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амёба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(очень медлительное существо, которое медленно переливается внутри капли), </a:t>
            </a: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инфузория-туфелька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(которая ловко управляет ресничками, покрывающими её тело и быстро плывёт куда ей надо), </a:t>
            </a: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трубачи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(самые красивые обитатели капли, похожие на цветки вьюнков) и хищник </a:t>
            </a:r>
            <a:r>
              <a:rPr b="1" lang="ru-RU" sz="3200" spc="-1" strike="noStrike">
                <a:solidFill>
                  <a:srgbClr val="66ffff"/>
                </a:solidFill>
                <a:latin typeface="Times New Roman"/>
              </a:rPr>
              <a:t>дидиний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(быстрый, подвижный, целиком заглатывающий туфельку)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есные водоём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509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09480" y="1962000"/>
            <a:ext cx="81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очему водомерки не тонут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0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52600" y="324000"/>
            <a:ext cx="779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Их длинные ножки снизу покрыты жиром, поэтому вода их и держит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955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 происходит образование торфа на болотах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7" name="Text Box 1062"/>
          <p:cNvSpPr/>
          <p:nvPr/>
        </p:nvSpPr>
        <p:spPr>
          <a:xfrm>
            <a:off x="457200" y="266760"/>
            <a:ext cx="830592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ижние части мха сфагнума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ходящиеся  в торфяной жиже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степенно отмирают. Отмершие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части превращаются в торф.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лщина торфа может достигать 3-4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метров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514440" indent="-514440">
              <a:spcBef>
                <a:spcPts val="2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2133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ие растения и почему превратились в растения-хищников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533520" y="241200"/>
            <a:ext cx="8172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Росянка и пузырчатка – растения-хищники. Их листочки покрыты красными волосками с капельками клейкого сока. Яркая окраска привлекает насекомых, но садясь на растение насекомое приклеивается к нему. Листок сжимается, а его волоски высасывают из насекомого все соки. А всё потому что на болотистых почвах не хватает питательных веществ для растений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933480" y="22287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Откуда берутся болот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371600" y="2666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ие деревья преобладают в тайге, в смешанном лесе, в лиственном лесе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9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0" name="Text Box 1033"/>
          <p:cNvSpPr/>
          <p:nvPr/>
        </p:nvSpPr>
        <p:spPr>
          <a:xfrm>
            <a:off x="380880" y="660240"/>
            <a:ext cx="8382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 месте озер, лесных речушек или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дземных ключей,  которые  на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ротяжении многих лет зарастали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равами и мхами,  образовываются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опилки воды – болота. Дно у болота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топкое, образовано из переплетений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теблей, листьев и трав – засосёт 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любого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1" name="Rectangle 1035">
            <a:hlinkClick r:id="rId3" action="ppaction://hlinksldjump"/>
          </p:cNvPr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90720" y="177156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то ревёт и хохочет на болоте?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009800" y="895320"/>
            <a:ext cx="78102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Это удивительные птицы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Ревёт на болоте по ночам – выпь – скромная незаметная птица с очень громким голосом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Хохочет с наступлением темноты  ночной разбойник – фили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Болот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971640" y="1943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ие реки вытекают из болот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14000" y="58500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123920" y="1504800"/>
            <a:ext cx="62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Река Васюган, Волга, Москва-река, Днепр – вытекают из болот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69828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6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62232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64104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5960" y="819000"/>
            <a:ext cx="8398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ff"/>
                </a:solidFill>
                <a:uFillTx/>
                <a:latin typeface="Times New Roman"/>
              </a:rPr>
              <a:t>Тайга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– хвойные деревья: ель, пихта, сосна,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лиственница, редко – берёза, осина, ольха.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ff"/>
                </a:solidFill>
                <a:uFillTx/>
                <a:latin typeface="Times New Roman"/>
              </a:rPr>
              <a:t>Смешанный лес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– хвойные и лиственные деревья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ff"/>
                </a:solidFill>
                <a:uFillTx/>
                <a:latin typeface="Times New Roman"/>
              </a:rPr>
              <a:t>Лиственный лес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– лиственные деревья,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стречаются сосны, ели, лиственницы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275" name="Picture 5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2120" y="25146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колько ярусов в смешанном лесу? Назовите каждый ярус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343080" y="247680"/>
            <a:ext cx="85341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В смешанном лесу 5 ярусов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1 ярус – высокорослые деревья: сосна, берёза, лиственниц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2 ярус – низкорослые деревья: ели, пихты, кедры, лип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3 ярус – кустарники: можжевельник, калина, шиповник, смородин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4 ярус – травы, мхи и лишайники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5 ярус – почва – в ней прячутся корни зелёных обитателей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3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38080" y="2286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ие растения нельзя отнести ни к какому ярусу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User</cp:lastModifiedBy>
  <dcterms:modified xsi:type="dcterms:W3CDTF">2011-03-10T19:55:53Z</dcterms:modified>
  <cp:revision>119</cp:revision>
  <dc:subject/>
  <dc:title>Презентация PowerPoint</dc:title>
</cp:coreProperties>
</file>