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F96-0AE3-4377-9D9D-FD565FC2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3AF-EC7D-4FEF-82BC-F5BE0D1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72-6215-420D-AFFE-4E16EC53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D8F-FF2C-4932-9F3F-78263A6A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12B-4F8D-45F1-BAD1-A3255A8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3D3-5CD3-4651-ADDF-437A0C0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286-7F6B-4251-B2E4-D900881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9B8-44A3-4ECF-BDBD-2289DE16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17E-C09A-49DC-B696-A1F1DE06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219-8D35-4484-A2C8-3723CAE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2FA-1F3F-491A-8EDE-B2D3F30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72C-B8B7-4954-9043-DAEB8C2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AC12-3CC1-4E98-8981-823453E03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6.xml"/><Relationship Id="rId13" Type="http://schemas.openxmlformats.org/officeDocument/2006/relationships/slide" Target="slide60.xml"/><Relationship Id="rId14" Type="http://schemas.openxmlformats.org/officeDocument/2006/relationships/slide" Target="slide31.xml"/><Relationship Id="rId15" Type="http://schemas.openxmlformats.org/officeDocument/2006/relationships/slide" Target="slide58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59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028880"/>
            <a:ext cx="4448160" cy="238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е сообщества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286000" y="1554120"/>
            <a:ext cx="520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дрост -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растущее растение, переходящее из яруса в ярус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95320" y="24192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Что помогает растениям жить рядом, не мешая друг друг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971640" y="819000"/>
            <a:ext cx="786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Ярусность в лесу помогает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растениям жить рядом, не мешая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друг другу и разный срок цветения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81200" y="2247840"/>
            <a:ext cx="760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лес называют природным сообществ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71640" y="380880"/>
            <a:ext cx="6896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се обитатели леса живут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обща, в одних природны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условиях. Жизнь одни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обитателей леса тесно связана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 жизнью других. Растения,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животные, грибы, бактерии тесно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вязаны друг с другом в цепи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питания. Первым звеном в этих цепя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являются растения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растения на лугу встречаются редко и почем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85760" y="361800"/>
            <a:ext cx="77155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едко встречаются на лугу деревья и кустарники, так как им не дают развиваться густо переплетённые корни травянистых растен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акие животные не живут на лугу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85800" y="757080"/>
            <a:ext cx="750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а лугу не живут крупные животные. Им негде спрятатьс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04880" y="2533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связаны между собой организмы в сообществах луг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361800" y="228600"/>
            <a:ext cx="7143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лавные связи – пищевые. Но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роме этого, растения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могают животным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крываться от врагов.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Животные помогают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сселению плодов и семян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стен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19040" y="217188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животные луга приспособились к жизни на луг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819000" y="1181160"/>
            <a:ext cx="786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Защитная окраска животных помогает им скрываться от врагов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640" y="1943280"/>
            <a:ext cx="803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их насекомых, земноводных, пресмыкающихся, птиц, млекопитающих животных можно встретить на луг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438120" y="3808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Насекомы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бабочки, кузнечики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жуки,  муравьи, кобылки, медведк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Земноводны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жаб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Пресмыкающиеся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ящериц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Птицы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трясогузка, перепел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ростель, канюк, пустельга, лунь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Млекопитающи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мыши, полёвки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ро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2076480"/>
            <a:ext cx="84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на полях, где много сорняков, всегда плохой урожай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66720" y="2019240"/>
            <a:ext cx="811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звитая корневая система сорняков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забирает у культурных растений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у и питательные минеральны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оли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57160" y="1790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Чем поле отличается от луг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8"/>
          <p:cNvSpPr/>
          <p:nvPr/>
        </p:nvSpPr>
        <p:spPr>
          <a:xfrm>
            <a:off x="266760" y="1295280"/>
            <a:ext cx="83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ле – это природное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сообщество, которое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искусственно создано человеком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ля культурных растени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Rectangle 1034"/>
          <p:cNvSpPr/>
          <p:nvPr/>
        </p:nvSpPr>
        <p:spPr>
          <a:xfrm>
            <a:off x="3809520" y="3056040"/>
            <a:ext cx="33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, где прежде рос горох, отлично живётся другим растения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52600" y="723960"/>
            <a:ext cx="8076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орни гороха усеяны крохотными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лубеньками, в которых трудятся почвенны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бактерии. Они извлекают из воздуха азот и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накапливают его в клубеньках. Растения н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умеют сами добывать азот, а корни бобовых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насыщают почву азотными удобрениями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Зависит ли жизнь хищных птиц от растений поля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43080" y="0"/>
            <a:ext cx="83818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Да, потому что хищные птицы питаются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растительноядными животными. Если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плохой урожай растений на полях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меньше пищи растительноядным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животным, они будут умирать, а  значит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меньше пищи и хищникам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19000" y="1866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и как полеводы борются с сорными растениями на поля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28560" y="15238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леводы проводят прополку на полях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и удаляют сорные растения, так как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ни наносят вред культурным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растениям.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й водоё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зовите естественные и искусственные пресные водоём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67120" y="571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495360" y="704880"/>
            <a:ext cx="821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Естественные водоёмы – река, озеро, ручей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Искусственные водоёмы – пруд, канал, водохранилище</a:t>
            </a: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й водоё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в подводные органы растений поступает кислород, необходимый для дыхания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95360" y="57168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В корнях и листьях водных растений имеются воздухоносные каналы. Если сорвать цветок, через место разрыва в растение начинает проникать вода. Это приводит к загниванию подводной части и в конечном счёте к гибели растения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7640" y="1847880"/>
            <a:ext cx="78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то в реке без головы живёт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риродные со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200240"/>
          <a:ext cx="8400960" cy="428292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040"/>
                <a:gridCol w="1400400"/>
                <a:gridCol w="1400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г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сный водоём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ото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47680" y="10098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Это моллюски беззубки и перловицы. У них нет головы, но есть ног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43040" y="196200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то живёт в капле речной воды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57200" y="285840"/>
            <a:ext cx="8020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 капле воды живут –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амёб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очень медлительное существо, которое медленно переливается внутри капли),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инфузория-туфельк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которая ловко управляет ресничками, покрывающими её тело и быстро плывёт куда ей надо),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трубачи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самые красивые обитатели капли, похожие на цветки вьюнков) и хищник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дидиний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быстрый, подвижный, целиком заглатывающий туфельку)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09480" y="1962000"/>
            <a:ext cx="81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водомерки не тонут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52600" y="324000"/>
            <a:ext cx="779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х длинные ножки снизу покрыты жиром, поэтому вода их и держи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955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происходит образование торфа на болота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62"/>
          <p:cNvSpPr/>
          <p:nvPr/>
        </p:nvSpPr>
        <p:spPr>
          <a:xfrm>
            <a:off x="457200" y="266760"/>
            <a:ext cx="83059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ижние части мха сфагнум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ходящиеся  в торфяной жиж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степенно отмирают. Отмерши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части превращаются в торф.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лщина торфа может достигать 3-4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етров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33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ие растения и почему превратились в растения-хищников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33520" y="241200"/>
            <a:ext cx="8172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Росянка и пузырчатка – растения-хищники. Их листочки покрыты красными волосками с капельками клейкого сока. Яркая окраска привлекает насекомых, но садясь на растение насекомое приклеивается к нему. Листок сжимается, а его волоски высасывают из насекомого все соки. А всё потому что на болотистых почвах не хватает питательных веществ для растений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33480" y="2228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ткуда берутся болот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деревья преобладают в тайге, в смешанном лесе, в лиственном лес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9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80880" y="66024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месте озер, лесных речушек или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дземных ключей,  которые  н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ротяжении многих лет зарастали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авами и мхами,  образовываются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опилки воды – болота. Дно у болот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пкое, образовано из переплетений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теблей, листьев и трав – засосёт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любого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Rectangle 1035">
            <a:hlinkClick r:id="rId3" action="ppaction://hlinksldjump"/>
          </p:cNvPr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177156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то ревёт и хохочет на болоте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009800" y="895320"/>
            <a:ext cx="78102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о удивительные птицы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евёт на болоте по ночам – выпь – скромная незаметная птица с очень громким голосом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Хохочет с наступлением темноты  ночной разбойник – фили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71640" y="1943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ие реки вытекают из болот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123920" y="1504800"/>
            <a:ext cx="62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ека Васюган, Волга, Москва-река, Днепр – вытекают из боло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5960" y="819000"/>
            <a:ext cx="839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Тайг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– хвойные деревья: ель, пихта, сосна,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лиственница, редко – берёза, осина, ольха.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Смешанный лес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– хвойные и лиственные деревья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Лиственный лес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– лиственные деревья,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стречаются сосны, ели, лиственницы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5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колько ярусов в смешанном лесу? Назовите каждый ярус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43080" y="247680"/>
            <a:ext cx="85341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 смешанном лесу 5 ярусов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1 ярус – высокорослые деревья: сосна, берёза, лиственниц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2 ярус – низкорослые деревья: ели, пихты, кедры, лип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3 ярус – кустарники: можжевельник, калина, шиповник, смородин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4 ярус – травы, мхи и лишайники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5 ярус – почва – в ней прячутся корни зелёных обитателей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2286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растения нельзя отнести ни к какому ярус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3-10T19:55:53Z</dcterms:modified>
  <cp:revision>119</cp:revision>
  <dc:subject/>
  <dc:title>Презентация PowerPoint</dc:title>
</cp:coreProperties>
</file>