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639-2460-4045-9C98-DEC41F54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A7F-F933-4A5C-9E1F-14FACAE2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BAE-C718-41F1-B138-848E8DBD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AA4-0D89-49CB-B98F-E7CE4171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03C-34C0-48C5-A44F-1D53C57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11-201C-4D8F-A851-8A0B2B0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ED3-DFA9-41CE-B0E9-3D251DF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5C5-8BFF-426D-8771-37F9A3D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BA9-41BB-4B93-90C7-A4565BA6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AB2-2F69-491B-A3F7-D060749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21A-1D43-44D5-87EC-9037A80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662-EAF8-4DD0-BE8B-AEB112E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4F4B-8FC2-408F-8ABB-737690BA8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7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8.xml"/><Relationship Id="rId13" Type="http://schemas.openxmlformats.org/officeDocument/2006/relationships/slide" Target="slide59.xml"/><Relationship Id="rId14" Type="http://schemas.openxmlformats.org/officeDocument/2006/relationships/slide" Target="slide31.xml"/><Relationship Id="rId15" Type="http://schemas.openxmlformats.org/officeDocument/2006/relationships/slide" Target="slide60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6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8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581120"/>
            <a:ext cx="444816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857160" y="155412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ет, так как снег – это вода в твёрдом состоянии, а кипит вода только в жидком состоянии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95320" y="24192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Есть ли на материке Антарктида, где температура круглый год ниже 0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 вода в газообразном состояни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971640" y="819000"/>
            <a:ext cx="786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ff"/>
                </a:solidFill>
                <a:latin typeface="Times New Roman"/>
              </a:rPr>
              <a:t>Да, снег и лёд испаряются при любой температуре и переходят в газообразное состояние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81200" y="2247840"/>
            <a:ext cx="7600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«СВОЯ ИГРА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плывущие в тёплых водах океанов ледяные горы-айсберги бывают окутаны плотным туман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90720" y="628560"/>
            <a:ext cx="689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воздухе постоянно имеется водяной пар. Водяной пар более тёплого воздуха сгущается над холодной поверхностью айсбергов и превращаются в скопление мельчайших капелек – тум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81200" y="2286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воду хранят в вёдрах, банках, бочках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085760" y="361800"/>
            <a:ext cx="77155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Вода, как и все жидкости, не имеет своей формы и принимает форму сосуда, в который налита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бутылка с водой на морозе лопается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5800" y="757080"/>
            <a:ext cx="750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и замерзании вода расширяется, занимает больше места, чем в жидком виде, и разрывает бутылку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04880" y="2533680"/>
            <a:ext cx="7620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местах, где на глубине залегает каменная соль, иногда случаются провалы, в результате которых образуются пустоты, пещеры. Почему это происходит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1066680" y="137160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проникает вглубь земли, растворяет каменную соль и уносит её частицы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19040" y="2171880"/>
            <a:ext cx="813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– хороший растворитель. Почему же речная вода бывает мутной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19000" y="1181160"/>
            <a:ext cx="786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тому что вода из глубин земли вымывает не только растворимые, но и нерастворимые вещества, которые и делают её поток мутны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47640" y="1943280"/>
            <a:ext cx="8039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стакан с водой всыпали чайную ложку сахара и чайную ложку лимонной кислоты. Можно ли фильтрованием разделить эти веществ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552600" y="140976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Нет, и сахар, и лимонная кислота растворяются в воде, и вместе с ней проходят через фильтр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9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2076480"/>
            <a:ext cx="842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каком свойстве воздуха основан принцип действия тормозов у автомобилей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57480" y="201924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а способности воздуха сжиматься и быть упруги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606600" y="419040"/>
            <a:ext cx="74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руговорот воды в природ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14960" y="2666880"/>
            <a:ext cx="714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уда попадает вода, упавшая на Землю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 виде осадков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27032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Text Box 1028"/>
          <p:cNvSpPr/>
          <p:nvPr/>
        </p:nvSpPr>
        <p:spPr>
          <a:xfrm>
            <a:off x="933480" y="142884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Часть воды попадает в моря, океаны, другие водоёмы, часть уходит в почву, часть поглощается растениями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ень и ночь вода из ручьёв течёт в реки, а реки несут её в моря. Почему моря не переполняются водой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90640" y="971640"/>
            <a:ext cx="535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тому что вода постоянно испаряется с поверхности водоёмов в воздух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ую роль в круговороте воды играют зелёные растения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523880"/>
            <a:ext cx="8381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ни поглощают воду из почвы и испаряют её через листья в атмосферу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333600" y="324000"/>
            <a:ext cx="2286000" cy="876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19000" y="186696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туман при нагревании земной поверхности исчезает, а облака нет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66720" y="28584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гда земная поверхность нагревается, от неё нагревается воздух. Туман образуется близко к поверхности Земли. Около земной поверхности воздух нагревается быстрее – мельчайшие капельки воды (туман) испаряются. Высоко над землёй температура воздуха понижается. Водяной пар превращается в капельки воды, из которых образуются облак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8120160" y="13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 каком виде выпадают осадки в местах, где температура воздуха не поднимается выше 0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886040" y="1295280"/>
            <a:ext cx="57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 твёрдом виде – снег, иней, изморозь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праведливо ли утверждение: туман – скопление в воздухе водяного пар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3814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Нет, туман – это скопление в воздухе мельчайших капелек воды, в  которые превратился водяной пар в холодном воздухе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47640" y="1847880"/>
            <a:ext cx="786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при сильном морозе над незамерзающими местами реки клубится туман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иний раун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036800"/>
          <a:ext cx="8400960" cy="437508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400"/>
                <a:gridCol w="1400040"/>
                <a:gridCol w="140004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и состояния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ойства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уговорот воды в природ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47680" y="100980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над незамерзающими местами реки испаряется в воздух, он насыщается водяным паром. В холодном воздухе при сильном морозе водяной пар превращается в тум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7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садки 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43040" y="19620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 какой стороны будут замерзать хорошо заклеенные оконные стёкла: с внутренней или наружной? Почем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52600" y="838080"/>
            <a:ext cx="802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 внутренней. Влажный теплый воздух комнаты при соприкосновении с холодным оконным стеклом охлаждается. Водяные пары превращаются в капельки воды. А потом замерзаю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09480" y="1962000"/>
            <a:ext cx="811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Если в морозное время открыть двери из тёплого помещения в холодный коридор, образуется туман в комнате у порога и в коридоре у верхнего косяка входной двери. Почем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52600" y="324000"/>
            <a:ext cx="779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Теплый воздух комнаты, содержащий много водяного пара, соприкасается с холодным воздухом, поступающим из коридора. Водяной пар превращается в мельчайшие капельки воды. Так как холодный воздух тяжёлый, он движется из коридора в комнату у порога, а тёплый воздух выходит в холодный коридор вверху у косяка двери. И в этих местах образуется туман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14400" y="20955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необходимо бережно использовать пресную вод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Text Box 1061"/>
          <p:cNvSpPr/>
          <p:nvPr/>
        </p:nvSpPr>
        <p:spPr>
          <a:xfrm>
            <a:off x="628560" y="13716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Запасы пресной воды на Земле невелики, а потребление из года в год растё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21337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способ получения пресной воды из морской не получил широкого применения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1219320" y="647640"/>
            <a:ext cx="68007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н очень дорогостоящий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33480" y="22287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озможно ли такое: воды одного океана сильно загрязнены, а другой океан остаётся чисты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лёд во время ледохода плывёт по поверхности воды, а не тонет в ней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1685880" y="1974960"/>
            <a:ext cx="592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ет, потому что все океаны Земли сообщаются между собой и объединяются в единый Мировой оке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2" name="Rectangle 1035">
            <a:hlinkClick r:id="rId3" action="ppaction://hlinksldjump"/>
          </p:cNvPr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57160" y="2419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Что надо делать, чтобы вода в реках была чистой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009800" y="895320"/>
            <a:ext cx="62863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Сточные воды от заводов, ферм пропускают через очистные сооружения. Строятся такие предприятия, на которых вообще не бывает сточных вод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971640" y="19432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берегу реки в походе школьники на привале отдохнули, пообедали. На траве лежат остатки пищи, бумаги, консервные банки. Одни предлагают выбросить всё это в реку. Другие – оставить на берегу. Какое решение приняли бы вы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123920" y="1504800"/>
            <a:ext cx="716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статки пищи можно закопать, бумагу сжечь, консервные банки забрать с собой, чтобы выбросить в специальные мусорные ящики. Оставлять на берегу реки это нельзя, чтобы не загрязнять водоём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7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450800" y="2286000"/>
            <a:ext cx="58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Лёд легче воды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6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ожет ли быть температура льда и снега выше 0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27620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ет, вода при этой температуре переходит в жидкое состояние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286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ожно ли вскипятить снег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2-28T20:28:46Z</dcterms:modified>
  <cp:revision>112</cp:revision>
  <dc:subject/>
  <dc:title>Презентация PowerPoint</dc:title>
</cp:coreProperties>
</file>