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6.jpeg" ContentType="image/jpeg"/>
  <Override PartName="/ppt/media/explode.wav" ContentType="audio/x-wav"/>
  <Override PartName="/ppt/media/image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ricochet.wav" ContentType="audio/x-wav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cashreg.wav" ContentType="audio/x-wav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DAB-B3CB-4571-A010-D23AB373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1C0-D8EC-4ABF-BE9E-3C62AC8C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C91-7EE3-47E4-AB0D-D2442620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BD1-798D-48D0-B27C-C05AAEAF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817-483D-4196-B5E1-00FB927D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1CF-E47F-4B0B-9E81-2CEFBCD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C708-98C2-4813-87AC-6EFF4B1E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EE7-A6E6-4B48-BA6F-88A7FCFA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593-A2CD-44BC-92DB-7922011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9CC-9FD8-415F-9676-E14A9DE5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0D7-D446-4D4D-9AEC-55D299B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B6C-DE5D-4802-BF2D-6FE6DA62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ff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98FD-49C3-4E1F-AAFD-945A3C45CB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61.xml"/><Relationship Id="rId4" Type="http://schemas.openxmlformats.org/officeDocument/2006/relationships/slide" Target="slide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22.jpeg"/><Relationship Id="rId21" Type="http://schemas.openxmlformats.org/officeDocument/2006/relationships/image" Target="../media/image23.jpeg"/><Relationship Id="rId2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57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58.xml"/><Relationship Id="rId13" Type="http://schemas.openxmlformats.org/officeDocument/2006/relationships/slide" Target="slide59.xml"/><Relationship Id="rId14" Type="http://schemas.openxmlformats.org/officeDocument/2006/relationships/slide" Target="slide31.xml"/><Relationship Id="rId15" Type="http://schemas.openxmlformats.org/officeDocument/2006/relationships/slide" Target="slide60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6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58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61.xml"/><Relationship Id="rId27" Type="http://schemas.openxmlformats.org/officeDocument/2006/relationships/slide" Target="slide61.xml"/><Relationship Id="rId2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explod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1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856520" y="2610000"/>
            <a:ext cx="616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Окружающий мир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146400" y="4476600"/>
            <a:ext cx="296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66ffff"/>
                </a:solidFill>
                <a:latin typeface="Times New Roman"/>
              </a:rPr>
              <a:t>КЛАСС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172040" y="323856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44" name="Fausto Papetti-Spely Shores.MP3" descr=""/>
          <p:cNvPicPr/>
          <p:nvPr/>
        </p:nvPicPr>
        <p:blipFill>
          <a:blip r:embed="rId1"/>
          <a:stretch/>
        </p:blipFill>
        <p:spPr>
          <a:xfrm>
            <a:off x="0" y="33717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2357280" y="1581120"/>
            <a:ext cx="444816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А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5619600" y="5276880"/>
            <a:ext cx="329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Литвиненко Татьяна Анатольевна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ОУ ТЭЛ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г. Новороссийск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228600"/>
            <a:ext cx="49528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3" name="Rectangle 9">
            <a:hlinkClick r:id="rId3" action="ppaction://hlinksldjump"/>
          </p:cNvPr>
          <p:cNvSpPr/>
          <p:nvPr/>
        </p:nvSpPr>
        <p:spPr>
          <a:xfrm>
            <a:off x="1276200" y="6515280"/>
            <a:ext cx="6477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857160" y="1554120"/>
            <a:ext cx="74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ет, так как снег – это вода в твёрдом состоянии, а кипит вода только в жидком состоянии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95320" y="24192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Есть ли на материке Антарктида, где температура круглый год ниже 0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 вода в газообразном состоянии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06260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308160" y="5519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659720" y="59389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0" name="Rectangle 9">
            <a:hlinkClick r:id="rId3" action="ppaction://hlinksldjump"/>
          </p:cNvPr>
          <p:cNvSpPr/>
          <p:nvPr/>
        </p:nvSpPr>
        <p:spPr>
          <a:xfrm>
            <a:off x="1257480" y="6515280"/>
            <a:ext cx="647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5541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971640" y="819000"/>
            <a:ext cx="786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ff"/>
                </a:solidFill>
                <a:latin typeface="Times New Roman"/>
              </a:rPr>
              <a:t>Да, снег и лёд испаряются при любой температуре и переходят в газообразное состояние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81200" y="2247840"/>
            <a:ext cx="7600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«СВОЯ ИГРА»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Почему плывущие в тёплых водах океанов ледяные горы-айсберги бывают окутаны плотным туманом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5560" y="597096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3240" y="63388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8" name="Rectangle 8">
            <a:hlinkClick r:id="rId3" action="ppaction://hlinksldjump"/>
          </p:cNvPr>
          <p:cNvSpPr/>
          <p:nvPr/>
        </p:nvSpPr>
        <p:spPr>
          <a:xfrm>
            <a:off x="380880" y="5638680"/>
            <a:ext cx="6400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90720" y="628560"/>
            <a:ext cx="689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воздухе постоянно имеется водяной пар. Водяной пар более тёплого воздуха сгущается над холодной поверхностью айсбергов и превращаются в скопление мельчайших капелек – тума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81200" y="22860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воду хранят в вёдрах, банках, бочках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774960" y="57326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7240" y="55767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28600"/>
            <a:ext cx="4896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0"/>
            <a:ext cx="914400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7" name="Rectangle 8">
            <a:hlinkClick r:id="rId3" action="ppaction://hlinksldjump"/>
          </p:cNvPr>
          <p:cNvSpPr/>
          <p:nvPr/>
        </p:nvSpPr>
        <p:spPr>
          <a:xfrm>
            <a:off x="1276200" y="6515280"/>
            <a:ext cx="6458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698480" y="4280040"/>
            <a:ext cx="60706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085760" y="361800"/>
            <a:ext cx="771552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Вода, как и все жидкости, не имеет своей формы и принимает форму сосуда, в который налита.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962000"/>
            <a:ext cx="836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чему бутылка с водой на морозе лопается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79404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" y="54626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14400" y="2019240"/>
            <a:ext cx="70102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6" name="Rectangle 6">
            <a:hlinkClick r:id="rId3" action="ppaction://hlinksldjump"/>
          </p:cNvPr>
          <p:cNvSpPr/>
          <p:nvPr/>
        </p:nvSpPr>
        <p:spPr>
          <a:xfrm>
            <a:off x="129528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85800" y="757080"/>
            <a:ext cx="750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ри замерзании вода расширяется, занимает больше места, чем в жидком виде, и разрывает бутылку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04880" y="2533680"/>
            <a:ext cx="7620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местах, где на глубине залегает каменная соль, иногда случаются провалы, в результате которых образуются пустоты, пещеры. Почему это происходит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75588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ff"/>
                </a:solidFill>
                <a:latin typeface="Times New Roman"/>
              </a:rPr>
              <a:t>Данный урок проводится по типу телевизионной передачи…</a:t>
            </a:r>
            <a:endParaRPr b="0" lang="en-US" sz="6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3240" y="5938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2" name="Text Box 1027"/>
          <p:cNvSpPr/>
          <p:nvPr/>
        </p:nvSpPr>
        <p:spPr>
          <a:xfrm>
            <a:off x="7659720" y="59580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3" name="Text Box 1028"/>
          <p:cNvSpPr/>
          <p:nvPr/>
        </p:nvSpPr>
        <p:spPr>
          <a:xfrm>
            <a:off x="1066680" y="1371600"/>
            <a:ext cx="714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а проникает вглубь земли, растворяет каменную соль и уносит её частицы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4" name="Rectangle 1030">
            <a:hlinkClick r:id="rId3" action="ppaction://hlinksldjump"/>
          </p:cNvPr>
          <p:cNvSpPr/>
          <p:nvPr/>
        </p:nvSpPr>
        <p:spPr>
          <a:xfrm>
            <a:off x="1276200" y="6477120"/>
            <a:ext cx="6458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19040" y="2171880"/>
            <a:ext cx="8134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а – хороший растворитель. Почему же речная вода бывает мутной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696480" y="54435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240" y="55008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23920" y="19242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819000" y="1181160"/>
            <a:ext cx="786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тому что вода из глубин земли вымывает не только растворимые, но и нерастворимые вещества, которые и делают её поток мутным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войства воды</a:t>
            </a:r>
            <a:br>
              <a:rPr sz="48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55880" y="55990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00240" y="3086280"/>
            <a:ext cx="712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47640" y="1943280"/>
            <a:ext cx="8039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 стакан с водой всыпали чайную ложку сахара и чайную ложку лимонной кислоты. Можно ли фильтрованием разделить эти вещества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026"/>
          <p:cNvSpPr/>
          <p:nvPr/>
        </p:nvSpPr>
        <p:spPr>
          <a:xfrm>
            <a:off x="324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7" name="Text Box 1027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552600" y="140976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Нет, и сахар, и лимонная кислота растворяются в воде, и вместе с ней проходят через фильтр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49" name="Rectangle 1030">
            <a:hlinkClick r:id="rId3" action="ppaction://hlinksldjump"/>
          </p:cNvPr>
          <p:cNvSpPr/>
          <p:nvPr/>
        </p:nvSpPr>
        <p:spPr>
          <a:xfrm>
            <a:off x="1314360" y="6477120"/>
            <a:ext cx="6400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2076480"/>
            <a:ext cx="842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каком свойстве воздуха основан принцип действия тормозов у автомобилей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774960" y="6132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346320" y="56340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57480" y="2019240"/>
            <a:ext cx="701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а способности воздуха сжиматься и быть упругим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6" name="Rectangle 10">
            <a:hlinkClick r:id="rId3" action="ppaction://hlinksldjump"/>
          </p:cNvPr>
          <p:cNvSpPr/>
          <p:nvPr/>
        </p:nvSpPr>
        <p:spPr>
          <a:xfrm>
            <a:off x="1276200" y="6496200"/>
            <a:ext cx="6438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606600" y="419040"/>
            <a:ext cx="742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руговорот воды в природе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200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714960" y="2666880"/>
            <a:ext cx="714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Куда попадает вода, упавшая на Землю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 виде осадков?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27032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26"/>
          <p:cNvSpPr/>
          <p:nvPr/>
        </p:nvSpPr>
        <p:spPr>
          <a:xfrm>
            <a:off x="250920" y="54054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1" name="Text Box 1027">
            <a:hlinkClick r:id="rId2" action="ppaction://hlinksldjump"/>
          </p:cNvPr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3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2" name="Text Box 1028"/>
          <p:cNvSpPr/>
          <p:nvPr/>
        </p:nvSpPr>
        <p:spPr>
          <a:xfrm>
            <a:off x="933480" y="1428840"/>
            <a:ext cx="7010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Часть воды попадает в моря, океаны, другие водоёмы, часть уходит в почву, часть поглощается растениями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3" name="Rectangle 1030">
            <a:hlinkClick r:id="rId4" action="ppaction://hlinksldjump"/>
          </p:cNvPr>
          <p:cNvSpPr/>
          <p:nvPr/>
        </p:nvSpPr>
        <p:spPr>
          <a:xfrm>
            <a:off x="1295280" y="6458040"/>
            <a:ext cx="6419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4" name="Line 1031"/>
          <p:cNvSpPr/>
          <p:nvPr/>
        </p:nvSpPr>
        <p:spPr>
          <a:xfrm>
            <a:off x="4172040" y="2876400"/>
            <a:ext cx="0" cy="51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552600" y="18478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День и ночь вода из ручьёв течёт в реки, а реки несут её в моря. Почему моря не переполняются водой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55880" y="56372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0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5" descr="10"/>
          <p:cNvPicPr/>
          <p:nvPr/>
        </p:nvPicPr>
        <p:blipFill>
          <a:blip r:embed="rId2"/>
          <a:stretch/>
        </p:blipFill>
        <p:spPr>
          <a:xfrm>
            <a:off x="0" y="0"/>
            <a:ext cx="306720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6" descr="11"/>
          <p:cNvPicPr/>
          <p:nvPr/>
        </p:nvPicPr>
        <p:blipFill>
          <a:blip r:embed="rId3"/>
          <a:stretch/>
        </p:blipFill>
        <p:spPr>
          <a:xfrm>
            <a:off x="6039000" y="0"/>
            <a:ext cx="3105000" cy="232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12"/>
          <p:cNvPicPr/>
          <p:nvPr/>
        </p:nvPicPr>
        <p:blipFill>
          <a:blip r:embed="rId4"/>
          <a:stretch/>
        </p:blipFill>
        <p:spPr>
          <a:xfrm>
            <a:off x="0" y="4933800"/>
            <a:ext cx="3022560" cy="2267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8" descr="13"/>
          <p:cNvPicPr/>
          <p:nvPr/>
        </p:nvPicPr>
        <p:blipFill>
          <a:blip r:embed="rId5"/>
          <a:stretch/>
        </p:blipFill>
        <p:spPr>
          <a:xfrm>
            <a:off x="6191280" y="49100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15"/>
          <p:cNvPicPr/>
          <p:nvPr/>
        </p:nvPicPr>
        <p:blipFill>
          <a:blip r:embed="rId6"/>
          <a:stretch/>
        </p:blipFill>
        <p:spPr>
          <a:xfrm>
            <a:off x="2857680" y="0"/>
            <a:ext cx="365760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1" descr="16"/>
          <p:cNvPicPr/>
          <p:nvPr/>
        </p:nvPicPr>
        <p:blipFill>
          <a:blip r:embed="rId7"/>
          <a:stretch/>
        </p:blipFill>
        <p:spPr>
          <a:xfrm>
            <a:off x="3009960" y="4991040"/>
            <a:ext cx="3162240" cy="2171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2" descr="32"/>
          <p:cNvPicPr/>
          <p:nvPr/>
        </p:nvPicPr>
        <p:blipFill>
          <a:blip r:embed="rId8"/>
          <a:stretch/>
        </p:blipFill>
        <p:spPr>
          <a:xfrm>
            <a:off x="0" y="2438280"/>
            <a:ext cx="2897280" cy="245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3" descr="36"/>
          <p:cNvPicPr/>
          <p:nvPr/>
        </p:nvPicPr>
        <p:blipFill>
          <a:blip r:embed="rId9"/>
          <a:stretch/>
        </p:blipFill>
        <p:spPr>
          <a:xfrm>
            <a:off x="2876400" y="2228760"/>
            <a:ext cx="3670560" cy="2739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4" descr="30"/>
          <p:cNvPicPr/>
          <p:nvPr/>
        </p:nvPicPr>
        <p:blipFill>
          <a:blip r:embed="rId10"/>
          <a:stretch/>
        </p:blipFill>
        <p:spPr>
          <a:xfrm>
            <a:off x="6419880" y="2422440"/>
            <a:ext cx="2724120" cy="245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8" descr="43"/>
          <p:cNvPicPr/>
          <p:nvPr/>
        </p:nvPicPr>
        <p:blipFill>
          <a:blip r:embed="rId11"/>
          <a:stretch/>
        </p:blipFill>
        <p:spPr>
          <a:xfrm>
            <a:off x="2590920" y="2185920"/>
            <a:ext cx="4071960" cy="301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9" descr="39"/>
          <p:cNvPicPr/>
          <p:nvPr/>
        </p:nvPicPr>
        <p:blipFill>
          <a:blip r:embed="rId12"/>
          <a:stretch/>
        </p:blipFill>
        <p:spPr>
          <a:xfrm>
            <a:off x="0" y="0"/>
            <a:ext cx="2987640" cy="235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0" descr="31"/>
          <p:cNvPicPr/>
          <p:nvPr/>
        </p:nvPicPr>
        <p:blipFill>
          <a:blip r:embed="rId13"/>
          <a:stretch/>
        </p:blipFill>
        <p:spPr>
          <a:xfrm>
            <a:off x="6259680" y="4917960"/>
            <a:ext cx="2884320" cy="226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1" descr="26"/>
          <p:cNvPicPr/>
          <p:nvPr/>
        </p:nvPicPr>
        <p:blipFill>
          <a:blip r:embed="rId14"/>
          <a:stretch/>
        </p:blipFill>
        <p:spPr>
          <a:xfrm>
            <a:off x="6400800" y="0"/>
            <a:ext cx="2743200" cy="228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2" descr="35"/>
          <p:cNvPicPr/>
          <p:nvPr/>
        </p:nvPicPr>
        <p:blipFill>
          <a:blip r:embed="rId15"/>
          <a:stretch/>
        </p:blipFill>
        <p:spPr>
          <a:xfrm>
            <a:off x="0" y="4943520"/>
            <a:ext cx="3100320" cy="22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3" descr="04"/>
          <p:cNvPicPr/>
          <p:nvPr/>
        </p:nvPicPr>
        <p:blipFill>
          <a:blip r:embed="rId16"/>
          <a:stretch/>
        </p:blipFill>
        <p:spPr>
          <a:xfrm>
            <a:off x="0" y="0"/>
            <a:ext cx="4603680" cy="3714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4" descr="25"/>
          <p:cNvPicPr/>
          <p:nvPr/>
        </p:nvPicPr>
        <p:blipFill>
          <a:blip r:embed="rId17"/>
          <a:stretch/>
        </p:blipFill>
        <p:spPr>
          <a:xfrm>
            <a:off x="4508640" y="3753000"/>
            <a:ext cx="4635360" cy="3390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5" descr="28"/>
          <p:cNvPicPr/>
          <p:nvPr/>
        </p:nvPicPr>
        <p:blipFill>
          <a:blip r:embed="rId18"/>
          <a:stretch/>
        </p:blipFill>
        <p:spPr>
          <a:xfrm>
            <a:off x="4564080" y="0"/>
            <a:ext cx="4579920" cy="374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6" descr="44"/>
          <p:cNvPicPr/>
          <p:nvPr/>
        </p:nvPicPr>
        <p:blipFill>
          <a:blip r:embed="rId19"/>
          <a:stretch/>
        </p:blipFill>
        <p:spPr>
          <a:xfrm>
            <a:off x="0" y="3714840"/>
            <a:ext cx="4551480" cy="352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7" descr="18"/>
          <p:cNvPicPr/>
          <p:nvPr/>
        </p:nvPicPr>
        <p:blipFill>
          <a:blip r:embed="rId20"/>
          <a:stretch/>
        </p:blipFill>
        <p:spPr>
          <a:xfrm>
            <a:off x="2381400" y="1854360"/>
            <a:ext cx="4082760" cy="311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8" descr="своя игра загл"/>
          <p:cNvPicPr/>
          <p:nvPr/>
        </p:nvPicPr>
        <p:blipFill>
          <a:blip r:embed="rId2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50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2500"/>
                            </p:stCondLst>
                            <p:childTnLst>
                              <p:par>
                                <p:cTn id="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97720" y="54720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470360" y="59292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0" name="Rectangle 7">
            <a:hlinkClick r:id="rId3" action="ppaction://hlinksldjump"/>
          </p:cNvPr>
          <p:cNvSpPr/>
          <p:nvPr/>
        </p:nvSpPr>
        <p:spPr>
          <a:xfrm>
            <a:off x="1352520" y="6438960"/>
            <a:ext cx="6305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790640" y="971640"/>
            <a:ext cx="5353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тому что вода постоянно испаряется с поверхности водоёмов в воздух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717720" y="58276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685800" y="2857680"/>
            <a:ext cx="7943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120" y="238140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Какую роль в круговороте воды играют зелёные растения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240" y="5538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412040" y="605304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57200" y="1523880"/>
            <a:ext cx="8381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Они поглощают воду из почвы и испаряют её через листья в атмосферу.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333600" y="324000"/>
            <a:ext cx="2286000" cy="876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уговорот воды в природе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19000" y="186696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туман при нагревании земной поверхности исчезает, а облака нет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794040" y="550404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240" y="55958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659720" y="6338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66720" y="28584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Когда земная поверхность нагревается, от неё нагревается воздух. Туман образуется близко к поверхности Земли. Около земной поверхности воздух нагревается быстрее – мельчайшие капельки воды (туман) испаряются. Высоко над землёй температура воздуха понижается. Водяной пар превращается в капельки воды, из которых образуются облака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6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8120160" y="135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1440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 каком виде выпадают осадки в местах, где температура воздуха не поднимается выше 0</a:t>
            </a: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755880" y="565632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40" y="5348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3" name="Rectangle 6">
            <a:hlinkClick r:id="rId3" action="ppaction://hlinksldjump"/>
          </p:cNvPr>
          <p:cNvSpPr/>
          <p:nvPr/>
        </p:nvSpPr>
        <p:spPr>
          <a:xfrm>
            <a:off x="1333440" y="6458040"/>
            <a:ext cx="6362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886040" y="1295280"/>
            <a:ext cx="575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В твёрдом виде – снег, иней, изморозь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91440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праведливо ли утверждение: туман – скопление в воздухе водяного пара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774960" y="57513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240" y="52149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59720" y="60148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33520" y="238140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Нет, туман – это скопление в воздухе мельчайших капелек воды, в  которые превратился водяной пар в холодном воздухе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47640" y="1847880"/>
            <a:ext cx="786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ff"/>
                </a:solidFill>
                <a:latin typeface="Times New Roman"/>
              </a:rPr>
              <a:t>Почему при сильном морозе над незамерзающими местами реки клубится туман?</a:t>
            </a:r>
            <a:endParaRPr b="0" lang="en-US" sz="4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832200" y="569448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7268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иний раун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036800"/>
          <a:ext cx="8400960" cy="4375080"/>
        </p:xfrm>
        <a:graphic>
          <a:graphicData uri="http://schemas.openxmlformats.org/drawingml/2006/table">
            <a:tbl>
              <a:tblPr/>
              <a:tblGrid>
                <a:gridCol w="1504800"/>
                <a:gridCol w="1295640"/>
                <a:gridCol w="1400040"/>
                <a:gridCol w="1400400"/>
                <a:gridCol w="1400040"/>
                <a:gridCol w="1400040"/>
              </a:tblGrid>
              <a:tr h="98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и состояния воды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ойства воды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уговорот воды в природе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адки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храна воды</a:t>
                      </a:r>
                      <a:endParaRPr b="0" lang="en-US" sz="18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2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3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3200" spc="-1" strike="noStrike">
                        <a:solidFill>
                          <a:srgbClr val="66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25">
            <a:hlinkClick r:id="rId26" action="ppaction://hlinksldjump"/>
          </p:cNvPr>
          <p:cNvSpPr/>
          <p:nvPr/>
        </p:nvSpPr>
        <p:spPr>
          <a:xfrm>
            <a:off x="3700080" y="627840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hlinkClick r:id="rId27" action="ppaction://hlinksldjump"/>
              </a:rPr>
              <a:t>ВЫХОД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5500800"/>
            <a:ext cx="13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47680" y="100980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ода над незамерзающими местами реки испаряется в воздух, он насыщается водяным паром. В холодном воздухе при сильном морозе водяной пар превращается в тума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07" name="Rectangle 6">
            <a:hlinkClick r:id="rId3" action="ppaction://hlinksldjump"/>
          </p:cNvPr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Осадки </a:t>
            </a:r>
            <a:br>
              <a:rPr sz="48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43040" y="196200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 какой стороны будут замерзать хорошо заклеенные оконные стёкла: с внутренней или наружной? Почем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658320" y="542448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31840" y="5291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59720" y="59770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3" name="Rectangle 6">
            <a:hlinkClick r:id="rId3" action="ppaction://hlinksldjump"/>
          </p:cNvPr>
          <p:cNvSpPr/>
          <p:nvPr/>
        </p:nvSpPr>
        <p:spPr>
          <a:xfrm>
            <a:off x="1257480" y="6477120"/>
            <a:ext cx="645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52600" y="838080"/>
            <a:ext cx="802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С внутренней. Влажный теплый воздух комнаты при соприкосновении с холодным оконным стеклом охлаждается. Водяные пары превращаются в капельки воды. А потом замерзают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адк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850920" y="58086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09480" y="1962000"/>
            <a:ext cx="8115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Если в морозное время открыть двери из тёплого помещения в холодный коридор, образуется туман в комнате у порога и в коридоре у верхнего косяка входной двери. Почему?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24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659720" y="588168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1" name="Rectangle 7">
            <a:hlinkClick r:id="rId3" action="ppaction://hlinksldjump"/>
          </p:cNvPr>
          <p:cNvSpPr/>
          <p:nvPr/>
        </p:nvSpPr>
        <p:spPr>
          <a:xfrm>
            <a:off x="1257480" y="6477120"/>
            <a:ext cx="64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552600" y="324000"/>
            <a:ext cx="7791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Теплый воздух комнаты, содержащий много водяного пара, соприкасается с холодным воздухом, поступающим из коридора. Водяной пар превращается в мельчайшие капельки воды. Так как холодный воздух тяжёлый, он движется из коридора в комнату у порога, а тёплый воздух выходит в холодный коридор вверху у косяка двери. И в этих местах образуется туман.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14400" y="209556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необходимо бережно использовать пресную воду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658320" y="553896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026"/>
          <p:cNvSpPr/>
          <p:nvPr/>
        </p:nvSpPr>
        <p:spPr>
          <a:xfrm>
            <a:off x="3240" y="58435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7" name="Text Box 1027"/>
          <p:cNvSpPr/>
          <p:nvPr/>
        </p:nvSpPr>
        <p:spPr>
          <a:xfrm>
            <a:off x="7659720" y="58626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28" name="Text Box 1061"/>
          <p:cNvSpPr/>
          <p:nvPr/>
        </p:nvSpPr>
        <p:spPr>
          <a:xfrm>
            <a:off x="628560" y="13716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Запасы пресной воды на Земле невелики, а потребление из года в год растёт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762120" y="213372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Почему способ получения пресной воды из морской не получил широкого применения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813120" y="56754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70000" y="54435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7659720" y="609120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577960" y="2432160"/>
            <a:ext cx="4051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1219320" y="647640"/>
            <a:ext cx="68007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Он очень дорогостоящий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933480" y="222876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Возможно ли такое: воды одного океана сильно загрязнены, а другой океан остаётся чистым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658320" y="5729400"/>
            <a:ext cx="157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371600" y="26668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Почему лёд во время ледохода плывёт по поверхности воды, а не тонет в ней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026"/>
          <p:cNvSpPr/>
          <p:nvPr/>
        </p:nvSpPr>
        <p:spPr>
          <a:xfrm>
            <a:off x="3240" y="599616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0" name="Text Box 1027"/>
          <p:cNvSpPr/>
          <p:nvPr/>
        </p:nvSpPr>
        <p:spPr>
          <a:xfrm>
            <a:off x="7659720" y="59961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1685880" y="1974960"/>
            <a:ext cx="5924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Нет, потому что все океаны Земли сообщаются между собой и объединяются в единый Мировой океан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2" name="Rectangle 1035">
            <a:hlinkClick r:id="rId3" action="ppaction://hlinksldjump"/>
          </p:cNvPr>
          <p:cNvSpPr/>
          <p:nvPr/>
        </p:nvSpPr>
        <p:spPr>
          <a:xfrm>
            <a:off x="1257480" y="6477120"/>
            <a:ext cx="6476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857160" y="24192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Что надо делать, чтобы вода в реках была чистой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079520" y="592776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240" y="536724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659720" y="603396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555480" y="946080"/>
            <a:ext cx="292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295280" y="6477120"/>
            <a:ext cx="6438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009800" y="895320"/>
            <a:ext cx="628632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Сточные воды от заводов, ферм пропускают через очистные сооружения. Строятся такие предприятия, на которых вообще не бывает сточных вод.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храна воды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971640" y="19432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На берегу реки в походе школьники на привале отдохнули, пообедали. На траве лежат остатки пищи, бумаги, консервные банки. Одни предлагают выбросить всё это в реку. Другие – оставить на берегу. Какое решение приняли бы вы?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3927240" y="5794200"/>
            <a:ext cx="134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ответ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270000" y="561492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ff"/>
                </a:solidFill>
                <a:latin typeface="Times New Roman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614000" y="58500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1276200" y="6496200"/>
            <a:ext cx="6419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1123920" y="1504800"/>
            <a:ext cx="7162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Остатки пищи можно закопать, бумагу сжечь, консервные банки забрать с собой, чтобы выбросить в специальные мусорные ящики. Оставлять на берегу реки это нельзя, чтобы не загрязнять водоём.</a:t>
            </a:r>
            <a:endParaRPr b="0" lang="en-US" sz="36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43080" y="0"/>
            <a:ext cx="88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3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9828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67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62232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1906560" y="4014720"/>
            <a:ext cx="5180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Times New Roman"/>
              </a:rPr>
              <a:t>аукцион</a:t>
            </a:r>
            <a:endParaRPr b="0" lang="en-US" sz="10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270" name="WordArt 3"/>
          <p:cNvSpPr txBox="1"/>
          <p:nvPr/>
        </p:nvSpPr>
        <p:spPr>
          <a:xfrm>
            <a:off x="1343160" y="1133640"/>
            <a:ext cx="6400800" cy="23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опрос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64104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450800" y="2286000"/>
            <a:ext cx="582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ffff"/>
                </a:solidFill>
                <a:latin typeface="Times New Roman"/>
              </a:rPr>
              <a:t>Лёд легче воды</a:t>
            </a:r>
            <a:endParaRPr b="0" lang="en-US" sz="54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440" y="567540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479000" y="6132600"/>
            <a:ext cx="152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40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78" name="Rectangle 6">
            <a:hlinkClick r:id="rId3" action="ppaction://hlinksldjump"/>
          </p:cNvPr>
          <p:cNvSpPr/>
          <p:nvPr/>
        </p:nvSpPr>
        <p:spPr>
          <a:xfrm>
            <a:off x="1428840" y="6400800"/>
            <a:ext cx="611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си3"/>
          <p:cNvPicPr/>
          <p:nvPr/>
        </p:nvPicPr>
        <p:blipFill>
          <a:blip r:embed="rId1"/>
          <a:stretch/>
        </p:blipFill>
        <p:spPr>
          <a:xfrm>
            <a:off x="457200" y="343080"/>
            <a:ext cx="8267760" cy="5743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3506400" y="625464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ВОПРОС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90880" y="304920"/>
            <a:ext cx="55627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Спасибо Вам за участие в игре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00280" y="3441600"/>
            <a:ext cx="75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Times New Roman"/>
              </a:rPr>
              <a:t>Надеюсь,  что Вам понравилось</a:t>
            </a: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66ffff"/>
              </a:solidFill>
              <a:latin typeface="Times New Roman"/>
            </a:endParaRPr>
          </a:p>
        </p:txBody>
      </p:sp>
      <p:pic>
        <p:nvPicPr>
          <p:cNvPr id="276" name="Picture 5" descr="си2"/>
          <p:cNvPicPr/>
          <p:nvPr/>
        </p:nvPicPr>
        <p:blipFill>
          <a:blip r:embed="rId1"/>
          <a:stretch/>
        </p:blipFill>
        <p:spPr>
          <a:xfrm>
            <a:off x="0" y="0"/>
            <a:ext cx="275580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762120" y="25146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Может ли быть температура льда и снега выше 0</a:t>
            </a:r>
            <a:r>
              <a:rPr b="0" lang="en-US" sz="4800" spc="-1" strike="noStrike">
                <a:solidFill>
                  <a:srgbClr val="66ffff"/>
                </a:solidFill>
                <a:latin typeface="Times New Roman"/>
              </a:rPr>
              <a:t>º</a:t>
            </a: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С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3692880" y="6059880"/>
            <a:ext cx="1577880" cy="667800"/>
          </a:xfrm>
          <a:custGeom>
            <a:avLst/>
            <a:gdLst>
              <a:gd name="textAreaLeft" fmla="*/ 43200 w 1577880"/>
              <a:gd name="textAreaRight" fmla="*/ 1534680 w 15778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51021" h="21600">
                <a:moveTo>
                  <a:pt x="0" y="0"/>
                </a:moveTo>
                <a:lnTo>
                  <a:pt x="51021" y="0"/>
                </a:lnTo>
                <a:lnTo>
                  <a:pt x="51021" y="21600"/>
                </a:lnTo>
                <a:lnTo>
                  <a:pt x="0" y="21600"/>
                </a:lnTo>
                <a:close/>
              </a:path>
              <a:path fill="lightenLess" w="51021" h="21600">
                <a:moveTo>
                  <a:pt x="0" y="0"/>
                </a:moveTo>
                <a:lnTo>
                  <a:pt x="51021" y="0"/>
                </a:lnTo>
                <a:lnTo>
                  <a:pt x="49621" y="1400"/>
                </a:lnTo>
                <a:lnTo>
                  <a:pt x="1400" y="1400"/>
                </a:lnTo>
                <a:close/>
              </a:path>
              <a:path fill="darken" w="51021" h="21600">
                <a:moveTo>
                  <a:pt x="51021" y="0"/>
                </a:moveTo>
                <a:lnTo>
                  <a:pt x="51021" y="21600"/>
                </a:lnTo>
                <a:lnTo>
                  <a:pt x="49621" y="20200"/>
                </a:lnTo>
                <a:lnTo>
                  <a:pt x="49621" y="1400"/>
                </a:lnTo>
                <a:close/>
              </a:path>
              <a:path fill="darkenLess" w="51021" h="21600">
                <a:moveTo>
                  <a:pt x="51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21" y="20200"/>
                </a:lnTo>
                <a:close/>
              </a:path>
              <a:path fill="lighten" w="51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09480" y="1276200"/>
            <a:ext cx="853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Нет, вода при этой температуре переходит в жидкое состояние.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3240" y="55576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НАЗА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659720" y="6072120"/>
            <a:ext cx="14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ff33"/>
                </a:solidFill>
                <a:uFillTx/>
                <a:latin typeface="Times New Roman"/>
                <a:hlinkClick r:id="rId2" action="ppaction://hlinksldjump"/>
              </a:rPr>
              <a:t>ВЫХОД</a:t>
            </a:r>
            <a:endParaRPr b="0" lang="en-US" sz="2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228600"/>
            <a:ext cx="687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6" name="Rectangle 9">
            <a:hlinkClick r:id="rId3" action="ppaction://hlinksldjump"/>
          </p:cNvPr>
          <p:cNvSpPr/>
          <p:nvPr/>
        </p:nvSpPr>
        <p:spPr>
          <a:xfrm>
            <a:off x="1371600" y="6477120"/>
            <a:ext cx="6343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 состояния воды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300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838080" y="22860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ff"/>
                </a:solidFill>
                <a:latin typeface="Times New Roman"/>
              </a:rPr>
              <a:t>Можно ли вскипятить снег?</a:t>
            </a:r>
            <a:endParaRPr b="0" lang="en-US" sz="4800" spc="-1" strike="noStrike">
              <a:solidFill>
                <a:srgbClr val="66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86640" y="623088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ff33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66ffff"/>
              </a:solidFill>
              <a:latin typeface="Times New Roman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7:12:29Z</dcterms:created>
  <dc:creator>Пользователь</dc:creator>
  <dc:description/>
  <dc:language>en-US</dc:language>
  <cp:lastModifiedBy>User</cp:lastModifiedBy>
  <dcterms:modified xsi:type="dcterms:W3CDTF">2011-02-28T20:28:46Z</dcterms:modified>
  <cp:revision>112</cp:revision>
  <dc:subject/>
  <dc:title>Презентация PowerPoint</dc:title>
</cp:coreProperties>
</file>