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6.jpeg" ContentType="image/jpeg"/>
  <Override PartName="/ppt/media/explode.wav" ContentType="audio/x-wav"/>
  <Override PartName="/ppt/media/image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ricochet.wav" ContentType="audio/x-wav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media/cashreg.wav" ContentType="audio/x-wav"/>
  <Override PartName="/ppt/media/image2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33B5-40C9-4BEE-A3FC-E41AC481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574-32D4-4240-9EB9-420097C5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0CD5-843E-4DDC-8184-180F8892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AC8-7BCC-498C-AD33-3FEDEFB3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9FB8-6D5E-4AC4-B06D-E2C1BC7D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DEB-E27A-4BA4-A959-6AF91B0E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A56-7E3E-4FC8-B3DB-3271BCE9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E401-F722-437C-85CE-FC712934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9E1A-5AE7-4CF2-9AC9-ABDD5D92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808F-2AE7-4936-8F68-A65B8FCE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CB58-7C5C-4B45-8A74-438D8812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0FE-D1EE-4101-8DD2-16B4EBB8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7003-01B0-4921-854D-ED72DED3F9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61.xml"/><Relationship Id="rId4" Type="http://schemas.openxmlformats.org/officeDocument/2006/relationships/slide" Target="slide4.xm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image" Target="../media/image22.jpeg"/><Relationship Id="rId21" Type="http://schemas.openxmlformats.org/officeDocument/2006/relationships/image" Target="../media/image23.jpeg"/><Relationship Id="rId2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55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19.xml"/><Relationship Id="rId9" Type="http://schemas.openxmlformats.org/officeDocument/2006/relationships/slide" Target="slide21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56.xml"/><Relationship Id="rId13" Type="http://schemas.openxmlformats.org/officeDocument/2006/relationships/slide" Target="slide60.xml"/><Relationship Id="rId14" Type="http://schemas.openxmlformats.org/officeDocument/2006/relationships/slide" Target="slide31.xml"/><Relationship Id="rId15" Type="http://schemas.openxmlformats.org/officeDocument/2006/relationships/slide" Target="slide58.xml"/><Relationship Id="rId16" Type="http://schemas.openxmlformats.org/officeDocument/2006/relationships/slide" Target="slide35.xml"/><Relationship Id="rId17" Type="http://schemas.openxmlformats.org/officeDocument/2006/relationships/slide" Target="slide37.xml"/><Relationship Id="rId18" Type="http://schemas.openxmlformats.org/officeDocument/2006/relationships/slide" Target="slide39.xml"/><Relationship Id="rId19" Type="http://schemas.openxmlformats.org/officeDocument/2006/relationships/slide" Target="slide59.xml"/><Relationship Id="rId20" Type="http://schemas.openxmlformats.org/officeDocument/2006/relationships/slide" Target="slide43.xml"/><Relationship Id="rId21" Type="http://schemas.openxmlformats.org/officeDocument/2006/relationships/slide" Target="slide45.xml"/><Relationship Id="rId22" Type="http://schemas.openxmlformats.org/officeDocument/2006/relationships/slide" Target="slide57.xml"/><Relationship Id="rId23" Type="http://schemas.openxmlformats.org/officeDocument/2006/relationships/slide" Target="slide49.xml"/><Relationship Id="rId24" Type="http://schemas.openxmlformats.org/officeDocument/2006/relationships/slide" Target="slide51.xml"/><Relationship Id="rId25" Type="http://schemas.openxmlformats.org/officeDocument/2006/relationships/slide" Target="slide53.xml"/><Relationship Id="rId26" Type="http://schemas.openxmlformats.org/officeDocument/2006/relationships/slide" Target="slide61.xml"/><Relationship Id="rId27" Type="http://schemas.openxmlformats.org/officeDocument/2006/relationships/slide" Target="slide61.xml"/><Relationship Id="rId2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explod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explod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explod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856520" y="2610000"/>
            <a:ext cx="616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Окружающий мир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146400" y="4476600"/>
            <a:ext cx="296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КЛАСС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172040" y="3238560"/>
            <a:ext cx="79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ffff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44" name="Fausto Papetti-Spely Shores.MP3" descr=""/>
          <p:cNvPicPr/>
          <p:nvPr/>
        </p:nvPicPr>
        <p:blipFill>
          <a:blip r:embed="rId1"/>
          <a:stretch/>
        </p:blipFill>
        <p:spPr>
          <a:xfrm>
            <a:off x="0" y="33717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WordArt 12"/>
          <p:cNvSpPr txBox="1"/>
          <p:nvPr/>
        </p:nvSpPr>
        <p:spPr>
          <a:xfrm>
            <a:off x="2357280" y="1028880"/>
            <a:ext cx="4448160" cy="2381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ЗДУХ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5619600" y="5276880"/>
            <a:ext cx="3295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Times New Roman"/>
              </a:rPr>
              <a:t>Литвиненко Татьяна Анатольевна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Times New Roman"/>
              </a:rPr>
              <a:t>МОУ ТЭЛ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Times New Roman"/>
              </a:rPr>
              <a:t>г. Новороссийск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324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659720" y="60912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228600"/>
            <a:ext cx="49528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3" name="Rectangle 9">
            <a:hlinkClick r:id="rId3" action="ppaction://hlinksldjump"/>
          </p:cNvPr>
          <p:cNvSpPr/>
          <p:nvPr/>
        </p:nvSpPr>
        <p:spPr>
          <a:xfrm>
            <a:off x="1276200" y="6515280"/>
            <a:ext cx="6477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133720" y="830160"/>
            <a:ext cx="5200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Между ворсинками шубы имеется много воздуха. Воздух плохо проводит тепло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войства воздуха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95320" y="241920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Почему в холодных помещениях у нас зябнут прежде всего ноги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062600" y="623088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308160" y="5519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7659720" y="593892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0" name="Rectangle 9">
            <a:hlinkClick r:id="rId3" action="ppaction://hlinksldjump"/>
          </p:cNvPr>
          <p:cNvSpPr/>
          <p:nvPr/>
        </p:nvSpPr>
        <p:spPr>
          <a:xfrm>
            <a:off x="1257480" y="6515280"/>
            <a:ext cx="647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2286000" y="15541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971640" y="819000"/>
            <a:ext cx="78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Холодный воздух более тяжёлый, поэтому он находится у пола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войства воздуха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781200" y="2247840"/>
            <a:ext cx="7600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очему воздух при нагревании расширяется, а при охлаждении сжимается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805560" y="597096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8" name="Rectangle 8">
            <a:hlinkClick r:id="rId3" action="ppaction://hlinksldjump"/>
          </p:cNvPr>
          <p:cNvSpPr/>
          <p:nvPr/>
        </p:nvSpPr>
        <p:spPr>
          <a:xfrm>
            <a:off x="380880" y="5638680"/>
            <a:ext cx="6400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971640" y="514440"/>
            <a:ext cx="6896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оздух как и все вещества состоит из частиц. При нагревании движение частиц усиливается, расстояние между ними увеличивается и воздух расширяется. А при охлаждении наоборот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оздух – смесь газов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781200" y="2286000"/>
            <a:ext cx="761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Газ, входящий в состав воздуха и поддерживающий горение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774960" y="57326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7240" y="55767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7659720" y="59580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228600"/>
            <a:ext cx="48960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0"/>
            <a:ext cx="9144000" cy="64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7" name="Rectangle 8">
            <a:hlinkClick r:id="rId3" action="ppaction://hlinksldjump"/>
          </p:cNvPr>
          <p:cNvSpPr/>
          <p:nvPr/>
        </p:nvSpPr>
        <p:spPr>
          <a:xfrm>
            <a:off x="1276200" y="6515280"/>
            <a:ext cx="6458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698480" y="4280040"/>
            <a:ext cx="6070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1866960" y="1600200"/>
            <a:ext cx="5238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Кислород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оздух – смесь газов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80880" y="1962000"/>
            <a:ext cx="836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Что, кроме газов, входит в состав воздуха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794040" y="55990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240" y="54626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914400" y="2019240"/>
            <a:ext cx="70102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6" name="Rectangle 6">
            <a:hlinkClick r:id="rId3" action="ppaction://hlinksldjump"/>
          </p:cNvPr>
          <p:cNvSpPr/>
          <p:nvPr/>
        </p:nvSpPr>
        <p:spPr>
          <a:xfrm>
            <a:off x="1295280" y="6496200"/>
            <a:ext cx="6419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685800" y="757080"/>
            <a:ext cx="750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Примеси 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оздух – смесь газов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704880" y="253368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очему углекислый газ используют в огнетушителях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755880" y="56944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990720" y="1390680"/>
            <a:ext cx="716256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ccff"/>
                </a:solidFill>
                <a:latin typeface="Times New Roman"/>
              </a:rPr>
              <a:t>Данный урок проводится по типу телевизионной передачи…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8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026"/>
          <p:cNvSpPr/>
          <p:nvPr/>
        </p:nvSpPr>
        <p:spPr>
          <a:xfrm>
            <a:off x="3240" y="59389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2" name="Text Box 1027"/>
          <p:cNvSpPr/>
          <p:nvPr/>
        </p:nvSpPr>
        <p:spPr>
          <a:xfrm>
            <a:off x="7659720" y="59580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3" name="Text Box 1028"/>
          <p:cNvSpPr/>
          <p:nvPr/>
        </p:nvSpPr>
        <p:spPr>
          <a:xfrm>
            <a:off x="1104840" y="1714680"/>
            <a:ext cx="714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Этот газ не поддерживает горения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4" name="Rectangle 1030">
            <a:hlinkClick r:id="rId3" action="ppaction://hlinksldjump"/>
          </p:cNvPr>
          <p:cNvSpPr/>
          <p:nvPr/>
        </p:nvSpPr>
        <p:spPr>
          <a:xfrm>
            <a:off x="1276200" y="6477120"/>
            <a:ext cx="6458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оздух – смесь газов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419040" y="2171880"/>
            <a:ext cx="8134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Как измеряется в комнате состав воздуха при горении газовой плиты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696480" y="544356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240" y="55008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23920" y="19242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819000" y="1181160"/>
            <a:ext cx="786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Количество кислорода уменьшается, а количество углекислого газа увеличивается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Воздух – смесь газов</a:t>
            </a:r>
            <a:br>
              <a:rPr sz="48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755880" y="55990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200240" y="3086280"/>
            <a:ext cx="712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47640" y="1943280"/>
            <a:ext cx="8039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Сколько литров кислорода содержится в 10-литровом ведре, заполненном воздухом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026"/>
          <p:cNvSpPr/>
          <p:nvPr/>
        </p:nvSpPr>
        <p:spPr>
          <a:xfrm>
            <a:off x="3240" y="563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7" name="Text Box 1027"/>
          <p:cNvSpPr/>
          <p:nvPr/>
        </p:nvSpPr>
        <p:spPr>
          <a:xfrm>
            <a:off x="7659720" y="60339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438120" y="380880"/>
            <a:ext cx="8001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Около 2 литров, так как кислород в воздухе занимает пятую часть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9" name="Rectangle 1030">
            <a:hlinkClick r:id="rId3" action="ppaction://hlinksldjump"/>
          </p:cNvPr>
          <p:cNvSpPr/>
          <p:nvPr/>
        </p:nvSpPr>
        <p:spPr>
          <a:xfrm>
            <a:off x="1314360" y="6477120"/>
            <a:ext cx="64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кеан, которого нет на карте и глобус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04920" y="2076480"/>
            <a:ext cx="84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акого океана нет на глобусе и карте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346320" y="563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257480" y="201924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Воздушный океан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6" name="Rectangle 10">
            <a:hlinkClick r:id="rId3" action="ppaction://hlinksldjump"/>
          </p:cNvPr>
          <p:cNvSpPr/>
          <p:nvPr/>
        </p:nvSpPr>
        <p:spPr>
          <a:xfrm>
            <a:off x="1276200" y="6496200"/>
            <a:ext cx="643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кеан, которого нет на карте и глобус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857160" y="179064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Как называется слой воздуха, окружающий нашу планету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026"/>
          <p:cNvSpPr/>
          <p:nvPr/>
        </p:nvSpPr>
        <p:spPr>
          <a:xfrm>
            <a:off x="250920" y="54054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1" name="Text Box 1027">
            <a:hlinkClick r:id="rId2" action="ppaction://hlinksldjump"/>
          </p:cNvPr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3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2" name="Text Box 1028"/>
          <p:cNvSpPr/>
          <p:nvPr/>
        </p:nvSpPr>
        <p:spPr>
          <a:xfrm>
            <a:off x="1238400" y="165744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Атмосфера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3" name="Rectangle 1030">
            <a:hlinkClick r:id="rId4" action="ppaction://hlinksldjump"/>
          </p:cNvPr>
          <p:cNvSpPr/>
          <p:nvPr/>
        </p:nvSpPr>
        <p:spPr>
          <a:xfrm>
            <a:off x="1295280" y="6458040"/>
            <a:ext cx="6419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4" name="Line 1031"/>
          <p:cNvSpPr/>
          <p:nvPr/>
        </p:nvSpPr>
        <p:spPr>
          <a:xfrm>
            <a:off x="4172040" y="2876400"/>
            <a:ext cx="0" cy="51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кеан, которого нет на карте и глобус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52600" y="1847880"/>
            <a:ext cx="761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С ним не встретятся космонавты в космосе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755880" y="56372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0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5" descr="10"/>
          <p:cNvPicPr/>
          <p:nvPr/>
        </p:nvPicPr>
        <p:blipFill>
          <a:blip r:embed="rId2"/>
          <a:stretch/>
        </p:blipFill>
        <p:spPr>
          <a:xfrm>
            <a:off x="0" y="0"/>
            <a:ext cx="3067200" cy="230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6" descr="11"/>
          <p:cNvPicPr/>
          <p:nvPr/>
        </p:nvPicPr>
        <p:blipFill>
          <a:blip r:embed="rId3"/>
          <a:stretch/>
        </p:blipFill>
        <p:spPr>
          <a:xfrm>
            <a:off x="6039000" y="0"/>
            <a:ext cx="3105000" cy="23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7" descr="12"/>
          <p:cNvPicPr/>
          <p:nvPr/>
        </p:nvPicPr>
        <p:blipFill>
          <a:blip r:embed="rId4"/>
          <a:stretch/>
        </p:blipFill>
        <p:spPr>
          <a:xfrm>
            <a:off x="0" y="4933800"/>
            <a:ext cx="3022560" cy="2267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8" descr="13"/>
          <p:cNvPicPr/>
          <p:nvPr/>
        </p:nvPicPr>
        <p:blipFill>
          <a:blip r:embed="rId5"/>
          <a:stretch/>
        </p:blipFill>
        <p:spPr>
          <a:xfrm>
            <a:off x="6191280" y="491004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15"/>
          <p:cNvPicPr/>
          <p:nvPr/>
        </p:nvPicPr>
        <p:blipFill>
          <a:blip r:embed="rId6"/>
          <a:stretch/>
        </p:blipFill>
        <p:spPr>
          <a:xfrm>
            <a:off x="2857680" y="0"/>
            <a:ext cx="3657600" cy="2324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1" descr="16"/>
          <p:cNvPicPr/>
          <p:nvPr/>
        </p:nvPicPr>
        <p:blipFill>
          <a:blip r:embed="rId7"/>
          <a:stretch/>
        </p:blipFill>
        <p:spPr>
          <a:xfrm>
            <a:off x="3009960" y="4991040"/>
            <a:ext cx="3162240" cy="217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2" descr="32"/>
          <p:cNvPicPr/>
          <p:nvPr/>
        </p:nvPicPr>
        <p:blipFill>
          <a:blip r:embed="rId8"/>
          <a:stretch/>
        </p:blipFill>
        <p:spPr>
          <a:xfrm>
            <a:off x="0" y="2438280"/>
            <a:ext cx="2897280" cy="245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3" descr="36"/>
          <p:cNvPicPr/>
          <p:nvPr/>
        </p:nvPicPr>
        <p:blipFill>
          <a:blip r:embed="rId9"/>
          <a:stretch/>
        </p:blipFill>
        <p:spPr>
          <a:xfrm>
            <a:off x="2876400" y="2228760"/>
            <a:ext cx="3670560" cy="2739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4" descr="30"/>
          <p:cNvPicPr/>
          <p:nvPr/>
        </p:nvPicPr>
        <p:blipFill>
          <a:blip r:embed="rId10"/>
          <a:stretch/>
        </p:blipFill>
        <p:spPr>
          <a:xfrm>
            <a:off x="6419880" y="2422440"/>
            <a:ext cx="2724120" cy="2454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8" descr="43"/>
          <p:cNvPicPr/>
          <p:nvPr/>
        </p:nvPicPr>
        <p:blipFill>
          <a:blip r:embed="rId11"/>
          <a:stretch/>
        </p:blipFill>
        <p:spPr>
          <a:xfrm>
            <a:off x="2590920" y="2185920"/>
            <a:ext cx="4071960" cy="3016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9" descr="39"/>
          <p:cNvPicPr/>
          <p:nvPr/>
        </p:nvPicPr>
        <p:blipFill>
          <a:blip r:embed="rId12"/>
          <a:stretch/>
        </p:blipFill>
        <p:spPr>
          <a:xfrm>
            <a:off x="0" y="0"/>
            <a:ext cx="2987640" cy="235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0" descr="31"/>
          <p:cNvPicPr/>
          <p:nvPr/>
        </p:nvPicPr>
        <p:blipFill>
          <a:blip r:embed="rId13"/>
          <a:stretch/>
        </p:blipFill>
        <p:spPr>
          <a:xfrm>
            <a:off x="6259680" y="4917960"/>
            <a:ext cx="2884320" cy="226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1" descr="26"/>
          <p:cNvPicPr/>
          <p:nvPr/>
        </p:nvPicPr>
        <p:blipFill>
          <a:blip r:embed="rId14"/>
          <a:stretch/>
        </p:blipFill>
        <p:spPr>
          <a:xfrm>
            <a:off x="6400800" y="0"/>
            <a:ext cx="2743200" cy="2282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2" descr="35"/>
          <p:cNvPicPr/>
          <p:nvPr/>
        </p:nvPicPr>
        <p:blipFill>
          <a:blip r:embed="rId15"/>
          <a:stretch/>
        </p:blipFill>
        <p:spPr>
          <a:xfrm>
            <a:off x="0" y="4943520"/>
            <a:ext cx="3100320" cy="225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3" descr="04"/>
          <p:cNvPicPr/>
          <p:nvPr/>
        </p:nvPicPr>
        <p:blipFill>
          <a:blip r:embed="rId16"/>
          <a:stretch/>
        </p:blipFill>
        <p:spPr>
          <a:xfrm>
            <a:off x="0" y="0"/>
            <a:ext cx="4603680" cy="3714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4" descr="25"/>
          <p:cNvPicPr/>
          <p:nvPr/>
        </p:nvPicPr>
        <p:blipFill>
          <a:blip r:embed="rId17"/>
          <a:stretch/>
        </p:blipFill>
        <p:spPr>
          <a:xfrm>
            <a:off x="4508640" y="3753000"/>
            <a:ext cx="4635360" cy="3390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5" descr="28"/>
          <p:cNvPicPr/>
          <p:nvPr/>
        </p:nvPicPr>
        <p:blipFill>
          <a:blip r:embed="rId18"/>
          <a:stretch/>
        </p:blipFill>
        <p:spPr>
          <a:xfrm>
            <a:off x="4564080" y="0"/>
            <a:ext cx="4579920" cy="3749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6" descr="44"/>
          <p:cNvPicPr/>
          <p:nvPr/>
        </p:nvPicPr>
        <p:blipFill>
          <a:blip r:embed="rId19"/>
          <a:stretch/>
        </p:blipFill>
        <p:spPr>
          <a:xfrm>
            <a:off x="0" y="3714840"/>
            <a:ext cx="4551480" cy="352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7" descr="18"/>
          <p:cNvPicPr/>
          <p:nvPr/>
        </p:nvPicPr>
        <p:blipFill>
          <a:blip r:embed="rId20"/>
          <a:stretch/>
        </p:blipFill>
        <p:spPr>
          <a:xfrm>
            <a:off x="2381400" y="1854360"/>
            <a:ext cx="4082760" cy="311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8" descr="своя игра загл"/>
          <p:cNvPicPr/>
          <p:nvPr/>
        </p:nvPicPr>
        <p:blipFill>
          <a:blip r:embed="rId21"/>
          <a:stretch/>
        </p:blipFill>
        <p:spPr>
          <a:xfrm>
            <a:off x="0" y="0"/>
            <a:ext cx="9144000" cy="720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6500"/>
                            </p:stCondLst>
                            <p:childTnLst>
                              <p:par>
                                <p:cTn id="7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8500"/>
                            </p:stCondLst>
                            <p:childTnLst>
                              <p:par>
                                <p:cTn id="7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50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250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3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17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1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4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97720" y="547200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7470360" y="592920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0" name="Rectangle 7">
            <a:hlinkClick r:id="rId3" action="ppaction://hlinksldjump"/>
          </p:cNvPr>
          <p:cNvSpPr/>
          <p:nvPr/>
        </p:nvSpPr>
        <p:spPr>
          <a:xfrm>
            <a:off x="1352520" y="6438960"/>
            <a:ext cx="6305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1733400" y="2800440"/>
            <a:ext cx="535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С воздухом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кеан, которого нет на карте и глобус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717720" y="58276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685800" y="2857680"/>
            <a:ext cx="7943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38120" y="23814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От чего защищает атмосфера нашу Землю?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240" y="55389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7412040" y="605304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57200" y="1523880"/>
            <a:ext cx="8381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От сильной жары и холода, от метеоритных дождей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кеан, которого нет на карте и глобус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819000" y="186696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Без чего нельзя обойтись при производстве мороженного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794040" y="55040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240" y="55958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524400" y="1409760"/>
            <a:ext cx="245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Лёд.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5" name="Rectangle 6">
            <a:hlinkClick r:id="rId3" action="ppaction://hlinksldjump"/>
          </p:cNvPr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вижение воздух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14400" y="25909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ак называется прибор, который определяет направление движения ветра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755880" y="565632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3240" y="53481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924200" y="192420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Флюгер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2" name="Rectangle 6">
            <a:hlinkClick r:id="rId3" action="ppaction://hlinksldjump"/>
          </p:cNvPr>
          <p:cNvSpPr/>
          <p:nvPr/>
        </p:nvSpPr>
        <p:spPr>
          <a:xfrm>
            <a:off x="1333440" y="6458040"/>
            <a:ext cx="6362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867120" y="571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вижение воздух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914400" y="2590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ак называется ветер, который дует на северо-запад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774960" y="57513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240" y="52149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7659720" y="6014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533520" y="2381400"/>
            <a:ext cx="81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ff"/>
                </a:solidFill>
                <a:latin typeface="Times New Roman"/>
              </a:rPr>
              <a:t>Юго-восточный ветер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вижение воздух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47640" y="1847880"/>
            <a:ext cx="786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Как человек использует силу ветра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832200" y="56944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7268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Красный раун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95360" y="1200240"/>
          <a:ext cx="8400960" cy="4649760"/>
        </p:xfrm>
        <a:graphic>
          <a:graphicData uri="http://schemas.openxmlformats.org/drawingml/2006/table">
            <a:tbl>
              <a:tblPr/>
              <a:tblGrid>
                <a:gridCol w="1504800"/>
                <a:gridCol w="1295640"/>
                <a:gridCol w="1400040"/>
                <a:gridCol w="1400040"/>
                <a:gridCol w="1400400"/>
                <a:gridCol w="1400040"/>
              </a:tblGrid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ойства воздуха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дух – смесь газов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еан, которого нет на карте т глобусе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вижение воздуха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пература воздуха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25">
            <a:hlinkClick r:id="rId26" action="ppaction://hlinksldjump"/>
          </p:cNvPr>
          <p:cNvSpPr/>
          <p:nvPr/>
        </p:nvSpPr>
        <p:spPr>
          <a:xfrm>
            <a:off x="3700080" y="627840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0" y="5500800"/>
            <a:ext cx="13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659720" y="58626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47680" y="1009800"/>
            <a:ext cx="82296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Строит ветряные мельницы, ветряные электростанции, ставит на лодках паруса и попутный ветер помогает плыть в море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6" name="Rectangle 6">
            <a:hlinkClick r:id="rId3" action="ppaction://hlinksldjump"/>
          </p:cNvPr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Движение воздуха</a:t>
            </a:r>
            <a:br>
              <a:rPr sz="48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743040" y="1962000"/>
            <a:ext cx="7619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Вам необходимо построить животноводческую ферму на краю села. Где вы её построите, если в вашей местности преобладают северо-западные ветры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658320" y="542448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31840" y="52912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659720" y="59770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2" name="Rectangle 6">
            <a:hlinkClick r:id="rId3" action="ppaction://hlinksldjump"/>
          </p:cNvPr>
          <p:cNvSpPr/>
          <p:nvPr/>
        </p:nvSpPr>
        <p:spPr>
          <a:xfrm>
            <a:off x="1257480" y="6477120"/>
            <a:ext cx="645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52600" y="838080"/>
            <a:ext cx="802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На юго-восточной окраине села, чтобы ветер  уносил запахи с фермы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вижение воздух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850920" y="5808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09480" y="1962000"/>
            <a:ext cx="811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о время расследования один из подозреваемых утверждал, что во время преступления днём он гулял по набережной моря и затратил почти час, пытаясь достать из воды свою шляпу, унесённую лёгким ветром, которую отгоняло всё дальше от берега. Почему рассказ заставил усомниться следователя в правдивости слов подозреваемого?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324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7659720" y="58816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609480" y="380880"/>
            <a:ext cx="807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0" name="Rectangle 7">
            <a:hlinkClick r:id="rId3" action="ppaction://hlinksldjump"/>
          </p:cNvPr>
          <p:cNvSpPr/>
          <p:nvPr/>
        </p:nvSpPr>
        <p:spPr>
          <a:xfrm>
            <a:off x="1257480" y="6477120"/>
            <a:ext cx="64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685800" y="1771560"/>
            <a:ext cx="779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етер днём дует не в сторону моря, а в сторону суши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емпература воздух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914400" y="2095560"/>
            <a:ext cx="762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Один из парашютистов прыгнул с высоты 1000 м, а другой – 5000 м. Какой из них ощутил более низкую температуру воздуха и почему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658320" y="553896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026"/>
          <p:cNvSpPr/>
          <p:nvPr/>
        </p:nvSpPr>
        <p:spPr>
          <a:xfrm>
            <a:off x="3240" y="58435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6" name="Text Box 1027"/>
          <p:cNvSpPr/>
          <p:nvPr/>
        </p:nvSpPr>
        <p:spPr>
          <a:xfrm>
            <a:off x="7659720" y="58626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7" name="Text Box 1062"/>
          <p:cNvSpPr/>
          <p:nvPr/>
        </p:nvSpPr>
        <p:spPr>
          <a:xfrm>
            <a:off x="1752480" y="1143000"/>
            <a:ext cx="5372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Второй, чем выше от поверхности Земли, тем воздух холоднее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емпература воздух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762120" y="213372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Почему альпинисты берут с собой в горы тёплую одежду и баллоны с кислородом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813120" y="56754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7000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7659720" y="60912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2577960" y="2432160"/>
            <a:ext cx="4051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1219320" y="647640"/>
            <a:ext cx="680076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ысоко в горах поверхность земли остывает быстрее, поэтому воздух там холодный. Воздух в горах разреженный, людям трудно дышать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емпература воздух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933480" y="222876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Где теплее в полдень: на ровном месте у подножия холма или на склоне холма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3658320" y="572940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войства воздуха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371600" y="2666880"/>
            <a:ext cx="6400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Какие свойства воздуха можно доказать с помощью велосипедного насоса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692880" y="605988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026"/>
          <p:cNvSpPr/>
          <p:nvPr/>
        </p:nvSpPr>
        <p:spPr>
          <a:xfrm>
            <a:off x="3240" y="59961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9" name="Text Box 1027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0" name="Text Box 1033"/>
          <p:cNvSpPr/>
          <p:nvPr/>
        </p:nvSpPr>
        <p:spPr>
          <a:xfrm>
            <a:off x="1647720" y="450720"/>
            <a:ext cx="5924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На ровном месте в полдень теплее. Чем круче падают солнечные лучи, тем лучше нагревают поверхность Земли, а значит, лучше нагревается воздух над ней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1" name="Rectangle 1035"/>
          <p:cNvSpPr/>
          <p:nvPr/>
        </p:nvSpPr>
        <p:spPr>
          <a:xfrm>
            <a:off x="1257480" y="6477120"/>
            <a:ext cx="6476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емпература воздух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990720" y="1771560"/>
            <a:ext cx="7619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 жаркий день термометр на берегу моря показывал +33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º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С. Группа пассажиров села на теплоход, и он отчалил от берега. Чем дальше теплоход отдалялся от берега, тем становилось прохладнее, хотя солнце грело по-прежнему. Термометр на палубе показывал  +29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º</a:t>
            </a: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С. Почему снизилась температура воздуха по мере удаления теплохода от берега?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4079520" y="59277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3240" y="53672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7659720" y="60339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55480" y="946080"/>
            <a:ext cx="292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1009800" y="895320"/>
            <a:ext cx="6286320" cy="52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Днём суша нагревается больше, чем вода. Поэтому воздух, нагретый от суши и от воды, будет теплее над сушей и прохладнее над водой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емпература воздух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971640" y="194328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ff"/>
                </a:solidFill>
                <a:latin typeface="Times New Roman"/>
              </a:rPr>
              <a:t>Счастливый случай!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927240" y="57942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70000" y="56149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614000" y="5850000"/>
            <a:ext cx="15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1276200" y="6496200"/>
            <a:ext cx="6419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1123920" y="1504800"/>
            <a:ext cx="622944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Поздравляем!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Вы получаете указанную сумму баллов без ответа!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343080" y="0"/>
            <a:ext cx="880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3"/>
          <p:cNvSpPr/>
          <p:nvPr/>
        </p:nvSpPr>
        <p:spPr>
          <a:xfrm>
            <a:off x="350640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3"/>
          <p:cNvSpPr/>
          <p:nvPr/>
        </p:nvSpPr>
        <p:spPr>
          <a:xfrm>
            <a:off x="1906560" y="4014720"/>
            <a:ext cx="518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1" name="WordArt 4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369828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3"/>
          <p:cNvSpPr/>
          <p:nvPr/>
        </p:nvSpPr>
        <p:spPr>
          <a:xfrm>
            <a:off x="350640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906560" y="4014720"/>
            <a:ext cx="518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6" name="WordArt 3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62232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1906560" y="4014720"/>
            <a:ext cx="518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9" name="WordArt 3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64104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948240" y="2000160"/>
            <a:ext cx="729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Воздух сжимается, 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сжатый воздух упругий.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440" y="5675400"/>
            <a:ext cx="13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7479000" y="6132600"/>
            <a:ext cx="15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" name="Rectangle 6">
            <a:hlinkClick r:id="rId3" action="ppaction://hlinksldjump"/>
          </p:cNvPr>
          <p:cNvSpPr/>
          <p:nvPr/>
        </p:nvSpPr>
        <p:spPr>
          <a:xfrm>
            <a:off x="1428840" y="6400800"/>
            <a:ext cx="611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350640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990880" y="304920"/>
            <a:ext cx="55627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Спасибо Вам за участие в игре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800280" y="3441600"/>
            <a:ext cx="75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Надеюсь,  что Вам понравилось</a:t>
            </a: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275" name="Picture 5" descr="си2"/>
          <p:cNvPicPr/>
          <p:nvPr/>
        </p:nvPicPr>
        <p:blipFill>
          <a:blip r:embed="rId1"/>
          <a:stretch/>
        </p:blipFill>
        <p:spPr>
          <a:xfrm>
            <a:off x="0" y="0"/>
            <a:ext cx="27558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войства воздуха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762120" y="25146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Изобразите экологический знак «Берегите воду!»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3692880" y="605988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609480" y="1276200"/>
            <a:ext cx="7677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Закрывай кран!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Не лей воду зря!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и т.д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240" y="55576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7659720" y="607212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6" name="Rectangle 9">
            <a:hlinkClick r:id="rId3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войства воздуха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300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838080" y="228600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Чтобы суп или каша медленнее остывали, в старину их укутывали шубой. Лёд или мороженное, чтобы они быстро не таяли тоже укутывали в шубы. Мы же шубы надеваем, чтобы не замёрзнуть зимой. Как это объяснить?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986640" y="623088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7:12:29Z</dcterms:created>
  <dc:creator>Пользователь</dc:creator>
  <dc:description/>
  <dc:language>en-US</dc:language>
  <cp:lastModifiedBy>User</cp:lastModifiedBy>
  <dcterms:modified xsi:type="dcterms:W3CDTF">2011-03-01T19:32:06Z</dcterms:modified>
  <cp:revision>106</cp:revision>
  <dc:subject/>
  <dc:title>Презентация PowerPoint</dc:title>
</cp:coreProperties>
</file>