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9.jpeg" ContentType="image/jpeg"/>
  <Override PartName="/ppt/media/image11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26.jpeg" ContentType="image/jpeg"/>
  <Override PartName="/ppt/media/explode.wav" ContentType="audio/x-wav"/>
  <Override PartName="/ppt/media/image5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ricochet.wav" ContentType="audio/x-wav"/>
  <Override PartName="/ppt/media/image17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chimes.wav" ContentType="audio/x-wav"/>
  <Override PartName="/ppt/media/image21.jpeg" ContentType="image/jpeg"/>
  <Override PartName="/ppt/media/cashreg.wav" ContentType="audio/x-wav"/>
  <Override PartName="/ppt/media/image2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9381-43E8-468B-B8D3-C61F917E6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83B9-900C-4E1D-A188-85B8B5CD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B7BA-6FF9-453A-82B5-748A7D2DD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0A97-D7B1-4A85-A658-D6F01C920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1599-F74C-4E66-B73F-94603916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DED4-10D9-48E7-9FB4-38E82B6F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A46A-A913-410B-B647-04F3F8B7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5359-A2B9-4313-9C7C-2922D580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D353-934E-48ED-A87D-2A44C1CE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8683-6D37-4C6E-A5CF-C97B6BBF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E232-F207-49BF-876B-EAB2A3F0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F685-A33D-408F-93BE-439DAF70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FD31-3C7E-4F54-87CB-48A3BF8270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61.xml"/><Relationship Id="rId4" Type="http://schemas.openxmlformats.org/officeDocument/2006/relationships/slide" Target="slide4.xm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image" Target="../media/image18.jpeg"/><Relationship Id="rId17" Type="http://schemas.openxmlformats.org/officeDocument/2006/relationships/image" Target="../media/image19.jpeg"/><Relationship Id="rId18" Type="http://schemas.openxmlformats.org/officeDocument/2006/relationships/image" Target="../media/image20.jpeg"/><Relationship Id="rId19" Type="http://schemas.openxmlformats.org/officeDocument/2006/relationships/image" Target="../media/image21.jpeg"/><Relationship Id="rId20" Type="http://schemas.openxmlformats.org/officeDocument/2006/relationships/image" Target="../media/image22.jpeg"/><Relationship Id="rId21" Type="http://schemas.openxmlformats.org/officeDocument/2006/relationships/image" Target="../media/image23.jpeg"/><Relationship Id="rId2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7.xml"/><Relationship Id="rId3" Type="http://schemas.openxmlformats.org/officeDocument/2006/relationships/slide" Target="slide9.xml"/><Relationship Id="rId4" Type="http://schemas.openxmlformats.org/officeDocument/2006/relationships/slide" Target="slide11.xml"/><Relationship Id="rId5" Type="http://schemas.openxmlformats.org/officeDocument/2006/relationships/slide" Target="slide55.xml"/><Relationship Id="rId6" Type="http://schemas.openxmlformats.org/officeDocument/2006/relationships/slide" Target="slide15.xml"/><Relationship Id="rId7" Type="http://schemas.openxmlformats.org/officeDocument/2006/relationships/slide" Target="slide17.xml"/><Relationship Id="rId8" Type="http://schemas.openxmlformats.org/officeDocument/2006/relationships/slide" Target="slide19.xml"/><Relationship Id="rId9" Type="http://schemas.openxmlformats.org/officeDocument/2006/relationships/slide" Target="slide21.xml"/><Relationship Id="rId10" Type="http://schemas.openxmlformats.org/officeDocument/2006/relationships/slide" Target="slide23.xml"/><Relationship Id="rId11" Type="http://schemas.openxmlformats.org/officeDocument/2006/relationships/slide" Target="slide25.xml"/><Relationship Id="rId12" Type="http://schemas.openxmlformats.org/officeDocument/2006/relationships/slide" Target="slide56.xml"/><Relationship Id="rId13" Type="http://schemas.openxmlformats.org/officeDocument/2006/relationships/slide" Target="slide60.xml"/><Relationship Id="rId14" Type="http://schemas.openxmlformats.org/officeDocument/2006/relationships/slide" Target="slide31.xml"/><Relationship Id="rId15" Type="http://schemas.openxmlformats.org/officeDocument/2006/relationships/slide" Target="slide58.xml"/><Relationship Id="rId16" Type="http://schemas.openxmlformats.org/officeDocument/2006/relationships/slide" Target="slide35.xml"/><Relationship Id="rId17" Type="http://schemas.openxmlformats.org/officeDocument/2006/relationships/slide" Target="slide37.xml"/><Relationship Id="rId18" Type="http://schemas.openxmlformats.org/officeDocument/2006/relationships/slide" Target="slide39.xml"/><Relationship Id="rId19" Type="http://schemas.openxmlformats.org/officeDocument/2006/relationships/slide" Target="slide59.xml"/><Relationship Id="rId20" Type="http://schemas.openxmlformats.org/officeDocument/2006/relationships/slide" Target="slide43.xml"/><Relationship Id="rId21" Type="http://schemas.openxmlformats.org/officeDocument/2006/relationships/slide" Target="slide45.xml"/><Relationship Id="rId22" Type="http://schemas.openxmlformats.org/officeDocument/2006/relationships/slide" Target="slide57.xml"/><Relationship Id="rId23" Type="http://schemas.openxmlformats.org/officeDocument/2006/relationships/slide" Target="slide49.xml"/><Relationship Id="rId24" Type="http://schemas.openxmlformats.org/officeDocument/2006/relationships/slide" Target="slide51.xml"/><Relationship Id="rId25" Type="http://schemas.openxmlformats.org/officeDocument/2006/relationships/slide" Target="slide53.xml"/><Relationship Id="rId26" Type="http://schemas.openxmlformats.org/officeDocument/2006/relationships/slide" Target="slide61.xml"/><Relationship Id="rId27" Type="http://schemas.openxmlformats.org/officeDocument/2006/relationships/slide" Target="slide61.xml"/><Relationship Id="rId28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audio" Target="../media/explode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audio" Target="../media/explode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audio" Target="../media/explode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856520" y="2610000"/>
            <a:ext cx="616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ffff"/>
                </a:solidFill>
                <a:latin typeface="Times New Roman"/>
              </a:rPr>
              <a:t>Окружающий мир</a:t>
            </a:r>
            <a:endParaRPr b="0" lang="en-US" sz="6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146400" y="4476600"/>
            <a:ext cx="296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0" lang="ru-RU" sz="6000" spc="-1" strike="noStrike">
                <a:solidFill>
                  <a:srgbClr val="66ffff"/>
                </a:solidFill>
                <a:latin typeface="Times New Roman"/>
              </a:rPr>
              <a:t>КЛАСС</a:t>
            </a:r>
            <a:endParaRPr b="0" lang="en-US" sz="6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4172040" y="3238560"/>
            <a:ext cx="79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66ffff"/>
                </a:solidFill>
                <a:latin typeface="Times New Roman"/>
              </a:rPr>
              <a:t>3</a:t>
            </a:r>
            <a:endParaRPr b="0" lang="en-US" sz="96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44" name="Fausto Papetti-Spely Shores.MP3" descr=""/>
          <p:cNvPicPr/>
          <p:nvPr/>
        </p:nvPicPr>
        <p:blipFill>
          <a:blip r:embed="rId1"/>
          <a:stretch/>
        </p:blipFill>
        <p:spPr>
          <a:xfrm>
            <a:off x="0" y="33717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5" name="WordArt 12"/>
          <p:cNvSpPr txBox="1"/>
          <p:nvPr/>
        </p:nvSpPr>
        <p:spPr>
          <a:xfrm>
            <a:off x="2357280" y="1028880"/>
            <a:ext cx="4448160" cy="2381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ЗДУХ</a:t>
            </a:r>
            <a:endParaRPr b="0" lang="en-US" sz="4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5619600" y="5276880"/>
            <a:ext cx="32958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ff"/>
                </a:solidFill>
                <a:latin typeface="Times New Roman"/>
              </a:rPr>
              <a:t>Литвиненко Татьяна Анатольевна</a:t>
            </a:r>
            <a:endParaRPr b="0" lang="en-US" sz="20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ff"/>
                </a:solidFill>
                <a:latin typeface="Times New Roman"/>
              </a:rPr>
              <a:t>МОУ ТЭЛ</a:t>
            </a:r>
            <a:endParaRPr b="0" lang="en-US" sz="20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ff"/>
                </a:solidFill>
                <a:latin typeface="Times New Roman"/>
              </a:rPr>
              <a:t>г. Новороссийск</a:t>
            </a:r>
            <a:endParaRPr b="0" lang="en-US" sz="2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5"/>
          <p:cNvSpPr/>
          <p:nvPr/>
        </p:nvSpPr>
        <p:spPr>
          <a:xfrm>
            <a:off x="3240" y="54435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7659720" y="609120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228600"/>
            <a:ext cx="49528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3" name="Rectangle 9">
            <a:hlinkClick r:id="rId3" action="ppaction://hlinksldjump"/>
          </p:cNvPr>
          <p:cNvSpPr/>
          <p:nvPr/>
        </p:nvSpPr>
        <p:spPr>
          <a:xfrm>
            <a:off x="1276200" y="6515280"/>
            <a:ext cx="6477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2133720" y="830160"/>
            <a:ext cx="5200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Между ворсинками шубы имеется много воздуха. Воздух плохо проводит тепло.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войства воздуха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00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895320" y="2419200"/>
            <a:ext cx="7848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Почему в холодных помещениях у нас зябнут прежде всего ноги?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4062600" y="6230880"/>
            <a:ext cx="14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5"/>
          <p:cNvSpPr/>
          <p:nvPr/>
        </p:nvSpPr>
        <p:spPr>
          <a:xfrm>
            <a:off x="308160" y="55198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7659720" y="593892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0" name="Rectangle 9">
            <a:hlinkClick r:id="rId3" action="ppaction://hlinksldjump"/>
          </p:cNvPr>
          <p:cNvSpPr/>
          <p:nvPr/>
        </p:nvSpPr>
        <p:spPr>
          <a:xfrm>
            <a:off x="1257480" y="6515280"/>
            <a:ext cx="6476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2286000" y="1554120"/>
            <a:ext cx="525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971640" y="819000"/>
            <a:ext cx="786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ff"/>
                </a:solidFill>
                <a:latin typeface="Times New Roman"/>
              </a:rPr>
              <a:t>Холодный воздух более тяжёлый, поэтому он находится у пола.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войства воздуха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781200" y="2247840"/>
            <a:ext cx="7600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Почему воздух при нагревании расширяется, а при охлаждении сжимается?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3805560" y="5970960"/>
            <a:ext cx="1577880" cy="667800"/>
          </a:xfrm>
          <a:custGeom>
            <a:avLst/>
            <a:gdLst>
              <a:gd name="textAreaLeft" fmla="*/ 43200 w 1577880"/>
              <a:gd name="textAreaRight" fmla="*/ 1534680 w 15778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51021" h="21600">
                <a:moveTo>
                  <a:pt x="0" y="0"/>
                </a:moveTo>
                <a:lnTo>
                  <a:pt x="51021" y="0"/>
                </a:lnTo>
                <a:lnTo>
                  <a:pt x="51021" y="21600"/>
                </a:lnTo>
                <a:lnTo>
                  <a:pt x="0" y="21600"/>
                </a:lnTo>
                <a:close/>
              </a:path>
              <a:path fill="lightenLess" w="51021" h="21600">
                <a:moveTo>
                  <a:pt x="0" y="0"/>
                </a:moveTo>
                <a:lnTo>
                  <a:pt x="51021" y="0"/>
                </a:lnTo>
                <a:lnTo>
                  <a:pt x="49621" y="1400"/>
                </a:lnTo>
                <a:lnTo>
                  <a:pt x="1400" y="1400"/>
                </a:lnTo>
                <a:close/>
              </a:path>
              <a:path fill="darken" w="51021" h="21600">
                <a:moveTo>
                  <a:pt x="51021" y="0"/>
                </a:moveTo>
                <a:lnTo>
                  <a:pt x="51021" y="21600"/>
                </a:lnTo>
                <a:lnTo>
                  <a:pt x="49621" y="20200"/>
                </a:lnTo>
                <a:lnTo>
                  <a:pt x="49621" y="1400"/>
                </a:lnTo>
                <a:close/>
              </a:path>
              <a:path fill="darkenLess" w="51021" h="21600">
                <a:moveTo>
                  <a:pt x="51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21" y="20200"/>
                </a:lnTo>
                <a:close/>
              </a:path>
              <a:path fill="lighten" w="51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3240" y="63388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7659720" y="6338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8" name="Rectangle 8">
            <a:hlinkClick r:id="rId3" action="ppaction://hlinksldjump"/>
          </p:cNvPr>
          <p:cNvSpPr/>
          <p:nvPr/>
        </p:nvSpPr>
        <p:spPr>
          <a:xfrm>
            <a:off x="380880" y="5638680"/>
            <a:ext cx="6400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971640" y="514440"/>
            <a:ext cx="6896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Воздух как и все вещества состоит из частиц. При нагревании движение частиц усиливается, расстояние между ними увеличивается и воздух расширяется. А при охлаждении наоборот.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оздух – смесь газов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781200" y="2286000"/>
            <a:ext cx="7619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Газ, входящий в состав воздуха и поддерживающий горение?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3774960" y="573264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27240" y="55767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7659720" y="595800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0" y="228600"/>
            <a:ext cx="48960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0" y="0"/>
            <a:ext cx="9144000" cy="64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7" name="Rectangle 8">
            <a:hlinkClick r:id="rId3" action="ppaction://hlinksldjump"/>
          </p:cNvPr>
          <p:cNvSpPr/>
          <p:nvPr/>
        </p:nvSpPr>
        <p:spPr>
          <a:xfrm>
            <a:off x="1276200" y="6515280"/>
            <a:ext cx="6458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1698480" y="4280040"/>
            <a:ext cx="60706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1866960" y="1600200"/>
            <a:ext cx="5238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ffff"/>
                </a:solidFill>
                <a:latin typeface="Times New Roman"/>
              </a:rPr>
              <a:t>Кислород</a:t>
            </a:r>
            <a:endParaRPr b="0" lang="en-US" sz="5400" spc="-1" strike="noStrike">
              <a:solidFill>
                <a:srgbClr val="66ffff"/>
              </a:solidFill>
              <a:latin typeface="Times New Roman"/>
            </a:endParaRPr>
          </a:p>
          <a:p>
            <a:pPr algn="just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оздух – смесь газов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380880" y="1962000"/>
            <a:ext cx="8363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Что, кроме газов, входит в состав воздуха?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794040" y="559908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240" y="546264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7659720" y="59961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914400" y="2019240"/>
            <a:ext cx="701028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6" name="Rectangle 6">
            <a:hlinkClick r:id="rId3" action="ppaction://hlinksldjump"/>
          </p:cNvPr>
          <p:cNvSpPr/>
          <p:nvPr/>
        </p:nvSpPr>
        <p:spPr>
          <a:xfrm>
            <a:off x="1295280" y="6496200"/>
            <a:ext cx="64198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685800" y="757080"/>
            <a:ext cx="750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Примеси 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оздух – смесь газов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704880" y="253368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Почему углекислый газ используют в огнетушителях?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3755880" y="569448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>
            <a:off x="990720" y="1390680"/>
            <a:ext cx="716256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9ccff"/>
                </a:solidFill>
                <a:latin typeface="Times New Roman"/>
              </a:rPr>
              <a:t>Данный урок проводится по типу телевизионной передачи…</a:t>
            </a:r>
            <a:endParaRPr b="0" lang="en-US" sz="6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8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026"/>
          <p:cNvSpPr/>
          <p:nvPr/>
        </p:nvSpPr>
        <p:spPr>
          <a:xfrm>
            <a:off x="3240" y="593892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2" name="Text Box 1027"/>
          <p:cNvSpPr/>
          <p:nvPr/>
        </p:nvSpPr>
        <p:spPr>
          <a:xfrm>
            <a:off x="7659720" y="595800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3" name="Text Box 1028"/>
          <p:cNvSpPr/>
          <p:nvPr/>
        </p:nvSpPr>
        <p:spPr>
          <a:xfrm>
            <a:off x="1104840" y="1714680"/>
            <a:ext cx="714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Этот газ не поддерживает горения.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4" name="Rectangle 1030">
            <a:hlinkClick r:id="rId3" action="ppaction://hlinksldjump"/>
          </p:cNvPr>
          <p:cNvSpPr/>
          <p:nvPr/>
        </p:nvSpPr>
        <p:spPr>
          <a:xfrm>
            <a:off x="1276200" y="6477120"/>
            <a:ext cx="6458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оздух – смесь газов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419040" y="2171880"/>
            <a:ext cx="8134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Как измеряется в комнате состав воздуха при горении газовой плиты?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696480" y="5443560"/>
            <a:ext cx="157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3240" y="550080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7659720" y="59961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23920" y="1924200"/>
            <a:ext cx="7010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819000" y="1181160"/>
            <a:ext cx="7867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Количество кислорода уменьшается, а количество углекислого газа увеличивается.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Воздух – смесь газов</a:t>
            </a:r>
            <a:br>
              <a:rPr sz="48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3755880" y="559908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200240" y="3086280"/>
            <a:ext cx="7124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647640" y="1943280"/>
            <a:ext cx="8039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Сколько литров кислорода содержится в 10-литровом ведре, заполненном воздухом?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026"/>
          <p:cNvSpPr/>
          <p:nvPr/>
        </p:nvSpPr>
        <p:spPr>
          <a:xfrm>
            <a:off x="3240" y="563400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7" name="Text Box 1027"/>
          <p:cNvSpPr/>
          <p:nvPr/>
        </p:nvSpPr>
        <p:spPr>
          <a:xfrm>
            <a:off x="7659720" y="60339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8" name="Text Box 1028"/>
          <p:cNvSpPr/>
          <p:nvPr/>
        </p:nvSpPr>
        <p:spPr>
          <a:xfrm>
            <a:off x="438120" y="380880"/>
            <a:ext cx="8001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Около 2 литров, так как кислород в воздухе занимает пятую часть.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ctr"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9" name="Rectangle 1030">
            <a:hlinkClick r:id="rId3" action="ppaction://hlinksldjump"/>
          </p:cNvPr>
          <p:cNvSpPr/>
          <p:nvPr/>
        </p:nvSpPr>
        <p:spPr>
          <a:xfrm>
            <a:off x="1314360" y="6477120"/>
            <a:ext cx="6400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1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кеан, которого нет на карте и глобусе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304920" y="2076480"/>
            <a:ext cx="84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Какого океана нет на глобусе и карте?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3774960" y="61326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5"/>
          <p:cNvSpPr/>
          <p:nvPr/>
        </p:nvSpPr>
        <p:spPr>
          <a:xfrm>
            <a:off x="346320" y="563400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7659720" y="6338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1257480" y="201924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Воздушный океан.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56" name="Rectangle 10">
            <a:hlinkClick r:id="rId3" action="ppaction://hlinksldjump"/>
          </p:cNvPr>
          <p:cNvSpPr/>
          <p:nvPr/>
        </p:nvSpPr>
        <p:spPr>
          <a:xfrm>
            <a:off x="1276200" y="6496200"/>
            <a:ext cx="643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кеан, которого нет на карте и глобусе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857160" y="179064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Как называется слой воздуха, окружающий нашу планету?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3774960" y="61326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026"/>
          <p:cNvSpPr/>
          <p:nvPr/>
        </p:nvSpPr>
        <p:spPr>
          <a:xfrm>
            <a:off x="250920" y="540540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1" name="Text Box 1027">
            <a:hlinkClick r:id="rId2" action="ppaction://hlinksldjump"/>
          </p:cNvPr>
          <p:cNvSpPr/>
          <p:nvPr/>
        </p:nvSpPr>
        <p:spPr>
          <a:xfrm>
            <a:off x="7659720" y="6338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3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2" name="Text Box 1028"/>
          <p:cNvSpPr/>
          <p:nvPr/>
        </p:nvSpPr>
        <p:spPr>
          <a:xfrm>
            <a:off x="1238400" y="165744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Атмосфера.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3" name="Rectangle 1030">
            <a:hlinkClick r:id="rId4" action="ppaction://hlinksldjump"/>
          </p:cNvPr>
          <p:cNvSpPr/>
          <p:nvPr/>
        </p:nvSpPr>
        <p:spPr>
          <a:xfrm>
            <a:off x="1295280" y="6458040"/>
            <a:ext cx="64198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4" name="Line 1031"/>
          <p:cNvSpPr/>
          <p:nvPr/>
        </p:nvSpPr>
        <p:spPr>
          <a:xfrm>
            <a:off x="4172040" y="2876400"/>
            <a:ext cx="0" cy="51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кеан, которого нет на карте и глобусе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552600" y="1847880"/>
            <a:ext cx="7619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С ним не встретятся космонавты в космосе.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755880" y="563724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02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5" descr="10"/>
          <p:cNvPicPr/>
          <p:nvPr/>
        </p:nvPicPr>
        <p:blipFill>
          <a:blip r:embed="rId2"/>
          <a:stretch/>
        </p:blipFill>
        <p:spPr>
          <a:xfrm>
            <a:off x="0" y="0"/>
            <a:ext cx="3067200" cy="2300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6" descr="11"/>
          <p:cNvPicPr/>
          <p:nvPr/>
        </p:nvPicPr>
        <p:blipFill>
          <a:blip r:embed="rId3"/>
          <a:stretch/>
        </p:blipFill>
        <p:spPr>
          <a:xfrm>
            <a:off x="6039000" y="0"/>
            <a:ext cx="3105000" cy="2328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7" descr="12"/>
          <p:cNvPicPr/>
          <p:nvPr/>
        </p:nvPicPr>
        <p:blipFill>
          <a:blip r:embed="rId4"/>
          <a:stretch/>
        </p:blipFill>
        <p:spPr>
          <a:xfrm>
            <a:off x="0" y="4933800"/>
            <a:ext cx="3022560" cy="2267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8" descr="13"/>
          <p:cNvPicPr/>
          <p:nvPr/>
        </p:nvPicPr>
        <p:blipFill>
          <a:blip r:embed="rId5"/>
          <a:stretch/>
        </p:blipFill>
        <p:spPr>
          <a:xfrm>
            <a:off x="6191280" y="4910040"/>
            <a:ext cx="2952720" cy="2214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0" descr="15"/>
          <p:cNvPicPr/>
          <p:nvPr/>
        </p:nvPicPr>
        <p:blipFill>
          <a:blip r:embed="rId6"/>
          <a:stretch/>
        </p:blipFill>
        <p:spPr>
          <a:xfrm>
            <a:off x="2857680" y="0"/>
            <a:ext cx="3657600" cy="2324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1" descr="16"/>
          <p:cNvPicPr/>
          <p:nvPr/>
        </p:nvPicPr>
        <p:blipFill>
          <a:blip r:embed="rId7"/>
          <a:stretch/>
        </p:blipFill>
        <p:spPr>
          <a:xfrm>
            <a:off x="3009960" y="4991040"/>
            <a:ext cx="3162240" cy="2171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2" descr="32"/>
          <p:cNvPicPr/>
          <p:nvPr/>
        </p:nvPicPr>
        <p:blipFill>
          <a:blip r:embed="rId8"/>
          <a:stretch/>
        </p:blipFill>
        <p:spPr>
          <a:xfrm>
            <a:off x="0" y="2438280"/>
            <a:ext cx="2897280" cy="2454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3" descr="36"/>
          <p:cNvPicPr/>
          <p:nvPr/>
        </p:nvPicPr>
        <p:blipFill>
          <a:blip r:embed="rId9"/>
          <a:stretch/>
        </p:blipFill>
        <p:spPr>
          <a:xfrm>
            <a:off x="2876400" y="2228760"/>
            <a:ext cx="3670560" cy="2739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4" descr="30"/>
          <p:cNvPicPr/>
          <p:nvPr/>
        </p:nvPicPr>
        <p:blipFill>
          <a:blip r:embed="rId10"/>
          <a:stretch/>
        </p:blipFill>
        <p:spPr>
          <a:xfrm>
            <a:off x="6419880" y="2422440"/>
            <a:ext cx="2724120" cy="2454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8" descr="43"/>
          <p:cNvPicPr/>
          <p:nvPr/>
        </p:nvPicPr>
        <p:blipFill>
          <a:blip r:embed="rId11"/>
          <a:stretch/>
        </p:blipFill>
        <p:spPr>
          <a:xfrm>
            <a:off x="2590920" y="2185920"/>
            <a:ext cx="4071960" cy="3016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9" descr="39"/>
          <p:cNvPicPr/>
          <p:nvPr/>
        </p:nvPicPr>
        <p:blipFill>
          <a:blip r:embed="rId12"/>
          <a:stretch/>
        </p:blipFill>
        <p:spPr>
          <a:xfrm>
            <a:off x="0" y="0"/>
            <a:ext cx="2987640" cy="2359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0" descr="31"/>
          <p:cNvPicPr/>
          <p:nvPr/>
        </p:nvPicPr>
        <p:blipFill>
          <a:blip r:embed="rId13"/>
          <a:stretch/>
        </p:blipFill>
        <p:spPr>
          <a:xfrm>
            <a:off x="6259680" y="4917960"/>
            <a:ext cx="2884320" cy="2264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1" descr="26"/>
          <p:cNvPicPr/>
          <p:nvPr/>
        </p:nvPicPr>
        <p:blipFill>
          <a:blip r:embed="rId14"/>
          <a:stretch/>
        </p:blipFill>
        <p:spPr>
          <a:xfrm>
            <a:off x="6400800" y="0"/>
            <a:ext cx="2743200" cy="2282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2" descr="35"/>
          <p:cNvPicPr/>
          <p:nvPr/>
        </p:nvPicPr>
        <p:blipFill>
          <a:blip r:embed="rId15"/>
          <a:stretch/>
        </p:blipFill>
        <p:spPr>
          <a:xfrm>
            <a:off x="0" y="4943520"/>
            <a:ext cx="3100320" cy="2255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3" descr="04"/>
          <p:cNvPicPr/>
          <p:nvPr/>
        </p:nvPicPr>
        <p:blipFill>
          <a:blip r:embed="rId16"/>
          <a:stretch/>
        </p:blipFill>
        <p:spPr>
          <a:xfrm>
            <a:off x="0" y="0"/>
            <a:ext cx="4603680" cy="3714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4" descr="25"/>
          <p:cNvPicPr/>
          <p:nvPr/>
        </p:nvPicPr>
        <p:blipFill>
          <a:blip r:embed="rId17"/>
          <a:stretch/>
        </p:blipFill>
        <p:spPr>
          <a:xfrm>
            <a:off x="4508640" y="3753000"/>
            <a:ext cx="4635360" cy="3390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5" descr="28"/>
          <p:cNvPicPr/>
          <p:nvPr/>
        </p:nvPicPr>
        <p:blipFill>
          <a:blip r:embed="rId18"/>
          <a:stretch/>
        </p:blipFill>
        <p:spPr>
          <a:xfrm>
            <a:off x="4564080" y="0"/>
            <a:ext cx="4579920" cy="3749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6" descr="44"/>
          <p:cNvPicPr/>
          <p:nvPr/>
        </p:nvPicPr>
        <p:blipFill>
          <a:blip r:embed="rId19"/>
          <a:stretch/>
        </p:blipFill>
        <p:spPr>
          <a:xfrm>
            <a:off x="0" y="3714840"/>
            <a:ext cx="4551480" cy="3521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7" descr="18"/>
          <p:cNvPicPr/>
          <p:nvPr/>
        </p:nvPicPr>
        <p:blipFill>
          <a:blip r:embed="rId20"/>
          <a:stretch/>
        </p:blipFill>
        <p:spPr>
          <a:xfrm>
            <a:off x="2381400" y="1854360"/>
            <a:ext cx="4082760" cy="3117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8" descr="своя игра загл"/>
          <p:cNvPicPr/>
          <p:nvPr/>
        </p:nvPicPr>
        <p:blipFill>
          <a:blip r:embed="rId21"/>
          <a:stretch/>
        </p:blipFill>
        <p:spPr>
          <a:xfrm>
            <a:off x="0" y="0"/>
            <a:ext cx="9144000" cy="720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7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500"/>
                            </p:stCondLst>
                            <p:childTnLst>
                              <p:par>
                                <p:cTn id="52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5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5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2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45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6500"/>
                            </p:stCondLst>
                            <p:childTnLst>
                              <p:par>
                                <p:cTn id="73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8500"/>
                            </p:stCondLst>
                            <p:childTnLst>
                              <p:par>
                                <p:cTn id="7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500"/>
                            </p:stCondLst>
                            <p:childTnLst>
                              <p:par>
                                <p:cTn id="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1500"/>
                            </p:stCondLst>
                            <p:childTnLst>
                              <p:par>
                                <p:cTn id="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2500"/>
                            </p:stCondLst>
                            <p:childTnLst>
                              <p:par>
                                <p:cTn id="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3500"/>
                            </p:stCondLst>
                            <p:childTnLst>
                              <p:par>
                                <p:cTn id="1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9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6500"/>
                            </p:stCondLst>
                            <p:childTnLst>
                              <p:par>
                                <p:cTn id="113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8500"/>
                            </p:stCondLst>
                            <p:childTnLst>
                              <p:par>
                                <p:cTn id="117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500"/>
                            </p:stCondLst>
                            <p:childTnLst>
                              <p:par>
                                <p:cTn id="121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25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45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297720" y="5472000"/>
            <a:ext cx="154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7470360" y="5929200"/>
            <a:ext cx="167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70" name="Rectangle 7">
            <a:hlinkClick r:id="rId3" action="ppaction://hlinksldjump"/>
          </p:cNvPr>
          <p:cNvSpPr/>
          <p:nvPr/>
        </p:nvSpPr>
        <p:spPr>
          <a:xfrm>
            <a:off x="1352520" y="6438960"/>
            <a:ext cx="63057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1733400" y="2800440"/>
            <a:ext cx="535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С воздухом.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кеан, которого нет на карте и глобусе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717720" y="582768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685800" y="2857680"/>
            <a:ext cx="7943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438120" y="23814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От чего защищает атмосфера нашу Землю?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3240" y="55389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7412040" y="605304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457200" y="1523880"/>
            <a:ext cx="83818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От сильной жары и холода, от метеоритных дождей.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кеан, которого нет на карте и глобусе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819000" y="186696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Без чего нельзя обойтись при производстве мороженного?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3794040" y="550404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3240" y="559584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7659720" y="6338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3524400" y="1409760"/>
            <a:ext cx="245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ffff"/>
                </a:solidFill>
                <a:latin typeface="Times New Roman"/>
              </a:rPr>
              <a:t>Лёд.</a:t>
            </a:r>
            <a:endParaRPr b="0" lang="en-US" sz="6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85" name="Rectangle 6">
            <a:hlinkClick r:id="rId3" action="ppaction://hlinksldjump"/>
          </p:cNvPr>
          <p:cNvSpPr/>
          <p:nvPr/>
        </p:nvSpPr>
        <p:spPr>
          <a:xfrm>
            <a:off x="1295280" y="6477120"/>
            <a:ext cx="6438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Движение воздуха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914400" y="259092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Как называется прибор, который определяет направление движения ветра?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755880" y="565632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3240" y="53481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7659720" y="59961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1924200" y="1924200"/>
            <a:ext cx="579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Флюгер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92" name="Rectangle 6">
            <a:hlinkClick r:id="rId3" action="ppaction://hlinksldjump"/>
          </p:cNvPr>
          <p:cNvSpPr/>
          <p:nvPr/>
        </p:nvSpPr>
        <p:spPr>
          <a:xfrm>
            <a:off x="1333440" y="6458040"/>
            <a:ext cx="63626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3867120" y="571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ff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Движение воздуха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914400" y="2590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Как называется ветер, который дует на северо-запад?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3774960" y="575136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3240" y="52149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7659720" y="6014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533520" y="2381400"/>
            <a:ext cx="81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ffff"/>
                </a:solidFill>
                <a:latin typeface="Times New Roman"/>
              </a:rPr>
              <a:t>Юго-восточный ветер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Движение воздуха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647640" y="1847880"/>
            <a:ext cx="786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Как человек использует силу ветра?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3832200" y="569448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72680" cy="104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Красный раун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95360" y="1200240"/>
          <a:ext cx="8400960" cy="4649760"/>
        </p:xfrm>
        <a:graphic>
          <a:graphicData uri="http://schemas.openxmlformats.org/drawingml/2006/table">
            <a:tbl>
              <a:tblPr/>
              <a:tblGrid>
                <a:gridCol w="1504800"/>
                <a:gridCol w="1295640"/>
                <a:gridCol w="1400040"/>
                <a:gridCol w="1400040"/>
                <a:gridCol w="1400400"/>
                <a:gridCol w="1400040"/>
              </a:tblGrid>
              <a:tr h="99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войства воздуха</a:t>
                      </a:r>
                      <a:endParaRPr b="0" lang="en-US" sz="18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здух – смесь газов</a:t>
                      </a:r>
                      <a:endParaRPr b="0" lang="en-US" sz="18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кеан, которого нет на карте т глобусе</a:t>
                      </a:r>
                      <a:endParaRPr b="0" lang="en-US" sz="18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вижение воздуха</a:t>
                      </a:r>
                      <a:endParaRPr b="0" lang="en-US" sz="18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мпература воздуха</a:t>
                      </a:r>
                      <a:endParaRPr b="0" lang="en-US" sz="18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2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3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4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5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Text Box 125">
            <a:hlinkClick r:id="rId26" action="ppaction://hlinksldjump"/>
          </p:cNvPr>
          <p:cNvSpPr/>
          <p:nvPr/>
        </p:nvSpPr>
        <p:spPr>
          <a:xfrm>
            <a:off x="3700080" y="6278400"/>
            <a:ext cx="167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  <a:hlinkClick r:id="rId27" action="ppaction://hlinksldjump"/>
              </a:rPr>
              <a:t>ВЫХОД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0" y="5500800"/>
            <a:ext cx="13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7659720" y="586260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47680" y="1009800"/>
            <a:ext cx="82296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Строит ветряные мельницы, ветряные электростанции, ставит на лодках паруса и попутный ветер помогает плыть в море.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06" name="Rectangle 6">
            <a:hlinkClick r:id="rId3" action="ppaction://hlinksldjump"/>
          </p:cNvPr>
          <p:cNvSpPr/>
          <p:nvPr/>
        </p:nvSpPr>
        <p:spPr>
          <a:xfrm>
            <a:off x="1295280" y="6477120"/>
            <a:ext cx="6438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Движение воздуха</a:t>
            </a:r>
            <a:br>
              <a:rPr sz="48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743040" y="1962000"/>
            <a:ext cx="7619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Вам необходимо построить животноводческую ферму на краю села. Где вы её построите, если в вашей местности преобладают северо-западные ветры?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3658320" y="5424480"/>
            <a:ext cx="157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231840" y="52912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7659720" y="59770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2" name="Rectangle 6">
            <a:hlinkClick r:id="rId3" action="ppaction://hlinksldjump"/>
          </p:cNvPr>
          <p:cNvSpPr/>
          <p:nvPr/>
        </p:nvSpPr>
        <p:spPr>
          <a:xfrm>
            <a:off x="1257480" y="6477120"/>
            <a:ext cx="6457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552600" y="838080"/>
            <a:ext cx="802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На юго-восточной окраине села, чтобы ветер  уносил запахи с фермы.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Движение воздуха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3850920" y="58086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609480" y="1962000"/>
            <a:ext cx="8115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Во время расследования один из подозреваемых утверждал, что во время преступления днём он гулял по набережной моря и затратил почти час, пытаясь достать из воды свою шляпу, унесённую лёгким ветром, которую отгоняло всё дальше от берега. Почему рассказ заставил усомниться следователя в правдивости слов подозреваемого?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3240" y="54435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7659720" y="58816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609480" y="380880"/>
            <a:ext cx="8077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0" name="Rectangle 7">
            <a:hlinkClick r:id="rId3" action="ppaction://hlinksldjump"/>
          </p:cNvPr>
          <p:cNvSpPr/>
          <p:nvPr/>
        </p:nvSpPr>
        <p:spPr>
          <a:xfrm>
            <a:off x="1257480" y="6477120"/>
            <a:ext cx="64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685800" y="1771560"/>
            <a:ext cx="779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Ветер днём дует не в сторону моря, а в сторону суши.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Температура воздуха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914400" y="2095560"/>
            <a:ext cx="762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Один из парашютистов прыгнул с высоты 1000 м, а другой – 5000 м. Какой из них ощутил более низкую температуру воздуха и почему?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658320" y="5538960"/>
            <a:ext cx="157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1026"/>
          <p:cNvSpPr/>
          <p:nvPr/>
        </p:nvSpPr>
        <p:spPr>
          <a:xfrm>
            <a:off x="3240" y="584352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6" name="Text Box 1027"/>
          <p:cNvSpPr/>
          <p:nvPr/>
        </p:nvSpPr>
        <p:spPr>
          <a:xfrm>
            <a:off x="7659720" y="586260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7" name="Text Box 1062"/>
          <p:cNvSpPr/>
          <p:nvPr/>
        </p:nvSpPr>
        <p:spPr>
          <a:xfrm>
            <a:off x="1752480" y="1143000"/>
            <a:ext cx="5372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Второй, чем выше от поверхности Земли, тем воздух холоднее.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Температура воздуха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762120" y="2133720"/>
            <a:ext cx="761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Почему альпинисты берут с собой в горы тёплую одежду и баллоны с кислородом?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813120" y="56754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270000" y="54435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7659720" y="609120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2577960" y="2432160"/>
            <a:ext cx="40514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34" name="Text Box 14"/>
          <p:cNvSpPr/>
          <p:nvPr/>
        </p:nvSpPr>
        <p:spPr>
          <a:xfrm>
            <a:off x="1219320" y="647640"/>
            <a:ext cx="680076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Высоко в горах поверхность земли остывает быстрее, поэтому воздух там холодный. Воздух в горах разреженный, людям трудно дышать.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Температура воздуха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933480" y="222876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Где теплее в полдень: на ровном месте у подножия холма или на склоне холма?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3658320" y="5729400"/>
            <a:ext cx="157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войства воздуха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371600" y="2666880"/>
            <a:ext cx="6400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Какие свойства воздуха можно доказать с помощью велосипедного насоса?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3692880" y="6059880"/>
            <a:ext cx="1577880" cy="667800"/>
          </a:xfrm>
          <a:custGeom>
            <a:avLst/>
            <a:gdLst>
              <a:gd name="textAreaLeft" fmla="*/ 43200 w 1577880"/>
              <a:gd name="textAreaRight" fmla="*/ 1534680 w 15778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51021" h="21600">
                <a:moveTo>
                  <a:pt x="0" y="0"/>
                </a:moveTo>
                <a:lnTo>
                  <a:pt x="51021" y="0"/>
                </a:lnTo>
                <a:lnTo>
                  <a:pt x="51021" y="21600"/>
                </a:lnTo>
                <a:lnTo>
                  <a:pt x="0" y="21600"/>
                </a:lnTo>
                <a:close/>
              </a:path>
              <a:path fill="lightenLess" w="51021" h="21600">
                <a:moveTo>
                  <a:pt x="0" y="0"/>
                </a:moveTo>
                <a:lnTo>
                  <a:pt x="51021" y="0"/>
                </a:lnTo>
                <a:lnTo>
                  <a:pt x="49621" y="1400"/>
                </a:lnTo>
                <a:lnTo>
                  <a:pt x="1400" y="1400"/>
                </a:lnTo>
                <a:close/>
              </a:path>
              <a:path fill="darken" w="51021" h="21600">
                <a:moveTo>
                  <a:pt x="51021" y="0"/>
                </a:moveTo>
                <a:lnTo>
                  <a:pt x="51021" y="21600"/>
                </a:lnTo>
                <a:lnTo>
                  <a:pt x="49621" y="20200"/>
                </a:lnTo>
                <a:lnTo>
                  <a:pt x="49621" y="1400"/>
                </a:lnTo>
                <a:close/>
              </a:path>
              <a:path fill="darkenLess" w="51021" h="21600">
                <a:moveTo>
                  <a:pt x="51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21" y="20200"/>
                </a:lnTo>
                <a:close/>
              </a:path>
              <a:path fill="lighten" w="51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1026"/>
          <p:cNvSpPr/>
          <p:nvPr/>
        </p:nvSpPr>
        <p:spPr>
          <a:xfrm>
            <a:off x="3240" y="59961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39" name="Text Box 1027"/>
          <p:cNvSpPr/>
          <p:nvPr/>
        </p:nvSpPr>
        <p:spPr>
          <a:xfrm>
            <a:off x="7659720" y="59961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40" name="Text Box 1033"/>
          <p:cNvSpPr/>
          <p:nvPr/>
        </p:nvSpPr>
        <p:spPr>
          <a:xfrm>
            <a:off x="1647720" y="450720"/>
            <a:ext cx="59245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На ровном месте в полдень теплее. Чем круче падают солнечные лучи, тем лучше нагревают поверхность Земли, а значит, лучше нагревается воздух над ней.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41" name="Rectangle 1035"/>
          <p:cNvSpPr/>
          <p:nvPr/>
        </p:nvSpPr>
        <p:spPr>
          <a:xfrm>
            <a:off x="1257480" y="6477120"/>
            <a:ext cx="6476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Температура воздуха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990720" y="1771560"/>
            <a:ext cx="76197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В жаркий день термометр на берегу моря показывал +33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º</a:t>
            </a: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С. Группа пассажиров села на теплоход, и он отчалил от берега. Чем дальше теплоход отдалялся от берега, тем становилось прохладнее, хотя солнце грело по-прежнему. Термометр на палубе показывал  +29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º</a:t>
            </a: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С. Почему снизилась температура воздуха по мере удаления теплохода от берега?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4079520" y="592776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3240" y="536724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7659720" y="60339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555480" y="946080"/>
            <a:ext cx="2927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1295280" y="6477120"/>
            <a:ext cx="6438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1009800" y="895320"/>
            <a:ext cx="6286320" cy="52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Днём суша нагревается больше, чем вода. Поэтому воздух, нагретый от суши и от воды, будет теплее над сушей и прохладнее над водой.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Температура воздуха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971640" y="1943280"/>
            <a:ext cx="761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ffff"/>
                </a:solidFill>
                <a:latin typeface="Times New Roman"/>
              </a:rPr>
              <a:t>Счастливый случай!</a:t>
            </a:r>
            <a:endParaRPr b="0" lang="en-US" sz="7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3927240" y="57942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270000" y="561492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7614000" y="5850000"/>
            <a:ext cx="152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выход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55" name="Rectangle 12"/>
          <p:cNvSpPr/>
          <p:nvPr/>
        </p:nvSpPr>
        <p:spPr>
          <a:xfrm>
            <a:off x="1276200" y="6496200"/>
            <a:ext cx="64198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56" name="Text Box 13"/>
          <p:cNvSpPr/>
          <p:nvPr/>
        </p:nvSpPr>
        <p:spPr>
          <a:xfrm>
            <a:off x="1123920" y="1504800"/>
            <a:ext cx="622944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Поздравляем!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Вы получаете указанную сумму баллов без ответа!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57" name="Text Box 14"/>
          <p:cNvSpPr/>
          <p:nvPr/>
        </p:nvSpPr>
        <p:spPr>
          <a:xfrm>
            <a:off x="343080" y="0"/>
            <a:ext cx="880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си3"/>
          <p:cNvPicPr/>
          <p:nvPr/>
        </p:nvPicPr>
        <p:blipFill>
          <a:blip r:embed="rId1"/>
          <a:stretch/>
        </p:blipFill>
        <p:spPr>
          <a:xfrm>
            <a:off x="457200" y="343080"/>
            <a:ext cx="8267760" cy="574344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3"/>
          <p:cNvSpPr/>
          <p:nvPr/>
        </p:nvSpPr>
        <p:spPr>
          <a:xfrm>
            <a:off x="3506400" y="625464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ВОПРОС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3"/>
          <p:cNvSpPr/>
          <p:nvPr/>
        </p:nvSpPr>
        <p:spPr>
          <a:xfrm>
            <a:off x="1906560" y="4014720"/>
            <a:ext cx="5180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ff00"/>
                </a:solidFill>
                <a:latin typeface="Times New Roman"/>
              </a:rPr>
              <a:t>аукцион</a:t>
            </a:r>
            <a:endParaRPr b="0" lang="en-US" sz="10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61" name="WordArt 4"/>
          <p:cNvSpPr txBox="1"/>
          <p:nvPr/>
        </p:nvSpPr>
        <p:spPr>
          <a:xfrm>
            <a:off x="1343160" y="1133640"/>
            <a:ext cx="640080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прос</a:t>
            </a:r>
            <a:endParaRPr b="0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3698280" y="625464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ВОПРОС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си3"/>
          <p:cNvPicPr/>
          <p:nvPr/>
        </p:nvPicPr>
        <p:blipFill>
          <a:blip r:embed="rId1"/>
          <a:stretch/>
        </p:blipFill>
        <p:spPr>
          <a:xfrm>
            <a:off x="457200" y="343080"/>
            <a:ext cx="8267760" cy="574344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3"/>
          <p:cNvSpPr/>
          <p:nvPr/>
        </p:nvSpPr>
        <p:spPr>
          <a:xfrm>
            <a:off x="3506400" y="625464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ВОПРОС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1906560" y="4014720"/>
            <a:ext cx="5180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ff00"/>
                </a:solidFill>
                <a:latin typeface="Times New Roman"/>
              </a:rPr>
              <a:t>аукцион</a:t>
            </a:r>
            <a:endParaRPr b="0" lang="en-US" sz="10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66" name="WordArt 3"/>
          <p:cNvSpPr txBox="1"/>
          <p:nvPr/>
        </p:nvSpPr>
        <p:spPr>
          <a:xfrm>
            <a:off x="1343160" y="1133640"/>
            <a:ext cx="640080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прос</a:t>
            </a:r>
            <a:endParaRPr b="0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3622320" y="625464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ВОПРОС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1906560" y="4014720"/>
            <a:ext cx="5180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ff00"/>
                </a:solidFill>
                <a:latin typeface="Times New Roman"/>
              </a:rPr>
              <a:t>аукцион</a:t>
            </a:r>
            <a:endParaRPr b="0" lang="en-US" sz="10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69" name="WordArt 3"/>
          <p:cNvSpPr txBox="1"/>
          <p:nvPr/>
        </p:nvSpPr>
        <p:spPr>
          <a:xfrm>
            <a:off x="1343160" y="1133640"/>
            <a:ext cx="640080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прос</a:t>
            </a:r>
            <a:endParaRPr b="0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641040" y="625464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ВОПРОС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948240" y="2000160"/>
            <a:ext cx="729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ffff"/>
                </a:solidFill>
                <a:latin typeface="Times New Roman"/>
              </a:rPr>
              <a:t>Воздух сжимается, </a:t>
            </a:r>
            <a:endParaRPr b="0" lang="en-US" sz="54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ffff"/>
                </a:solidFill>
                <a:latin typeface="Times New Roman"/>
              </a:rPr>
              <a:t>сжатый воздух упругий.</a:t>
            </a:r>
            <a:endParaRPr b="0" lang="en-US" sz="5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440" y="5675400"/>
            <a:ext cx="136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7479000" y="6132600"/>
            <a:ext cx="152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8" name="Rectangle 6">
            <a:hlinkClick r:id="rId3" action="ppaction://hlinksldjump"/>
          </p:cNvPr>
          <p:cNvSpPr/>
          <p:nvPr/>
        </p:nvSpPr>
        <p:spPr>
          <a:xfrm>
            <a:off x="1428840" y="6400800"/>
            <a:ext cx="611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си3"/>
          <p:cNvPicPr/>
          <p:nvPr/>
        </p:nvPicPr>
        <p:blipFill>
          <a:blip r:embed="rId1"/>
          <a:stretch/>
        </p:blipFill>
        <p:spPr>
          <a:xfrm>
            <a:off x="457200" y="343080"/>
            <a:ext cx="8267760" cy="574344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3"/>
          <p:cNvSpPr/>
          <p:nvPr/>
        </p:nvSpPr>
        <p:spPr>
          <a:xfrm>
            <a:off x="3506400" y="625464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ВОПРОС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990880" y="304920"/>
            <a:ext cx="556272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00"/>
                </a:solidFill>
                <a:latin typeface="Times New Roman"/>
              </a:rPr>
              <a:t>Спасибо Вам за участие в игре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800280" y="3441600"/>
            <a:ext cx="756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00"/>
                </a:solidFill>
                <a:latin typeface="Times New Roman"/>
              </a:rPr>
              <a:t>Надеюсь,  что Вам понравилось</a:t>
            </a:r>
            <a:r>
              <a:rPr b="0" lang="en-US" sz="72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72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275" name="Picture 5" descr="си2"/>
          <p:cNvPicPr/>
          <p:nvPr/>
        </p:nvPicPr>
        <p:blipFill>
          <a:blip r:embed="rId1"/>
          <a:stretch/>
        </p:blipFill>
        <p:spPr>
          <a:xfrm>
            <a:off x="0" y="0"/>
            <a:ext cx="2755800" cy="25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войства воздуха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762120" y="251460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Изобразите экологический знак «Берегите воду!»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3692880" y="6059880"/>
            <a:ext cx="1577880" cy="667800"/>
          </a:xfrm>
          <a:custGeom>
            <a:avLst/>
            <a:gdLst>
              <a:gd name="textAreaLeft" fmla="*/ 43200 w 1577880"/>
              <a:gd name="textAreaRight" fmla="*/ 1534680 w 15778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51021" h="21600">
                <a:moveTo>
                  <a:pt x="0" y="0"/>
                </a:moveTo>
                <a:lnTo>
                  <a:pt x="51021" y="0"/>
                </a:lnTo>
                <a:lnTo>
                  <a:pt x="51021" y="21600"/>
                </a:lnTo>
                <a:lnTo>
                  <a:pt x="0" y="21600"/>
                </a:lnTo>
                <a:close/>
              </a:path>
              <a:path fill="lightenLess" w="51021" h="21600">
                <a:moveTo>
                  <a:pt x="0" y="0"/>
                </a:moveTo>
                <a:lnTo>
                  <a:pt x="51021" y="0"/>
                </a:lnTo>
                <a:lnTo>
                  <a:pt x="49621" y="1400"/>
                </a:lnTo>
                <a:lnTo>
                  <a:pt x="1400" y="1400"/>
                </a:lnTo>
                <a:close/>
              </a:path>
              <a:path fill="darken" w="51021" h="21600">
                <a:moveTo>
                  <a:pt x="51021" y="0"/>
                </a:moveTo>
                <a:lnTo>
                  <a:pt x="51021" y="21600"/>
                </a:lnTo>
                <a:lnTo>
                  <a:pt x="49621" y="20200"/>
                </a:lnTo>
                <a:lnTo>
                  <a:pt x="49621" y="1400"/>
                </a:lnTo>
                <a:close/>
              </a:path>
              <a:path fill="darkenLess" w="51021" h="21600">
                <a:moveTo>
                  <a:pt x="51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21" y="20200"/>
                </a:lnTo>
                <a:close/>
              </a:path>
              <a:path fill="lighten" w="51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609480" y="1276200"/>
            <a:ext cx="7677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Закрывай кран!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Не лей воду зря!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и т.д.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3240" y="55576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7659720" y="607212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6" name="Rectangle 9">
            <a:hlinkClick r:id="rId3" action="ppaction://hlinksldjump"/>
          </p:cNvPr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войства воздуха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300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838080" y="228600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Чтобы суп или каша медленнее остывали, в старину их укутывали шубой. Лёд или мороженное, чтобы они быстро не таяли тоже укутывали в шубы. Мы же шубы надеваем, чтобы не замёрзнуть зимой. Как это объяснить?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986640" y="6230880"/>
            <a:ext cx="14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07:12:29Z</dcterms:created>
  <dc:creator>Пользователь</dc:creator>
  <dc:description/>
  <dc:language>en-US</dc:language>
  <cp:lastModifiedBy>User</cp:lastModifiedBy>
  <dcterms:modified xsi:type="dcterms:W3CDTF">2011-03-01T19:32:06Z</dcterms:modified>
  <cp:revision>106</cp:revision>
  <dc:subject/>
  <dc:title>Презентация PowerPoint</dc:title>
</cp:coreProperties>
</file>