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CE6-90EC-41FC-8BF1-1C11CFCA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746-B039-418A-9E74-7474C03C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6F2-8036-4424-9207-B296F4FE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65C-3436-439C-AC19-18FC97EF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9C8D-6E91-4B28-99A3-1C46A5E3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E8F-EEE0-4D5E-A86C-0B37534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B54-6557-4C0F-ACD5-04BB305D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B8A-E511-4B22-97F6-D253F15C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37AF-7E69-4699-A3B4-EDBA4A7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2148-4050-431D-83A3-1A28E112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C30-C4BA-4483-95C2-AD368E27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031-8B4C-4623-BC53-187A085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F08-2464-47BF-A822-5924FFE1D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Рамка 5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5181480" y="4724280"/>
            <a:ext cx="266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Учитель ИЗ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МОУ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990000"/>
                </a:solidFill>
                <a:latin typeface="Mistral"/>
              </a:rPr>
              <a:t>СОШ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Девяшин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066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Женские украш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07664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2933640" cy="2781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9480" y="380880"/>
            <a:ext cx="2657520" cy="2772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1320" y="304920"/>
            <a:ext cx="2724120" cy="2550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62120" y="3429000"/>
            <a:ext cx="2563560" cy="28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124080" y="2362320"/>
            <a:ext cx="2810160" cy="289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3009960" cy="270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3504960" cy="255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505320" y="2895480"/>
            <a:ext cx="238752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494160" cy="3733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313080" cy="390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24080" y="2514600"/>
            <a:ext cx="2998800" cy="408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3348000" cy="277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567400" y="228600"/>
            <a:ext cx="3187800" cy="4419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3618000"/>
            <a:ext cx="3352680" cy="3009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http://www.larussie.narod.ru/odezhda/od03-04.jpg"/>
          <p:cNvPicPr/>
          <p:nvPr/>
        </p:nvPicPr>
        <p:blipFill>
          <a:blip r:embed="rId2"/>
          <a:stretch/>
        </p:blipFill>
        <p:spPr>
          <a:xfrm>
            <a:off x="5334120" y="990720"/>
            <a:ext cx="3200400" cy="2863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1523880" y="2134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  <a:ea typeface="Times New Roman"/>
              </a:rPr>
              <a:t>Бусы и подвес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28600" y="106668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Бусы носили женщины разных сословий, это было одно из самых популярных шейных укра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2514600"/>
            <a:ext cx="280836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3809880" y="449568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Подвески носились на длинных шнурах или цепочках и крепились к платью на груди или на поясе. Чаще всего привески выступали в роли оберегов и исполнялись в форме языческих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991960" y="215280"/>
            <a:ext cx="270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2268"/>
                </a:solidFill>
                <a:latin typeface="Arial"/>
                <a:ea typeface="Times New Roman"/>
              </a:rPr>
              <a:t>Брасл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http://www.larussie.narod.ru/odezhda/od03-01.jpg"/>
          <p:cNvPicPr/>
          <p:nvPr/>
        </p:nvPicPr>
        <p:blipFill>
          <a:blip r:embed="rId2"/>
          <a:stretch/>
        </p:blipFill>
        <p:spPr>
          <a:xfrm>
            <a:off x="5334120" y="1828800"/>
            <a:ext cx="3448080" cy="25858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304920" y="9144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     </a:t>
            </a:r>
            <a:r>
              <a:rPr b="1" i="1" lang="en-US" sz="2000" spc="-1" strike="noStrike">
                <a:solidFill>
                  <a:srgbClr val="222268"/>
                </a:solidFill>
                <a:latin typeface="Arial"/>
              </a:rPr>
              <a:t>Женщины Древней Руси очень любили украшать себя браслетами, особенно распространёнными были стеклянные брасле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Картинка 3 из 205"/>
          <p:cNvPicPr/>
          <p:nvPr/>
        </p:nvPicPr>
        <p:blipFill>
          <a:blip r:embed="rId3"/>
          <a:stretch/>
        </p:blipFill>
        <p:spPr>
          <a:xfrm>
            <a:off x="457200" y="3048120"/>
            <a:ext cx="4800600" cy="339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3500280" cy="375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6668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евичьи головные уб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733480" cy="2710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62720" y="990720"/>
            <a:ext cx="3314520" cy="4012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19520" y="2590920"/>
            <a:ext cx="3055680" cy="399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4191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я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Женские головные уб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5880" y="1143000"/>
            <a:ext cx="2765520" cy="3687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2938320" cy="29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430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352680" y="2362320"/>
            <a:ext cx="2519640" cy="3687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8620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ко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3122640" y="138960"/>
            <a:ext cx="266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Кокош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85800" y="8380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Слово "кокошник" происходит от древнеславянского слова "кокош", означающего курицу-наседку или пе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user\Pictures\artlib_gallery-13897-s.jpg"/>
          <p:cNvPicPr/>
          <p:nvPr/>
        </p:nvPicPr>
        <p:blipFill>
          <a:blip r:embed="rId2"/>
          <a:stretch/>
        </p:blipFill>
        <p:spPr>
          <a:xfrm>
            <a:off x="304920" y="1600200"/>
            <a:ext cx="2863800" cy="350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Pictures\003.jpg"/>
          <p:cNvPicPr/>
          <p:nvPr/>
        </p:nvPicPr>
        <p:blipFill>
          <a:blip r:embed="rId3"/>
          <a:stretch/>
        </p:blipFill>
        <p:spPr>
          <a:xfrm>
            <a:off x="6022800" y="1676520"/>
            <a:ext cx="28083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user\Pictures\кика.jpg"/>
          <p:cNvPicPr/>
          <p:nvPr/>
        </p:nvPicPr>
        <p:blipFill>
          <a:blip r:embed="rId4"/>
          <a:stretch/>
        </p:blipFill>
        <p:spPr>
          <a:xfrm>
            <a:off x="3124080" y="2895480"/>
            <a:ext cx="3029040" cy="358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298240" y="22860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Форма кокош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costumes.org/history/racinet/racinetrussia.jpg"/>
          <p:cNvPicPr/>
          <p:nvPr/>
        </p:nvPicPr>
        <p:blipFill>
          <a:blip r:embed="rId2"/>
          <a:stretch/>
        </p:blipFill>
        <p:spPr>
          <a:xfrm>
            <a:off x="1295280" y="933480"/>
            <a:ext cx="6782040" cy="59245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858000" y="152388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шения на кокошни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4040280" cy="472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105520" y="1371600"/>
            <a:ext cx="3489120" cy="464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oner-XP</cp:lastModifiedBy>
  <dcterms:modified xsi:type="dcterms:W3CDTF">2011-03-13T19:52:28Z</dcterms:modified>
  <cp:revision>1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