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E72-1B72-4130-AC28-AB259C68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D15-4027-40B2-A623-439DC509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A7C-EE9D-494E-865B-B8A0A113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417-CA3D-4235-A5FC-C9870912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2C3-1BDC-441E-8EDD-C3C81FE9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9E78-636B-407F-970F-809B59F8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82E-7DE6-4CC0-AE84-584F2FA5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6AA5-57D7-47BA-A172-32D371F1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587-AC15-4DC6-894B-A4331416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347-1E3D-4935-8477-6066EDFA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B6B-BC48-4C77-9679-3BD150E0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386-C3D1-4554-AEB9-8BA7B85F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AEEB-EC64-45A2-86C9-F0C11AEAA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5181480" y="4724280"/>
            <a:ext cx="266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Mistral"/>
              </a:rPr>
              <a:t>Учитель ИЗ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Mistral"/>
              </a:rPr>
              <a:t>МОУ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990000"/>
                </a:solidFill>
                <a:latin typeface="Mistral"/>
              </a:rPr>
              <a:t>СОШ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№ 1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Девяшин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066680"/>
            <a:ext cx="350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Женские украш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4076640" cy="608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З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2933640" cy="2781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9480" y="380880"/>
            <a:ext cx="2657520" cy="277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791320" y="304920"/>
            <a:ext cx="2724120" cy="2550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62120" y="3429000"/>
            <a:ext cx="2563560" cy="2895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124080" y="2362320"/>
            <a:ext cx="2810160" cy="289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15000" y="990720"/>
            <a:ext cx="3009960" cy="2701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3520" y="1143000"/>
            <a:ext cx="3504960" cy="2552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505320" y="2895480"/>
            <a:ext cx="2387520" cy="358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Ле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10080" y="304920"/>
            <a:ext cx="3494160" cy="3733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3313080" cy="3909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124080" y="2514600"/>
            <a:ext cx="2998800" cy="408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3348000" cy="2778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567400" y="228600"/>
            <a:ext cx="3187800" cy="441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76720" y="3618000"/>
            <a:ext cx="3352680" cy="3009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http://www.larussie.narod.ru/odezhda/od03-04.jpg"/>
          <p:cNvPicPr/>
          <p:nvPr/>
        </p:nvPicPr>
        <p:blipFill>
          <a:blip r:embed="rId2"/>
          <a:stretch/>
        </p:blipFill>
        <p:spPr>
          <a:xfrm>
            <a:off x="5334120" y="990720"/>
            <a:ext cx="3200400" cy="2863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1523880" y="2134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2268"/>
                </a:solidFill>
                <a:latin typeface="Arial"/>
                <a:ea typeface="Times New Roman"/>
              </a:rPr>
              <a:t>Бусы и подве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28600" y="1066680"/>
            <a:ext cx="472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22268"/>
                </a:solidFill>
                <a:latin typeface="Arial"/>
              </a:rPr>
              <a:t>Бусы носили женщины разных сословий, это было одно из самых популярных шейных украш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480" y="2514600"/>
            <a:ext cx="280836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3809880" y="449568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22268"/>
                </a:solidFill>
                <a:latin typeface="Arial"/>
              </a:rPr>
              <a:t>Подвески носились на длинных шнурах или цепочках и крепились к платью на груди или на поясе. Чаще всего привески выступали в роли оберегов и исполнялись в форме языческих симв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991960" y="215280"/>
            <a:ext cx="270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2268"/>
                </a:solidFill>
                <a:latin typeface="Arial"/>
                <a:ea typeface="Times New Roman"/>
              </a:rPr>
              <a:t>Брасл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http://www.larussie.narod.ru/odezhda/od03-01.jpg"/>
          <p:cNvPicPr/>
          <p:nvPr/>
        </p:nvPicPr>
        <p:blipFill>
          <a:blip r:embed="rId2"/>
          <a:stretch/>
        </p:blipFill>
        <p:spPr>
          <a:xfrm>
            <a:off x="5334120" y="1828800"/>
            <a:ext cx="3448080" cy="25858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304920" y="9144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22268"/>
                </a:solidFill>
                <a:latin typeface="Arial"/>
              </a:rPr>
              <a:t>     </a:t>
            </a:r>
            <a:r>
              <a:rPr b="1" i="1" lang="en-US" sz="2000" spc="-1" strike="noStrike">
                <a:solidFill>
                  <a:srgbClr val="222268"/>
                </a:solidFill>
                <a:latin typeface="Arial"/>
              </a:rPr>
              <a:t>Женщины Древней Руси очень любили украшать себя браслетами, особенно распространёнными были стеклянные брасл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Картинка 3 из 205"/>
          <p:cNvPicPr/>
          <p:nvPr/>
        </p:nvPicPr>
        <p:blipFill>
          <a:blip r:embed="rId3"/>
          <a:stretch/>
        </p:blipFill>
        <p:spPr>
          <a:xfrm>
            <a:off x="457200" y="3048120"/>
            <a:ext cx="4800600" cy="339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ловные уб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038480" y="266688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3500280" cy="375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228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Девичьи головные уб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733480" cy="2710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562720" y="990720"/>
            <a:ext cx="3314520" cy="4012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819520" y="2590920"/>
            <a:ext cx="3055680" cy="399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4191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я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Женские головные уб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5880" y="1143000"/>
            <a:ext cx="2765520" cy="3687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2938320" cy="29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43000" y="4419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352680" y="2362320"/>
            <a:ext cx="2519640" cy="3687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8620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кош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3122640" y="138960"/>
            <a:ext cx="266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Times New Roman"/>
              </a:rPr>
              <a:t>Кокош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685800" y="838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Arial"/>
              </a:rPr>
              <a:t>Слово "кокошник" происходит от древнеславянского слова "кокош", означающего курицу-наседку или пет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Users\user\Pictures\artlib_gallery-13897-s.jpg"/>
          <p:cNvPicPr/>
          <p:nvPr/>
        </p:nvPicPr>
        <p:blipFill>
          <a:blip r:embed="rId2"/>
          <a:stretch/>
        </p:blipFill>
        <p:spPr>
          <a:xfrm>
            <a:off x="304920" y="1600200"/>
            <a:ext cx="2863800" cy="350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user\Pictures\003.jpg"/>
          <p:cNvPicPr/>
          <p:nvPr/>
        </p:nvPicPr>
        <p:blipFill>
          <a:blip r:embed="rId3"/>
          <a:stretch/>
        </p:blipFill>
        <p:spPr>
          <a:xfrm>
            <a:off x="6022800" y="1676520"/>
            <a:ext cx="280836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user\Pictures\кика.jpg"/>
          <p:cNvPicPr/>
          <p:nvPr/>
        </p:nvPicPr>
        <p:blipFill>
          <a:blip r:embed="rId4"/>
          <a:stretch/>
        </p:blipFill>
        <p:spPr>
          <a:xfrm>
            <a:off x="3124080" y="2895480"/>
            <a:ext cx="3029040" cy="358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298240" y="228600"/>
            <a:ext cx="465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Форма кокош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www.costumes.org/history/racinet/racinetrussia.jpg"/>
          <p:cNvPicPr/>
          <p:nvPr/>
        </p:nvPicPr>
        <p:blipFill>
          <a:blip r:embed="rId2"/>
          <a:stretch/>
        </p:blipFill>
        <p:spPr>
          <a:xfrm>
            <a:off x="1295280" y="933480"/>
            <a:ext cx="6782040" cy="59245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6858000" y="1523880"/>
            <a:ext cx="2057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крашения на кокошни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4040280" cy="472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105520" y="1371600"/>
            <a:ext cx="3489120" cy="464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Loner-XP</cp:lastModifiedBy>
  <dcterms:modified xsi:type="dcterms:W3CDTF">2011-03-13T19:52:28Z</dcterms:modified>
  <cp:revision>1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