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BA0-E8D5-41DD-B1E5-604D4EDC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3BA-215B-48B8-8DD6-D398EEBF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CB7-88BB-4171-997A-0222EC0A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015-7347-4E1F-9E22-688FDC29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E8C2-E984-4959-9D7E-A8909D25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FB7B-9AE0-49F9-ACC1-5D16D2EA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B14E-99B3-4FC0-886D-44EF1363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67C6-74C1-491E-AC2D-4DA0F71A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4E7F-1DF6-4176-92E8-2A1B18C8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57F9-32FC-4DCA-8BDE-189C8606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D0DD-B445-420E-B7B2-5F12ACC5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50A-0989-44B9-95BF-69F260A0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FF8A-3314-4A75-9FBD-42AFC49F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8999-048E-4A71-AB09-CE018C1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0CFB-F520-498A-8E03-0CD268F9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2CA2-A4EB-46A7-9BC4-E9601EFC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78AC-2E85-4316-83BC-6845A725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080-9132-4BB1-9130-DD913117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B62-062D-4DC9-8927-0650BC3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824-C3C5-4862-8088-EDECFF41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24C-BC10-418E-8872-A9A41C57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643-D95B-4745-B318-31CF5E92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28F-DA39-4852-9800-A6FBF85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C2A-0124-4D98-9344-39FD228D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C14D-BF22-4766-BA3B-286892F5004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997D-C8BC-4D23-97EF-EA8FDD89197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Знакомим детей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с геометрическими фигурами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Игра «Нарисуй картинку»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03280" y="407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Учитель-дефектолог: Борисова А.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г.С-Пб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532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Восприятие формы – одна из составляющих сенсорного развития ребенка, имеет определяющее значение для формирования зрительных представлений о предметах и явлениях действи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Игра «Нарисуй картинку» поможет вам познакомить детей дошкольного возраста с плоскостными геометрическими фигурами, будет развивать у ребенка зрительное внимание, воображение, зрительно-пространственную ориентировку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Игры имеют разную степень слож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66364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800000"/>
                </a:solidFill>
                <a:uFillTx/>
                <a:latin typeface="Arial"/>
              </a:rPr>
              <a:t>Варианты игры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На первом этапе ребенку предлагается накладывать геометрические фигуры на образец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165420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59640" y="3141720"/>
            <a:ext cx="1603440" cy="22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3240000" cy="2316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097080" cy="22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о мере усвоения приема наложения геометрической фигуры на образец, ребенку предлагают выложить картинку по образц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1519200" cy="197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32720" y="3213000"/>
            <a:ext cx="15508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Варианты образц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1462320" cy="2101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24098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484360" y="3789360"/>
            <a:ext cx="1638360" cy="223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838840" y="3716280"/>
            <a:ext cx="156204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562400" cy="219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1563480" cy="21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987640" y="3284640"/>
            <a:ext cx="157644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443640" y="3933720"/>
            <a:ext cx="1447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От занятия к занятию можно усложнять задания: предложить использовать другие геометрические фигуры, вырезанные из картона, для дополнения картинки (дверь - из прямоугольника, окно – из квадрата, травку – из полосок и т.д.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1490760" cy="201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5717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 эту игру можно играть не только за столом, но и на ковре сразу нескольким детям, создавая не только отдельные картинки, но и сюжеты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1935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8:31:16Z</dcterms:created>
  <dc:creator>наталья</dc:creator>
  <dc:description/>
  <dc:language>en-US</dc:language>
  <cp:lastModifiedBy>наталья</cp:lastModifiedBy>
  <dcterms:modified xsi:type="dcterms:W3CDTF">2011-07-11T21:33:20Z</dcterms:modified>
  <cp:revision>2</cp:revision>
  <dc:subject/>
  <dc:title>Слайд 1</dc:title>
</cp:coreProperties>
</file>