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AA0-6995-4FA8-8CFA-C0C97C80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ACE-657F-4858-9898-29DED0A2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331-B1C1-4B81-AE93-637DE4CE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6C0-F7F6-4AF4-9EBE-749BEA15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EB0D-BCA6-40F0-8DEE-29B55A41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0279-837D-42DD-AE19-0FE9133F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505E-CE4E-45F9-A3CD-76E61E27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8124-CD81-45DC-B5F2-43D3FCD4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5870-2587-43FE-91CA-A61691C2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03AB-C553-4E3A-9BC8-08DC111E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0A09-7689-4D98-91A0-81E71E0B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871-C9AE-4E76-8EBB-3B11AD41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46BC-311E-4A6C-9288-34A8F9E6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BFBD-5297-4536-A6F4-170D9DE7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DC86-2C2C-4A58-B80C-5EA1679C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5AB3-9493-4288-BA46-283DF2BB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94E0-8866-471A-9323-D1800BA8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D37-8A8E-4407-90E4-DB5AB1E6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5A0-8BFE-4DE5-9858-ED54903D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39D-73C6-448D-A4BE-1DF5F341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033-4C73-4F70-8598-96BE9AE0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FFF-9C6B-4AAA-8DE6-1206F116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D7E-B078-4B70-AD68-4F7C8D67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8DD-8858-472A-87E5-C0AFE9D4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E1C0-01CD-4BDE-A9C6-7FDE696115F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8A4E-8CA2-4F14-8A19-C6691818B8F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99cc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29292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Знакомим детей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с геометрическими фигурами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Игра «Нарисуй картинку»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03280" y="407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Учитель-дефектолог: Борисова А.В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г.С-Пб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532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Восприятие формы – одна из составляющих сенсорного развития ребенка, имеет определяющее значение для формирования зрительных представлений о предметах и явлениях действитель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Игра «Нарисуй картинку» поможет вам познакомить детей дошкольного возраста с плоскостными геометрическими фигурами, будет развивать у ребенка зрительное внимание, воображение, зрительно-пространственную ориентировку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Игры имеют разную степень сложност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96000" y="2060640"/>
            <a:ext cx="266364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800000"/>
                </a:solidFill>
                <a:uFillTx/>
                <a:latin typeface="Arial"/>
              </a:rPr>
              <a:t>Варианты игры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На первом этапе ребенку предлагается накладывать геометрические фигуры на образец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1654200" cy="230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659640" y="3141720"/>
            <a:ext cx="1603440" cy="223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3240000" cy="2316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3097080" cy="22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По мере усвоения приема наложения геометрической фигуры на образец, ребенку предлагают выложить картинку по образц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1519200" cy="1974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32720" y="3213000"/>
            <a:ext cx="155088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Варианты образц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1462320" cy="2101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24098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484360" y="3789360"/>
            <a:ext cx="1638360" cy="2233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838840" y="3716280"/>
            <a:ext cx="1562040" cy="22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1562400" cy="2190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1563480" cy="21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987640" y="3284640"/>
            <a:ext cx="157644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443640" y="3933720"/>
            <a:ext cx="1447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От занятия к занятию можно усложнять задания: предложить использовать другие геометрические фигуры, вырезанные из картона, для дополнения картинки (дверь - из прямоугольника, окно – из квадрата, травку – из полосок и т.д.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84720" y="1628640"/>
            <a:ext cx="1490760" cy="201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76720" y="4005360"/>
            <a:ext cx="157176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В эту игру можно играть не только за столом, но и на ковре сразу нескольким детям, создавая не только отдельные картинки, но и сюжеты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1935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8:31:16Z</dcterms:created>
  <dc:creator>наталья</dc:creator>
  <dc:description/>
  <dc:language>en-US</dc:language>
  <cp:lastModifiedBy>наталья</cp:lastModifiedBy>
  <dcterms:modified xsi:type="dcterms:W3CDTF">2011-07-11T21:33:20Z</dcterms:modified>
  <cp:revision>2</cp:revision>
  <dc:subject/>
  <dc:title>Слайд 1</dc:title>
</cp:coreProperties>
</file>