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CE6-AB81-4DAB-99A3-9600FF5A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52A-9024-4DD4-9844-95380FC3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91E-2A56-44DC-8639-711B22EF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36E-2F9B-4D76-A236-F09B0ECA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11C2-89D4-48E0-B37A-FDFBAA40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561B-BFE0-41C2-8293-7079A05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E1D5-F6CD-457D-8BE6-4B109E5E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1608-225A-4B15-AA1D-DD9EA92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0523-3F47-498E-8CB6-42AF97C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60E6-3403-418C-AA13-D8AC2EA0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0B28-3BCD-4196-A28C-1C847FF0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BBC-2D48-4949-BEFB-18FDBDD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6C94-5EA9-4E8A-88A0-2C295C3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9B4F-180E-41F5-918A-456CA58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80F-555F-4F60-B27F-361AD180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CC51-E70F-478D-868F-A371D0C6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C2F1-F9A9-4A4E-BC4D-30BC5BBB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C4616-0BBA-4F09-B924-715575D6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7521-32AC-4889-9608-F7AEB29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85F9-A144-4D1E-B613-B3A84CD9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081B-0690-4207-A76B-E8458A2F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A968-1CF8-40D0-9373-FBC00F8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F41-3EDF-46D1-BD86-B8D36CFA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5468-9BBD-480C-86CD-9F2D7A3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ED29-F486-4457-8078-1538AF3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E7FB-54D4-479D-B6F8-93CDBFB6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FB8A-6D8C-4507-B8D5-5E5B9EF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A8E9-E396-4130-86BE-DC966D69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8490-2E67-4E7F-B69D-6E8B503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CEBA-D3FC-4781-BFD9-29731F47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64DD-A8E9-4D47-B836-8CF1340E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6807-A44D-40F2-98E5-383E08BB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5B33-F9DA-48D4-92A7-8433BA09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004-C351-4E93-9376-81C97BB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6D07-601B-447C-8ED8-3FC7B303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6C85-EEF7-4C5B-85B1-C38EBB96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D2D1-9BD4-49E4-A63F-A7ABFC4E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E8A6-BB0C-4552-A051-470E2B1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D68C-E001-4113-A1FA-6DFAD3C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1313-1A33-4780-A8C6-93EF6DCB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1292-2C98-471F-B17D-B3B9695E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2171-053F-4664-B95E-C73AECA3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6323-7520-4D17-A39F-FF2F9BB9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1B2-B627-48AC-AFC0-D3080B9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496-812B-490D-9F4A-5F1D4A92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5E0-5E91-486D-BA98-BE1F1FA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C7E-8937-412C-8E35-59A8D42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F12-CCEE-4A38-85E9-3E79831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F20-6662-434C-8234-64D8D844EE1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5957-AC02-4EEF-8364-F9237F29DDB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4164-4D4F-4919-B208-EE395E7D128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54C6-5D83-44C5-8FEF-11EDC1F5EB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avmir.ru/wp-content/uploads/2009/06/untitled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zetachel.ru/upload/iblock/956/25.09.2008_12_vn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vestnik.maryno.net/f061209n22/IMG_6862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podrobnosti.ua/photo/2002/07/05/29721_2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cirota.ru/forum/images/90/90695.jpe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476360" y="476280"/>
            <a:ext cx="648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ДУГА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ОЛЕРАНТНОСТИ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" descr="Картинка 26 из 4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284640"/>
            <a:ext cx="3025800" cy="2770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1305000" cy="12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7236000" y="4437000"/>
            <a:ext cx="1438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терпимость) – это готовность благосклонно признавать, принимать поведение, убеждения и взгляды других людей, которые отличаются от собственных. При этом даже в том случае, когда эти убеждения и взгляды тобою не разделяются. Пример, терпимость к чужому образу жизни, поведению, обычаям, чувствам, мнениям, идеям, верованиям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вучание слова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«толерантность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» на разных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языках земного шар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английском языке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готовность и способность без протеста воспринимать личность или вещ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о француз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уважение свободы другого, егот образа мысли, поведения, политических и религиозных взгляд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китай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проявление великодушия в отношении других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араб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прощение, снисхождение, мягкость, снисходительность, сострадание, благосклонность, терпение, расположенность к другим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персид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терпение, терпимость, выносливость, готовность к примирен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8" name="Picture 9" descr="acprob2"/>
          <p:cNvPicPr/>
          <p:nvPr/>
        </p:nvPicPr>
        <p:blipFill>
          <a:blip r:embed="rId1"/>
          <a:stretch/>
        </p:blipFill>
        <p:spPr>
          <a:xfrm>
            <a:off x="5292720" y="4941720"/>
            <a:ext cx="3672000" cy="1916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907920"/>
            <a:ext cx="82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Многогранность понятия «Толерантность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позволяет приобретать друз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путь к мир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проявляется прежде всего дом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пределения толерантност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отрудничество, дух партнёр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Готовность мириться с чужим мнени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важение человеческого достоин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важение прав други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инятие другого таким, какой он е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пособность поставить себя на место другог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важение прав быть ины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изнание многообраз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изнание равенства други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Терпимость к чужим мнениям, верованиям и поведен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каз от доминирования, причинения вреда и насил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1305000" cy="1247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451640" y="1773360"/>
            <a:ext cx="14382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езультаты анкетирования учащихся 9 клас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. В вашем классе появился новичок, взгляды которого не совпадают с взглядами класса на большинство проблем. Он всех раздражает. Вы считаете, что лучше всего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) объявить ему байкот – 1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) не обращать на это внимания – 5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) постараться изменить отношение к новичку – 4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.  Ваш товарищ резко изменил имидж и вам это не понравилось. Вы будете стремитьс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) «уколоть» его – 1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) игнорировать его – 3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) терпимо относиться к нему – 6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. Как вы относитесь к человеку, религия которого отличается от вашей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) мне хочется унизить и оскорбить его веру- 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) каждый человек имеет право на свой выбор – 8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) с уважением отношусь к любой религии – 2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Как вы относитесь к однокласснику из неблагополучной семь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) стараюсь не общать ся ним – 0%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) не замечаю его – 10%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) стараюсь поддержать его – 90%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5. Что такое толерантность? Что значит быть толерантным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тветы ребят « Это доброта и уважение к другому человеку», «Быть толерантным – быть добрым и отзывчивым», «»умение понимать другого человека и принимать его таким, как он есть» и т. д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авила сотрудничеств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спорь, а старайся понять другого челове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мей правильно изложить свои мысл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применяй силу для доказательства своей право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дет мириться тот, кто мудрее и смеле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596360" y="1413000"/>
            <a:ext cx="1304640" cy="1247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9396360" y="981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Будьте все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толерантны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друг к другу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ект учащейся 9 клас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ОУ Саранинская СОШ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оргашовой Ксен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увствовать, думать, любить, как други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ердцем умея понять солидар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прочь отбросить – "Они не такие"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тому учит нас толерант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знание, равенство и уважени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, дружба, галант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ера любая без принуждения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то и многое есть толерант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093080" y="4149720"/>
            <a:ext cx="1304640" cy="1247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7093080" y="4221000"/>
            <a:ext cx="1304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ациональный состав учащихся школ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-690480" y="1413000"/>
          <a:ext cx="98344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0480" y="1413000"/>
                    <a:ext cx="98344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ь проект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ознакомление с  историческим  происхождением понятия «толерантность» и его многогранность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да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1. Расширить представление о понятии «толерантность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. Исследовать уровень сформированности толерантных черт учащихся класса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4. Создать учебное пособие для учащихся по теме «толерантность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5. Познакомиться с творческими работами учащихся школы по данной те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200px-Talleyrand-perigord"/>
          <p:cNvPicPr/>
          <p:nvPr/>
        </p:nvPicPr>
        <p:blipFill>
          <a:blip r:embed="rId2"/>
          <a:stretch/>
        </p:blipFill>
        <p:spPr>
          <a:xfrm>
            <a:off x="395280" y="765000"/>
            <a:ext cx="4357800" cy="5472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292720" y="1484280"/>
            <a:ext cx="36720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Шарль Талейран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французский политический и государственный деятель, дипломат, министр иностранных дел в 1797-1799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Один из самых выдающихся дипломатов, мастер тонкой дипломатической интриги.</a:t>
            </a:r>
            <a:br>
              <a:rPr sz="2000"/>
            </a:b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стория толерант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олее 70 лет назад по фашистской Германии прокатилась волна еврейских погромов, получивших название "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Хрустальная ноч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. Те страшные события положили начало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Холокост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одному из самых кошмарных преступлений против толерантности в истории человеч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0500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16 ноября Международный день толерантности..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(терпимости)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7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4932360" y="4724280"/>
            <a:ext cx="2087640" cy="190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50920" y="4049640"/>
            <a:ext cx="3168720" cy="2808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7839000" y="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Картинка 259 из 45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325908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Картинка 229 из 45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89000"/>
            <a:ext cx="2597040" cy="3987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Картинка 248 из 45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476280"/>
            <a:ext cx="3816360" cy="2597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Картинка 289 из 45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35280" y="3645000"/>
            <a:ext cx="3527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8:08:03Z</dcterms:created>
  <dc:creator>User</dc:creator>
  <dc:description/>
  <dc:language>en-US</dc:language>
  <cp:lastModifiedBy>User</cp:lastModifiedBy>
  <dcterms:modified xsi:type="dcterms:W3CDTF">2011-07-10T16:19:08Z</dcterms:modified>
  <cp:revision>17</cp:revision>
  <dc:subject/>
  <dc:title>Слайд 1</dc:title>
</cp:coreProperties>
</file>