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DE5E-E796-438A-BC99-509BD669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097-243F-4B32-A729-46459D0C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CEE-DB20-4E10-BE5E-DDDCBDC5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A4B-B3A0-4C50-B00A-B48D852A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BBA-C1F4-42E5-B66E-3FC40774E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33B0-EEF5-4E38-8F88-485719C2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8AD6-99BD-4D98-BB30-5379CE7A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3392-E0A9-4099-A2F4-C41B3344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FD8-34CB-41A1-BE94-D008EF11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143C-5410-47D0-B903-125C046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D92C-9A71-430A-8457-98C8E46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017F-6167-40EE-B2C9-2D4721FB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821-5FDA-4F20-80CA-2EAF26A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C00D-DBA2-414B-BD48-A5E8C4A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5BBB-E31D-474C-A960-3FFC8554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4C11-3550-4199-BF10-7B2E5D73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7A4B-5464-4599-A9E0-7D09CB70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47A7-93BE-4E17-8D74-64E52A4F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AD8C-327F-41D6-A86C-FAE3C90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42AEC-4180-40E9-8C7E-A5C95A07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D492-0897-488E-99D2-B046A18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5E1C-82F5-4CDD-BD61-917A6814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51E-C10D-45AB-B0CE-3FD8FC15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343B-113E-40F6-86C6-3B9FF33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5FE1-8275-43CF-B47B-86B0F89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49D6-469D-4F84-8571-2D011F02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A507-C76A-4911-984C-31EF07E3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ECCD-58B4-4411-87B9-09C50109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DECE-2D2A-4F1B-8642-7FC9885A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8B83-F568-403D-91DB-DA36D6AA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6B79-47E9-4B55-9FA6-80DD4F50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8079-65CC-4D23-8E7E-5D5A8321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5DD6-00D6-475C-84F0-C3A2629C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8063-A437-4D89-A1CA-C97B555A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8EF6-93B6-4C79-B0A9-99057826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46559-488D-45AE-B2E3-86A34938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0165-0F48-4AAF-BE6A-FE28743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45F9-67F4-4B68-9A7E-38AADB23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AD9A-D660-4CA4-BCB9-FB459BFA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8902-645D-4180-8AD8-4755F2A9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A4287-5FB0-470E-BFBF-FF23B8A4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5D5E-966A-428D-ABEE-FDA27FBE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F7C0-2F76-4CDB-9043-906E333F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541-AD28-403D-801D-A8D7D96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C3C-E02A-4895-804F-056FA620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D69-4DBF-484E-9E3F-4F0E028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95B-3EBB-4EA1-88DC-00A77D3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5B0-E330-47BE-BF13-62C1093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8868-5FF6-4921-A6EE-B15BC4C80F6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82E5-8ED9-40C6-BF94-9B6C81823E1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8D8F-38B7-48CB-AAF3-742A23FDA9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DACC-EE37-4852-908A-952FBD369D0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avmir.ru/wp-content/uploads/2009/06/untitled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zetachel.ru/upload/iblock/956/25.09.2008_12_vn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vestnik.maryno.net/f061209n22/IMG_6862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podrobnosti.ua/photo/2002/07/05/29721_2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cirota.ru/forum/images/90/90695.jpe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476360" y="476280"/>
            <a:ext cx="6480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ДУГА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ОЛЕРАНТНОСТИ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" descr="Картинка 26 из 453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284640"/>
            <a:ext cx="3025800" cy="2770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1305000" cy="12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7236000" y="4437000"/>
            <a:ext cx="1438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терпимость) – это готовность благосклонно признавать, принимать поведение, убеждения и взгляды других людей, которые отличаются от собственных. При этом даже в том случае, когда эти убеждения и взгляды тобою не разделяются. Пример, терпимость к чужому образу жизни, поведению, обычаям, чувствам, мнениям, идеям, верованиям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вучание слова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«толерантность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» на разных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языках земного шар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английском языке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готовность и способность без протеста воспринимать личность или вещ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о француз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уважение свободы другого, егот образа мысли, поведения, политических и религиозных взглядо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китай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проявление великодушия в отношении других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араб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прощение, снисхождение, мягкость, снисходительность, сострадание, благосклонность, терпение, расположенность к другим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 персидско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– терпение, терпимость, выносливость, готовность к примирен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8" name="Picture 9" descr="acprob2"/>
          <p:cNvPicPr/>
          <p:nvPr/>
        </p:nvPicPr>
        <p:blipFill>
          <a:blip r:embed="rId1"/>
          <a:stretch/>
        </p:blipFill>
        <p:spPr>
          <a:xfrm>
            <a:off x="5292720" y="4941720"/>
            <a:ext cx="3672000" cy="19162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907920"/>
            <a:ext cx="82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Многогранность понятия «Толерантность»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позволяет приобретать друзе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путь к миру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Толерантность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проявляется прежде всего дом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Определения толерантност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отрудничество, дух партнёр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Готовность мириться с чужим мнени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важение человеческого достоин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важение прав други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инятие другого таким, какой он е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Способность поставить себя на место другог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Уважение прав быть ины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изнание многообраз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Признание равенства други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Терпимость к чужим мнениям, верованиям и поведени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каз от доминирования, причинения вреда и насил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1305000" cy="1247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7451640" y="1773360"/>
            <a:ext cx="14382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езультаты анкетирования учащихся 9 класс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1. В вашем классе появился новичок, взгляды которого не совпадают с взглядами класса на большинство проблем. Он всех раздражает. Вы считаете, что лучше всего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) объявить ему байкот – 1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) не обращать на это внимания – 5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) постараться изменить отношение к новичку – 4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2.  Ваш товарищ резко изменил имидж и вам это не понравилось. Вы будете стремиться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) «уколоть» его – 1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) игнорировать его – 3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) терпимо относиться к нему – 6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3. Как вы относитесь к человеку, религия которого отличается от вашей?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) мне хочется унизить и оскорбить его веру- 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Б) каждый человек имеет право на свой выбор – 8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) с уважением отношусь к любой религии – 20%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Как вы относитесь к однокласснику из неблагополучной семьи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) стараюсь не общать ся ним – 0%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Б) не замечаю его – 10%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) стараюсь поддержать его – 90%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Что такое толерантность? Что значит быть толерантным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Ответы ребят « Это доброта и уважение к другому человеку», «Быть толерантным – быть добрым и отзывчивым», «»умение понимать другого человека и принимать его таким, как он есть» и т. д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авила сотрудничеств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спорь, а старайся понять другого челове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мей правильно изложить свои мысл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применяй силу для доказательства своей правот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дет мириться тот, кто мудрее и смеле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596360" y="1413000"/>
            <a:ext cx="1304640" cy="1247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9396360" y="981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Будьте все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толерантны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99"/>
                </a:solidFill>
                <a:latin typeface="Verdana"/>
              </a:rPr>
              <a:t>друг к другу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ект учащейся 9 клас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ОУ Саранинская СОШ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Торгашовой Ксен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увствовать, думать, любить, как други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ердцем умея понять солидар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прочь отбросить – "Они не такие"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тому учит нас толерант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изнание, равенство и уважени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, дружба, галант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ера любая без принуждени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то и многое есть толерантность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093080" y="4149720"/>
            <a:ext cx="1304640" cy="1247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304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ациональный состав учащихся школ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-690480" y="1413000"/>
          <a:ext cx="98344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90480" y="1413000"/>
                    <a:ext cx="98344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ь проек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ознакомление с  историческим  происхождением понятия «толерантность» и его многогранность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да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1. Расширить представление о понятии «толерантность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. Исследовать уровень сформированности толерантных черт учащихся класса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4. Создать учебное пособие для учащихся по теме «толерантность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5. Познакомиться с творческими работами учащихся школы по данной тем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200px-Talleyrand-perigord"/>
          <p:cNvPicPr/>
          <p:nvPr/>
        </p:nvPicPr>
        <p:blipFill>
          <a:blip r:embed="rId2"/>
          <a:stretch/>
        </p:blipFill>
        <p:spPr>
          <a:xfrm>
            <a:off x="395280" y="76500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292720" y="1484280"/>
            <a:ext cx="3672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Шарль Талейран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французский политический и государственный деятель, дипломат, министр иностранных дел в 1797-1799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Один из самых выдающихся дипломатов, мастер тонкой дипломатической интриги.</a:t>
            </a:r>
            <a:br>
              <a:rPr sz="2000"/>
            </a:b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стория толерант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олее 70 лет назад по фашистской Германии прокатилась волна еврейских погромов, получивших название "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Хрустальная ноч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. Те страшные события положили начало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Холокост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одному из самых кошмарных преступлений против толерантности в истории человечеств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05000" cy="12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16 ноября Международный день толерантности..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(терпимости)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7" name="Picture 3" descr="D:\WINDOWS\Users\Aida\Рабочий стол\МОЯ лаборатория\ШАБЛОНЫ\Children _irstock\Children _irstock (3).jpg"/>
          <p:cNvPicPr/>
          <p:nvPr/>
        </p:nvPicPr>
        <p:blipFill>
          <a:blip r:embed="rId1"/>
          <a:stretch/>
        </p:blipFill>
        <p:spPr>
          <a:xfrm>
            <a:off x="4932360" y="4724280"/>
            <a:ext cx="2087640" cy="190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50920" y="4049640"/>
            <a:ext cx="3168720" cy="2808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7839000" y="0"/>
            <a:ext cx="13050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Картинка 259 из 45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325908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Картинка 229 из 45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189000"/>
            <a:ext cx="2597040" cy="3987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Картинка 248 из 454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24360" y="476280"/>
            <a:ext cx="3816360" cy="25970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Картинка 289 из 454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35280" y="3645000"/>
            <a:ext cx="3527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8:08:03Z</dcterms:created>
  <dc:creator>User</dc:creator>
  <dc:description/>
  <dc:language>en-US</dc:language>
  <cp:lastModifiedBy>User</cp:lastModifiedBy>
  <dcterms:modified xsi:type="dcterms:W3CDTF">2011-07-10T16:19:08Z</dcterms:modified>
  <cp:revision>17</cp:revision>
  <dc:subject/>
  <dc:title>Слайд 1</dc:title>
</cp:coreProperties>
</file>