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8A4-9EA4-4E47-86E6-AF90FA60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EE1F-507B-4EC9-9459-CEFA685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7CD-33EA-4C76-9069-3E0B8138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0EB-53D9-4BDF-AE86-CCDAA186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0E5-B371-4FD4-97CE-64A0CC3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5AAE-F3EC-49D9-B8E0-0BB4FE6A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CBB-8C8A-414A-88A9-BBE749D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689-3A56-4A00-9A7C-655462C4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0B1-2219-46C1-9B3D-BF74E823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B39-3099-4129-B051-EE55D09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2EA-167F-43AA-8DDD-912B637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F79-A301-41BC-AD79-47B9CC7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F680-E122-429E-B884-932DCD884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42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843280" y="2637000"/>
            <a:ext cx="4352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а образования и оздоровления</a:t>
            </a:r>
            <a:endParaRPr b="1" i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76720" y="3789360"/>
            <a:ext cx="367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"Будь здоров!"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0" y="5229360"/>
            <a:ext cx="216072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Автор: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воспитатель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454545"/>
                  </a:solidFill>
                  <a:miter/>
                </a:ln>
                <a:solidFill>
                  <a:srgbClr val="990033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Лысенко Т.В.</a:t>
            </a:r>
            <a:endParaRPr b="0" lang="en-US" sz="1800" spc="1" strike="noStrike">
              <a:ln w="9360">
                <a:solidFill>
                  <a:srgbClr val="454545"/>
                </a:solidFill>
                <a:miter/>
              </a:ln>
              <a:solidFill>
                <a:srgbClr val="990033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5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53800" y="2723040"/>
            <a:ext cx="4317480" cy="3156120"/>
            <a:chOff x="2953800" y="2723040"/>
            <a:chExt cx="4317480" cy="3156120"/>
          </a:xfrm>
        </p:grpSpPr>
        <p:sp>
          <p:nvSpPr>
            <p:cNvPr id="57" name="_s5140"/>
            <p:cNvSpPr/>
            <p:nvPr/>
          </p:nvSpPr>
          <p:spPr>
            <a:xfrm>
              <a:off x="3646800" y="2863080"/>
              <a:ext cx="2932200" cy="1950840"/>
            </a:xfrm>
            <a:custGeom>
              <a:avLst/>
              <a:gdLst>
                <a:gd name="textAreaLeft" fmla="*/ 0 w 2932200"/>
                <a:gd name="textAreaRight" fmla="*/ 2932560 w 2932200"/>
                <a:gd name="textAreaTop" fmla="*/ 0 h 1950840"/>
                <a:gd name="textAreaBottom" fmla="*/ 1951200 h 19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1"/>
            <p:cNvSpPr/>
            <p:nvPr/>
          </p:nvSpPr>
          <p:spPr>
            <a:xfrm rot="7200000">
              <a:off x="4538160" y="2835000"/>
              <a:ext cx="1951200" cy="2932200"/>
            </a:xfrm>
            <a:custGeom>
              <a:avLst/>
              <a:gdLst>
                <a:gd name="textAreaLeft" fmla="*/ 0 w 1951200"/>
                <a:gd name="textAreaRight" fmla="*/ 1951560 w 1951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3"/>
            <p:cNvSpPr/>
            <p:nvPr/>
          </p:nvSpPr>
          <p:spPr>
            <a:xfrm rot="14400000">
              <a:off x="3735360" y="2835000"/>
              <a:ext cx="1951200" cy="2932200"/>
            </a:xfrm>
            <a:custGeom>
              <a:avLst/>
              <a:gdLst>
                <a:gd name="textAreaLeft" fmla="*/ 0 w 1951200"/>
                <a:gd name="textAreaRight" fmla="*/ 1951560 w 1951200"/>
                <a:gd name="textAreaTop" fmla="*/ 0 h 2932200"/>
                <a:gd name="textAreaBottom" fmla="*/ 2932560 h 293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noFill/>
            <a:ln w="9360">
              <a:solidFill>
                <a:srgbClr val="8585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8"/>
            <p:cNvSpPr/>
            <p:nvPr/>
          </p:nvSpPr>
          <p:spPr>
            <a:xfrm>
              <a:off x="5915160" y="3219840"/>
              <a:ext cx="1176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9"/>
            <p:cNvSpPr/>
            <p:nvPr/>
          </p:nvSpPr>
          <p:spPr>
            <a:xfrm>
              <a:off x="4526280" y="4824720"/>
              <a:ext cx="1176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c0024"/>
                  </a:solidFill>
                  <a:latin typeface="comic"/>
                </a:rPr>
                <a:t>Воспитател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c0024"/>
                  </a:solidFill>
                  <a:latin typeface="comic"/>
                </a:rPr>
                <a:t>по физкульт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42"/>
            <p:cNvSpPr/>
            <p:nvPr/>
          </p:nvSpPr>
          <p:spPr>
            <a:xfrm>
              <a:off x="3132360" y="3220920"/>
              <a:ext cx="11764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64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342900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56000" y="2708280"/>
            <a:ext cx="4679280" cy="3168360"/>
            <a:chOff x="2556000" y="2708280"/>
            <a:chExt cx="4679280" cy="3168360"/>
          </a:xfrm>
        </p:grpSpPr>
        <p:cxnSp>
          <p:nvCxnSpPr>
            <p:cNvPr id="70" name="_s10264"/>
            <p:cNvCxnSpPr>
              <a:stCxn id="71" idx="1"/>
              <a:endCxn id="72" idx="2"/>
            </p:cNvCxnSpPr>
            <p:nvPr/>
          </p:nvCxnSpPr>
          <p:spPr>
            <a:xfrm rot="10800000">
              <a:off x="3958920" y="3283560"/>
              <a:ext cx="468360" cy="23072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3" name="_s10263"/>
            <p:cNvCxnSpPr>
              <a:stCxn id="74" idx="1"/>
              <a:endCxn id="72" idx="2"/>
            </p:cNvCxnSpPr>
            <p:nvPr/>
          </p:nvCxnSpPr>
          <p:spPr>
            <a:xfrm rot="10800000">
              <a:off x="3958920" y="3284280"/>
              <a:ext cx="468360" cy="1440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75" name="_s10262"/>
            <p:cNvCxnSpPr>
              <a:stCxn id="76" idx="1"/>
              <a:endCxn id="72" idx="2"/>
            </p:cNvCxnSpPr>
            <p:nvPr/>
          </p:nvCxnSpPr>
          <p:spPr>
            <a:xfrm rot="10800000">
              <a:off x="3958920" y="3284280"/>
              <a:ext cx="46836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72" name="_s10258"/>
            <p:cNvSpPr/>
            <p:nvPr/>
          </p:nvSpPr>
          <p:spPr>
            <a:xfrm>
              <a:off x="2556000" y="2708280"/>
              <a:ext cx="2807640" cy="576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259"/>
            <p:cNvSpPr/>
            <p:nvPr/>
          </p:nvSpPr>
          <p:spPr>
            <a:xfrm>
              <a:off x="4427640" y="357228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260"/>
            <p:cNvSpPr/>
            <p:nvPr/>
          </p:nvSpPr>
          <p:spPr>
            <a:xfrm>
              <a:off x="4427640" y="443628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61"/>
            <p:cNvSpPr/>
            <p:nvPr/>
          </p:nvSpPr>
          <p:spPr>
            <a:xfrm>
              <a:off x="4427640" y="5300640"/>
              <a:ext cx="2807640" cy="576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a400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78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/>
          <p:nvPr/>
        </p:nvSpPr>
        <p:spPr>
          <a:xfrm rot="21145200">
            <a:off x="3130560" y="3933360"/>
            <a:ext cx="2881440" cy="863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c0024"/>
              </a:gs>
            </a:gsLst>
            <a:lin ang="585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0910000">
            <a:off x="2700360" y="2781360"/>
            <a:ext cx="2085840" cy="936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189600">
            <a:off x="5076720" y="4868640"/>
            <a:ext cx="2086200" cy="9363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8400">
            <a:off x="5148000" y="2781000"/>
            <a:ext cx="2085840" cy="9367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3645000"/>
            <a:ext cx="73080" cy="144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508000" y="3429000"/>
            <a:ext cx="215640" cy="43164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003640" y="4724280"/>
            <a:ext cx="720720" cy="14472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9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 rot="20737200">
            <a:off x="3059280" y="3789000"/>
            <a:ext cx="2377800" cy="1800360"/>
          </a:xfrm>
          <a:prstGeom prst="ellipse">
            <a:avLst/>
          </a:prstGeom>
          <a:solidFill>
            <a:srgbClr val="808080">
              <a:alpha val="61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81200">
            <a:off x="4858920" y="3789000"/>
            <a:ext cx="2376720" cy="1800360"/>
          </a:xfrm>
          <a:prstGeom prst="ellipse">
            <a:avLst/>
          </a:prstGeom>
          <a:solidFill>
            <a:srgbClr val="3366ff">
              <a:alpha val="49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пппппппппппппппппп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49200">
            <a:off x="3058920" y="2563920"/>
            <a:ext cx="2377800" cy="1728720"/>
          </a:xfrm>
          <a:prstGeom prst="ellipse">
            <a:avLst/>
          </a:prstGeom>
          <a:solidFill>
            <a:srgbClr val="ffffff">
              <a:alpha val="43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оооооооооооооооооооо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0444400">
            <a:off x="4859280" y="2563560"/>
            <a:ext cx="2376720" cy="1728720"/>
          </a:xfrm>
          <a:prstGeom prst="ellipse">
            <a:avLst/>
          </a:prstGeom>
          <a:solidFill>
            <a:srgbClr val="7e002a">
              <a:alpha val="58000"/>
            </a:srgbClr>
          </a:solidFill>
          <a:ln w="4680">
            <a:solidFill>
              <a:srgbClr val="7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рррррррррррррррррррр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537091" descr=""/>
          <p:cNvPicPr/>
          <p:nvPr/>
        </p:nvPicPr>
        <p:blipFill>
          <a:blip r:embed="rId1"/>
          <a:srcRect l="7490" t="5625" r="5620" b="4355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9360">
            <a:solidFill>
              <a:srgbClr val="990033"/>
            </a:solidFill>
            <a:miter/>
          </a:ln>
        </p:spPr>
      </p:pic>
      <p:sp>
        <p:nvSpPr>
          <p:cNvPr id="101" name="Documents"/>
          <p:cNvSpPr/>
          <p:nvPr/>
        </p:nvSpPr>
        <p:spPr>
          <a:xfrm>
            <a:off x="2484360" y="1916280"/>
            <a:ext cx="5832720" cy="4033800"/>
          </a:xfrm>
          <a:prstGeom prst="pie">
            <a:avLst/>
          </a:prstGeom>
          <a:noFill/>
          <a:ln w="38160">
            <a:solidFill>
              <a:srgbClr val="99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549360"/>
            <a:ext cx="7488360" cy="1008000"/>
          </a:xfrm>
          <a:prstGeom prst="flowChartOnlineStorage">
            <a:avLst/>
          </a:prstGeom>
          <a:noFill/>
          <a:ln w="38160">
            <a:solidFill>
              <a:srgbClr val="85a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2924280"/>
            <a:ext cx="1512720" cy="2879640"/>
          </a:xfrm>
          <a:prstGeom prst="flowChartMagneticTape">
            <a:avLst/>
          </a:prstGeom>
          <a:noFill/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488360" y="54936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908000" y="765000"/>
            <a:ext cx="489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Тамбовское областное государственное  образовательное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учреждение для детей сирот и детей, 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оставшихся без попечения родителей (законных представителей)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"Детский дом "Аистенок"</a:t>
            </a:r>
            <a:endParaRPr b="0" i="1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51280" y="4653000"/>
            <a:ext cx="345744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91640" y="4076640"/>
            <a:ext cx="345780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пппппппппппппппп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31280" y="3429000"/>
            <a:ext cx="345780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43280" y="2852640"/>
            <a:ext cx="3457440" cy="1150920"/>
          </a:xfrm>
          <a:prstGeom prst="foldedCorner">
            <a:avLst>
              <a:gd name="adj" fmla="val 37824"/>
            </a:avLst>
          </a:prstGeom>
          <a:gradFill rotWithShape="0">
            <a:gsLst>
              <a:gs pos="0">
                <a:srgbClr val="a40037">
                  <a:alpha val="15294"/>
                </a:srgbClr>
              </a:gs>
              <a:gs pos="100000">
                <a:srgbClr val="87847d">
                  <a:alpha val="40000"/>
                </a:srgbClr>
              </a:gs>
            </a:gsLst>
            <a:lin ang="135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ааааааааааааааааааа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17:46Z</dcterms:created>
  <dc:creator>Константин</dc:creator>
  <dc:description/>
  <dc:language>en-US</dc:language>
  <cp:lastModifiedBy>Константин</cp:lastModifiedBy>
  <dcterms:modified xsi:type="dcterms:W3CDTF">2011-02-10T17:52:38Z</dcterms:modified>
  <cp:revision>4</cp:revision>
  <dc:subject/>
  <dc:title>Слайд 1</dc:title>
</cp:coreProperties>
</file>