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5718-504D-473D-91F5-4FD15839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BE1-F722-4E5B-A84B-88382CD6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CB5A-84DD-43BC-9D28-70A257F0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A88-A667-471C-990C-5A2BFB13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C936-C3EC-4C38-AF3A-44E40794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577-359D-451B-A77C-F9AF7C59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FA6F-C154-4608-95B0-AF29D15A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05B8-5ED6-4376-9C51-58E16430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23B1-DFAF-46BF-8C64-F09C57FA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761-4139-4B28-B37C-ACEEEA7C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C5FF-F228-48F9-B240-4D2C8F76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E723-E4B4-408D-99A8-52187BCF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B24A-C256-4AEA-B2F1-F49EFE9DA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537091" descr=""/>
          <p:cNvPicPr/>
          <p:nvPr/>
        </p:nvPicPr>
        <p:blipFill>
          <a:blip r:embed="rId1"/>
          <a:srcRect l="7490" t="5625" r="5620" b="43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42" name="Documents"/>
          <p:cNvSpPr/>
          <p:nvPr/>
        </p:nvSpPr>
        <p:spPr>
          <a:xfrm>
            <a:off x="2484360" y="1916280"/>
            <a:ext cx="5832720" cy="4033800"/>
          </a:xfrm>
          <a:prstGeom prst="pie">
            <a:avLst/>
          </a:prstGeom>
          <a:noFill/>
          <a:ln w="38160">
            <a:solidFill>
              <a:srgbClr val="99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549360"/>
            <a:ext cx="7488360" cy="1008000"/>
          </a:xfrm>
          <a:prstGeom prst="flowChartOnlineStorage">
            <a:avLst/>
          </a:prstGeom>
          <a:noFill/>
          <a:ln w="38160">
            <a:solidFill>
              <a:srgbClr val="85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2924280"/>
            <a:ext cx="1512720" cy="2879640"/>
          </a:xfrm>
          <a:prstGeom prst="flowChartMagneticTape">
            <a:avLst/>
          </a:prstGeom>
          <a:noFill/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488360" y="549360"/>
            <a:ext cx="1655640" cy="1081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843280" y="2637000"/>
            <a:ext cx="43527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стема образования и оздоровления</a:t>
            </a:r>
            <a:endParaRPr b="1" i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76720" y="3789360"/>
            <a:ext cx="367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"Будь здоров!"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0" y="5229360"/>
            <a:ext cx="216072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54545"/>
                  </a:solidFill>
                  <a:miter/>
                </a:ln>
                <a:solidFill>
                  <a:srgbClr val="990033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Автор:</a:t>
            </a:r>
            <a:endParaRPr b="0" lang="en-US" sz="1800" spc="1" strike="noStrike">
              <a:ln w="9360">
                <a:solidFill>
                  <a:srgbClr val="454545"/>
                </a:solidFill>
                <a:miter/>
              </a:ln>
              <a:solidFill>
                <a:srgbClr val="990033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54545"/>
                  </a:solidFill>
                  <a:miter/>
                </a:ln>
                <a:solidFill>
                  <a:srgbClr val="990033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воспитатель</a:t>
            </a:r>
            <a:endParaRPr b="0" lang="en-US" sz="1800" spc="1" strike="noStrike">
              <a:ln w="9360">
                <a:solidFill>
                  <a:srgbClr val="454545"/>
                </a:solidFill>
                <a:miter/>
              </a:ln>
              <a:solidFill>
                <a:srgbClr val="990033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54545"/>
                  </a:solidFill>
                  <a:miter/>
                </a:ln>
                <a:solidFill>
                  <a:srgbClr val="990033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Лысенко Т.В.</a:t>
            </a:r>
            <a:endParaRPr b="0" lang="en-US" sz="1800" spc="1" strike="noStrike">
              <a:ln w="9360">
                <a:solidFill>
                  <a:srgbClr val="454545"/>
                </a:solidFill>
                <a:miter/>
              </a:ln>
              <a:solidFill>
                <a:srgbClr val="990033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08000" y="765000"/>
            <a:ext cx="489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Тамбовское областное государственное  образовательное 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учреждение для детей сирот и детей, 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оставшихся без попечения родителей (законных представителей)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"Детский дом "Аистенок"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537091" descr=""/>
          <p:cNvPicPr/>
          <p:nvPr/>
        </p:nvPicPr>
        <p:blipFill>
          <a:blip r:embed="rId1"/>
          <a:srcRect l="7490" t="5625" r="5620" b="43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51" name="Documents"/>
          <p:cNvSpPr/>
          <p:nvPr/>
        </p:nvSpPr>
        <p:spPr>
          <a:xfrm>
            <a:off x="2484360" y="1916280"/>
            <a:ext cx="5832720" cy="4033800"/>
          </a:xfrm>
          <a:prstGeom prst="pie">
            <a:avLst/>
          </a:prstGeom>
          <a:noFill/>
          <a:ln w="38160">
            <a:solidFill>
              <a:srgbClr val="99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549360"/>
            <a:ext cx="7488360" cy="1008000"/>
          </a:xfrm>
          <a:prstGeom prst="flowChartOnlineStorage">
            <a:avLst/>
          </a:prstGeom>
          <a:noFill/>
          <a:ln w="38160">
            <a:solidFill>
              <a:srgbClr val="85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924280"/>
            <a:ext cx="1512720" cy="2879640"/>
          </a:xfrm>
          <a:prstGeom prst="flowChartMagneticTape">
            <a:avLst/>
          </a:prstGeom>
          <a:noFill/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488360" y="549360"/>
            <a:ext cx="1655640" cy="1081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908000" y="765000"/>
            <a:ext cx="489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Тамбовское областное государственное  образовательное 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учреждение для детей сирот и детей, 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оставшихся без попечения родителей (законных представителей)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"Детский дом "Аистенок"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953800" y="2723040"/>
            <a:ext cx="4317480" cy="3156120"/>
            <a:chOff x="2953800" y="2723040"/>
            <a:chExt cx="4317480" cy="3156120"/>
          </a:xfrm>
        </p:grpSpPr>
        <p:sp>
          <p:nvSpPr>
            <p:cNvPr id="57" name="_s5140"/>
            <p:cNvSpPr/>
            <p:nvPr/>
          </p:nvSpPr>
          <p:spPr>
            <a:xfrm>
              <a:off x="3646800" y="2863080"/>
              <a:ext cx="2932200" cy="1950840"/>
            </a:xfrm>
            <a:custGeom>
              <a:avLst/>
              <a:gdLst>
                <a:gd name="textAreaLeft" fmla="*/ 0 w 2932200"/>
                <a:gd name="textAreaRight" fmla="*/ 2932560 w 2932200"/>
                <a:gd name="textAreaTop" fmla="*/ 0 h 1950840"/>
                <a:gd name="textAreaBottom" fmla="*/ 1951200 h 19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noFill/>
            <a:ln w="9360">
              <a:solidFill>
                <a:srgbClr val="858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5141"/>
            <p:cNvSpPr/>
            <p:nvPr/>
          </p:nvSpPr>
          <p:spPr>
            <a:xfrm rot="7200000">
              <a:off x="4538160" y="2835000"/>
              <a:ext cx="1951200" cy="2932200"/>
            </a:xfrm>
            <a:custGeom>
              <a:avLst/>
              <a:gdLst>
                <a:gd name="textAreaLeft" fmla="*/ 0 w 1951200"/>
                <a:gd name="textAreaRight" fmla="*/ 1951560 w 1951200"/>
                <a:gd name="textAreaTop" fmla="*/ 0 h 2932200"/>
                <a:gd name="textAreaBottom" fmla="*/ 2932560 h 29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noFill/>
            <a:ln w="9360">
              <a:solidFill>
                <a:srgbClr val="858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5143"/>
            <p:cNvSpPr/>
            <p:nvPr/>
          </p:nvSpPr>
          <p:spPr>
            <a:xfrm rot="14400000">
              <a:off x="3735360" y="2835000"/>
              <a:ext cx="1951200" cy="2932200"/>
            </a:xfrm>
            <a:custGeom>
              <a:avLst/>
              <a:gdLst>
                <a:gd name="textAreaLeft" fmla="*/ 0 w 1951200"/>
                <a:gd name="textAreaRight" fmla="*/ 1951560 w 1951200"/>
                <a:gd name="textAreaTop" fmla="*/ 0 h 2932200"/>
                <a:gd name="textAreaBottom" fmla="*/ 2932560 h 29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noFill/>
            <a:ln w="9360">
              <a:solidFill>
                <a:srgbClr val="858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5138"/>
            <p:cNvSpPr/>
            <p:nvPr/>
          </p:nvSpPr>
          <p:spPr>
            <a:xfrm>
              <a:off x="5915160" y="3219840"/>
              <a:ext cx="11764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5139"/>
            <p:cNvSpPr/>
            <p:nvPr/>
          </p:nvSpPr>
          <p:spPr>
            <a:xfrm>
              <a:off x="4526280" y="4824720"/>
              <a:ext cx="117612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c0024"/>
                  </a:solidFill>
                  <a:latin typeface="comic"/>
                </a:rPr>
                <a:t>Воспитател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c0024"/>
                  </a:solidFill>
                  <a:latin typeface="comic"/>
                </a:rPr>
                <a:t>по физкульту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5142"/>
            <p:cNvSpPr/>
            <p:nvPr/>
          </p:nvSpPr>
          <p:spPr>
            <a:xfrm>
              <a:off x="3132360" y="3220920"/>
              <a:ext cx="11764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537091" descr=""/>
          <p:cNvPicPr/>
          <p:nvPr/>
        </p:nvPicPr>
        <p:blipFill>
          <a:blip r:embed="rId1"/>
          <a:srcRect l="7490" t="5625" r="5620" b="43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64" name="Documents"/>
          <p:cNvSpPr/>
          <p:nvPr/>
        </p:nvSpPr>
        <p:spPr>
          <a:xfrm>
            <a:off x="2484360" y="1916280"/>
            <a:ext cx="5832720" cy="4033800"/>
          </a:xfrm>
          <a:prstGeom prst="pie">
            <a:avLst/>
          </a:prstGeom>
          <a:noFill/>
          <a:ln w="38160">
            <a:solidFill>
              <a:srgbClr val="99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549360"/>
            <a:ext cx="7488360" cy="1008000"/>
          </a:xfrm>
          <a:prstGeom prst="flowChartOnlineStorage">
            <a:avLst/>
          </a:prstGeom>
          <a:noFill/>
          <a:ln w="38160">
            <a:solidFill>
              <a:srgbClr val="85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3429000"/>
            <a:ext cx="1512720" cy="2879640"/>
          </a:xfrm>
          <a:prstGeom prst="flowChartMagneticTape">
            <a:avLst/>
          </a:prstGeom>
          <a:noFill/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488360" y="549360"/>
            <a:ext cx="1655640" cy="108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908000" y="765000"/>
            <a:ext cx="489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Тамбовское областное государственное  образовательное 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учреждение для детей сирот и детей, 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оставшихся без попечения родителей (законных представителей)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"Детский дом "Аистенок"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556000" y="2708280"/>
            <a:ext cx="4679280" cy="3168360"/>
            <a:chOff x="2556000" y="2708280"/>
            <a:chExt cx="4679280" cy="3168360"/>
          </a:xfrm>
        </p:grpSpPr>
        <p:cxnSp>
          <p:nvCxnSpPr>
            <p:cNvPr id="70" name="_s10264"/>
            <p:cNvCxnSpPr>
              <a:stCxn id="71" idx="1"/>
              <a:endCxn id="72" idx="2"/>
            </p:cNvCxnSpPr>
            <p:nvPr/>
          </p:nvCxnSpPr>
          <p:spPr>
            <a:xfrm rot="10800000">
              <a:off x="3958920" y="3283560"/>
              <a:ext cx="468360" cy="23072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3" name="_s10263"/>
            <p:cNvCxnSpPr>
              <a:stCxn id="74" idx="1"/>
              <a:endCxn id="72" idx="2"/>
            </p:cNvCxnSpPr>
            <p:nvPr/>
          </p:nvCxnSpPr>
          <p:spPr>
            <a:xfrm rot="10800000">
              <a:off x="3958920" y="3284280"/>
              <a:ext cx="468360" cy="14403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5" name="_s10262"/>
            <p:cNvCxnSpPr>
              <a:stCxn id="76" idx="1"/>
              <a:endCxn id="72" idx="2"/>
            </p:cNvCxnSpPr>
            <p:nvPr/>
          </p:nvCxnSpPr>
          <p:spPr>
            <a:xfrm rot="10800000">
              <a:off x="3958920" y="3284280"/>
              <a:ext cx="468360" cy="5763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72" name="_s10258"/>
            <p:cNvSpPr/>
            <p:nvPr/>
          </p:nvSpPr>
          <p:spPr>
            <a:xfrm>
              <a:off x="2556000" y="2708280"/>
              <a:ext cx="280764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259"/>
            <p:cNvSpPr/>
            <p:nvPr/>
          </p:nvSpPr>
          <p:spPr>
            <a:xfrm>
              <a:off x="4427640" y="3572280"/>
              <a:ext cx="2807640" cy="576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a400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260"/>
            <p:cNvSpPr/>
            <p:nvPr/>
          </p:nvSpPr>
          <p:spPr>
            <a:xfrm>
              <a:off x="4427640" y="4436280"/>
              <a:ext cx="2807640" cy="576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a400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261"/>
            <p:cNvSpPr/>
            <p:nvPr/>
          </p:nvSpPr>
          <p:spPr>
            <a:xfrm>
              <a:off x="4427640" y="5300640"/>
              <a:ext cx="2807640" cy="576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a400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537091" descr=""/>
          <p:cNvPicPr/>
          <p:nvPr/>
        </p:nvPicPr>
        <p:blipFill>
          <a:blip r:embed="rId1"/>
          <a:srcRect l="7490" t="5625" r="5620" b="43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78" name="Documents"/>
          <p:cNvSpPr/>
          <p:nvPr/>
        </p:nvSpPr>
        <p:spPr>
          <a:xfrm>
            <a:off x="2484360" y="1916280"/>
            <a:ext cx="5832720" cy="4033800"/>
          </a:xfrm>
          <a:prstGeom prst="pie">
            <a:avLst/>
          </a:prstGeom>
          <a:noFill/>
          <a:ln w="38160">
            <a:solidFill>
              <a:srgbClr val="99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549360"/>
            <a:ext cx="7488360" cy="1008000"/>
          </a:xfrm>
          <a:prstGeom prst="flowChartOnlineStorag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2924280"/>
            <a:ext cx="1512720" cy="2879640"/>
          </a:xfrm>
          <a:prstGeom prst="flowChartMagneticTape">
            <a:avLst/>
          </a:prstGeom>
          <a:noFill/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488360" y="549360"/>
            <a:ext cx="1655640" cy="1081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908000" y="765000"/>
            <a:ext cx="489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Тамбовское областное государственное  образовательное 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учреждение для детей сирот и детей, 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оставшихся без попечения родителей (законных представителей)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"Детский дом "Аистенок"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/>
          <p:nvPr/>
        </p:nvSpPr>
        <p:spPr>
          <a:xfrm rot="21145200">
            <a:off x="3130560" y="3933360"/>
            <a:ext cx="2881440" cy="8636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c0024"/>
              </a:gs>
            </a:gsLst>
            <a:lin ang="585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0910000">
            <a:off x="2700360" y="2781360"/>
            <a:ext cx="2085840" cy="9367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1189600">
            <a:off x="5076720" y="4868640"/>
            <a:ext cx="2086200" cy="9363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8400">
            <a:off x="5148000" y="2781000"/>
            <a:ext cx="2085840" cy="9367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3645000"/>
            <a:ext cx="73080" cy="144360"/>
          </a:xfrm>
          <a:prstGeom prst="lin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08000" y="3429000"/>
            <a:ext cx="215640" cy="431640"/>
          </a:xfrm>
          <a:prstGeom prst="lin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5003640" y="4724280"/>
            <a:ext cx="720720" cy="144720"/>
          </a:xfrm>
          <a:prstGeom prst="lin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537091" descr=""/>
          <p:cNvPicPr/>
          <p:nvPr/>
        </p:nvPicPr>
        <p:blipFill>
          <a:blip r:embed="rId1"/>
          <a:srcRect l="7490" t="5625" r="5620" b="43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91" name="Documents"/>
          <p:cNvSpPr/>
          <p:nvPr/>
        </p:nvSpPr>
        <p:spPr>
          <a:xfrm>
            <a:off x="2484360" y="1916280"/>
            <a:ext cx="5832720" cy="4033800"/>
          </a:xfrm>
          <a:prstGeom prst="pie">
            <a:avLst/>
          </a:prstGeom>
          <a:noFill/>
          <a:ln w="38160">
            <a:solidFill>
              <a:srgbClr val="99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549360"/>
            <a:ext cx="7488360" cy="1008000"/>
          </a:xfrm>
          <a:prstGeom prst="flowChartOnlineStorage">
            <a:avLst/>
          </a:prstGeom>
          <a:noFill/>
          <a:ln w="38160">
            <a:solidFill>
              <a:srgbClr val="85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924280"/>
            <a:ext cx="1512720" cy="2879640"/>
          </a:xfrm>
          <a:prstGeom prst="flowChartMagneticTape">
            <a:avLst/>
          </a:prstGeom>
          <a:noFill/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488360" y="549360"/>
            <a:ext cx="1655640" cy="108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908000" y="765000"/>
            <a:ext cx="489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Тамбовское областное государственное  образовательное 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учреждение для детей сирот и детей, 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оставшихся без попечения родителей (законных представителей)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"Детский дом "Аистенок"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 rot="20737200">
            <a:off x="3059280" y="3789000"/>
            <a:ext cx="2377800" cy="1800360"/>
          </a:xfrm>
          <a:prstGeom prst="ellipse">
            <a:avLst/>
          </a:prstGeom>
          <a:solidFill>
            <a:srgbClr val="808080">
              <a:alpha val="61000"/>
            </a:srgbClr>
          </a:solidFill>
          <a:ln w="4680">
            <a:solidFill>
              <a:srgbClr val="7e0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аааааааааааааааааааа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81200">
            <a:off x="4858920" y="3789000"/>
            <a:ext cx="2376720" cy="1800360"/>
          </a:xfrm>
          <a:prstGeom prst="ellipse">
            <a:avLst/>
          </a:prstGeom>
          <a:solidFill>
            <a:srgbClr val="3366ff">
              <a:alpha val="49000"/>
            </a:srgbClr>
          </a:solidFill>
          <a:ln w="4680">
            <a:solidFill>
              <a:srgbClr val="7e0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ппппппппппппппппппп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249200">
            <a:off x="3058920" y="2563920"/>
            <a:ext cx="2377800" cy="1728720"/>
          </a:xfrm>
          <a:prstGeom prst="ellipse">
            <a:avLst/>
          </a:prstGeom>
          <a:solidFill>
            <a:srgbClr val="ffffff">
              <a:alpha val="43000"/>
            </a:srgbClr>
          </a:solidFill>
          <a:ln w="4680">
            <a:solidFill>
              <a:srgbClr val="7e0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ооооооооооооооооооооо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0444400">
            <a:off x="4859280" y="2563560"/>
            <a:ext cx="2376720" cy="1728720"/>
          </a:xfrm>
          <a:prstGeom prst="ellipse">
            <a:avLst/>
          </a:prstGeom>
          <a:solidFill>
            <a:srgbClr val="7e002a">
              <a:alpha val="58000"/>
            </a:srgbClr>
          </a:solidFill>
          <a:ln w="4680">
            <a:solidFill>
              <a:srgbClr val="7e0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рррррррррррррррррррр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537091" descr=""/>
          <p:cNvPicPr/>
          <p:nvPr/>
        </p:nvPicPr>
        <p:blipFill>
          <a:blip r:embed="rId1"/>
          <a:srcRect l="7490" t="5625" r="5620" b="4355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101" name="Documents"/>
          <p:cNvSpPr/>
          <p:nvPr/>
        </p:nvSpPr>
        <p:spPr>
          <a:xfrm>
            <a:off x="2484360" y="1916280"/>
            <a:ext cx="5832720" cy="4033800"/>
          </a:xfrm>
          <a:prstGeom prst="pie">
            <a:avLst/>
          </a:prstGeom>
          <a:noFill/>
          <a:ln w="38160">
            <a:solidFill>
              <a:srgbClr val="99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49360"/>
            <a:ext cx="7488360" cy="1008000"/>
          </a:xfrm>
          <a:prstGeom prst="flowChartOnlineStorage">
            <a:avLst/>
          </a:prstGeom>
          <a:noFill/>
          <a:ln w="38160">
            <a:solidFill>
              <a:srgbClr val="85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924280"/>
            <a:ext cx="1512720" cy="2879640"/>
          </a:xfrm>
          <a:prstGeom prst="flowChartMagneticTape">
            <a:avLst/>
          </a:prstGeom>
          <a:noFill/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488360" y="549360"/>
            <a:ext cx="1655640" cy="1081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908000" y="765000"/>
            <a:ext cx="489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Тамбовское областное государственное  образовательное 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учреждение для детей сирот и детей, 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оставшихся без попечения родителей (законных представителей)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"Детский дом "Аистенок"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851280" y="4653000"/>
            <a:ext cx="3457440" cy="1150920"/>
          </a:xfrm>
          <a:prstGeom prst="foldedCorner">
            <a:avLst>
              <a:gd name="adj" fmla="val 37824"/>
            </a:avLst>
          </a:prstGeom>
          <a:gradFill rotWithShape="0">
            <a:gsLst>
              <a:gs pos="0">
                <a:srgbClr val="a40037">
                  <a:alpha val="15294"/>
                </a:srgbClr>
              </a:gs>
              <a:gs pos="100000">
                <a:srgbClr val="87847d">
                  <a:alpha val="40000"/>
                </a:srgbClr>
              </a:gs>
            </a:gsLst>
            <a:lin ang="135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аааааааааааааааааааааа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91640" y="4076640"/>
            <a:ext cx="3457800" cy="1150920"/>
          </a:xfrm>
          <a:prstGeom prst="foldedCorner">
            <a:avLst>
              <a:gd name="adj" fmla="val 37824"/>
            </a:avLst>
          </a:prstGeom>
          <a:gradFill rotWithShape="0">
            <a:gsLst>
              <a:gs pos="0">
                <a:srgbClr val="a40037">
                  <a:alpha val="15294"/>
                </a:srgbClr>
              </a:gs>
              <a:gs pos="100000">
                <a:srgbClr val="87847d">
                  <a:alpha val="40000"/>
                </a:srgbClr>
              </a:gs>
            </a:gsLst>
            <a:lin ang="135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ппппппппппппппппп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131280" y="3429000"/>
            <a:ext cx="3457800" cy="1150920"/>
          </a:xfrm>
          <a:prstGeom prst="foldedCorner">
            <a:avLst>
              <a:gd name="adj" fmla="val 37824"/>
            </a:avLst>
          </a:prstGeom>
          <a:gradFill rotWithShape="0">
            <a:gsLst>
              <a:gs pos="0">
                <a:srgbClr val="a40037">
                  <a:alpha val="15294"/>
                </a:srgbClr>
              </a:gs>
              <a:gs pos="100000">
                <a:srgbClr val="87847d">
                  <a:alpha val="40000"/>
                </a:srgbClr>
              </a:gs>
            </a:gsLst>
            <a:lin ang="135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аааааааааааааааааааа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843280" y="2852640"/>
            <a:ext cx="3457440" cy="1150920"/>
          </a:xfrm>
          <a:prstGeom prst="foldedCorner">
            <a:avLst>
              <a:gd name="adj" fmla="val 37824"/>
            </a:avLst>
          </a:prstGeom>
          <a:gradFill rotWithShape="0">
            <a:gsLst>
              <a:gs pos="0">
                <a:srgbClr val="a40037">
                  <a:alpha val="15294"/>
                </a:srgbClr>
              </a:gs>
              <a:gs pos="100000">
                <a:srgbClr val="87847d">
                  <a:alpha val="40000"/>
                </a:srgbClr>
              </a:gs>
            </a:gsLst>
            <a:lin ang="135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ааааааааааааааааааааа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18:17:46Z</dcterms:created>
  <dc:creator>Константин</dc:creator>
  <dc:description/>
  <dc:language>en-US</dc:language>
  <cp:lastModifiedBy>Константин</cp:lastModifiedBy>
  <dcterms:modified xsi:type="dcterms:W3CDTF">2011-02-10T17:52:38Z</dcterms:modified>
  <cp:revision>4</cp:revision>
  <dc:subject/>
  <dc:title>Слайд 1</dc:title>
</cp:coreProperties>
</file>