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313-84DB-45CB-A1F4-59E67B75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6A9-0E1C-4D23-9BA6-B8C73D37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65FA-475A-4CA8-831F-F463A1FA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FD99-96E9-461E-BE62-94D56357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00A-DBD6-43BD-97D9-562DEAA7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BEA6-DFED-4FF8-B996-27E18B9B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A148-CA6E-4F46-B323-A990DDF3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C049-2185-44DB-8BC7-12A194F4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FFFA-C52F-4C69-B71A-146270FD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20E-143B-4500-B7B7-4D50CE0A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4FE-7763-4690-B745-4EA4C814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1F9-8473-4A95-8C4D-2D7ADF30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D883-35FB-4626-92D7-A022B9BD9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0099"/>
                </a:solidFill>
                <a:latin typeface="Arial"/>
              </a:rPr>
              <a:t>Les légu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32000" y="3716280"/>
            <a:ext cx="2952720" cy="2160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03640" y="333360"/>
            <a:ext cx="2808360" cy="19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ch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1800360" cy="172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e ch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580000" y="2852640"/>
            <a:ext cx="165600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nav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564000" y="2565360"/>
            <a:ext cx="2232000" cy="172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e nave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292720" y="2852640"/>
            <a:ext cx="180036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pomme de ter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708360" y="263700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a pomme de ter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24360" y="3789360"/>
            <a:ext cx="158436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concomb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360" y="2708280"/>
            <a:ext cx="2016360" cy="165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e concom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1871640" cy="15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 petits po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08360" y="2924280"/>
            <a:ext cx="1727280" cy="14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 sont les petits po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780000" y="3357720"/>
            <a:ext cx="1655640" cy="17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une carot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32000" y="2349360"/>
            <a:ext cx="2735280" cy="22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oiv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64000" y="2708280"/>
            <a:ext cx="1800000" cy="165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e poiv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716360" y="3213000"/>
            <a:ext cx="251964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sala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03640" y="2565360"/>
            <a:ext cx="2089080" cy="18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a sal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435640" y="2565360"/>
            <a:ext cx="165744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oirea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780000" y="2708280"/>
            <a:ext cx="1728720" cy="165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e poirea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12000" y="321300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citrouil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419640" y="2637000"/>
            <a:ext cx="2160360" cy="165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a citrouil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292720" y="3141720"/>
            <a:ext cx="2158920" cy="179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oign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635280" y="2733840"/>
            <a:ext cx="2089080" cy="177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’oign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2519280" cy="23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a carot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19640" y="2997360"/>
            <a:ext cx="165744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tom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44764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a tom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35640" y="1989000"/>
            <a:ext cx="238104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rad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76720" y="2205000"/>
            <a:ext cx="2447640" cy="24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e radi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19640" y="2708280"/>
            <a:ext cx="187344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bettera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76720" y="2500200"/>
            <a:ext cx="2590560" cy="215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a bettera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1655640" cy="180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6:29:07Z</dcterms:created>
  <dc:creator>Chip</dc:creator>
  <dc:description/>
  <dc:language>en-US</dc:language>
  <cp:lastModifiedBy>Chip</cp:lastModifiedBy>
  <dcterms:modified xsi:type="dcterms:W3CDTF">2008-12-29T14:37:29Z</dcterms:modified>
  <cp:revision>7</cp:revision>
  <dc:subject/>
  <dc:title>Les légumes</dc:title>
</cp:coreProperties>
</file>