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BD9-8803-4C03-854A-9BFED51E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C5F-B63A-45C8-A629-9C11E059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DEDC-0387-44DF-A2E0-79F28E93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21A-9FDB-478C-AA96-C373FA44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58F-D04F-431B-A758-3B1D4511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9DB-9504-49FA-8E76-BB3F9B91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59E-1567-4E9F-A703-6F2F39E3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999-C8D5-4E60-85D8-5CAB6FE3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504-2C95-4B9E-9907-7E7EE766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7DC-AAB3-4047-A3CF-16BEEAF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C62-3F15-40ED-B45C-962654EB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E69-DDE5-4FAD-AF97-54451BBB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E540-C83B-4DDC-AAD3-1FB713952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90099"/>
                </a:solidFill>
                <a:latin typeface="Arial"/>
              </a:rPr>
              <a:t>Les légu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3716280"/>
            <a:ext cx="2952720" cy="2160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03640" y="33336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ch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cho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80000" y="2852640"/>
            <a:ext cx="165600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nav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64000" y="2565360"/>
            <a:ext cx="2232000" cy="17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nave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92720" y="285264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pomme de ter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08360" y="263700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a pomme de ter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24360" y="3789360"/>
            <a:ext cx="158436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concomb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360" y="2708280"/>
            <a:ext cx="2016360" cy="16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concomb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1871640" cy="15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 petits po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08360" y="2924280"/>
            <a:ext cx="1727280" cy="14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 sont les petits po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80000" y="3357720"/>
            <a:ext cx="1655640" cy="17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une carot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2349360"/>
            <a:ext cx="273528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oiv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2708280"/>
            <a:ext cx="1800000" cy="16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poiv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3213000"/>
            <a:ext cx="2519640" cy="223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sala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2089080" cy="18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a salad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165744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oirea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0" y="2708280"/>
            <a:ext cx="1728720" cy="16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poireau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12000" y="321300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citrouil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19640" y="2637000"/>
            <a:ext cx="2160360" cy="165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a citrouill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2158920" cy="179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oig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635280" y="2733840"/>
            <a:ext cx="2089080" cy="177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’oign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2519280" cy="23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a carot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19640" y="2997360"/>
            <a:ext cx="165744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tom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4764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a toma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238104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rad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e radi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19640" y="2708280"/>
            <a:ext cx="187344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bettera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76720" y="2500200"/>
            <a:ext cx="2590560" cy="215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la betterav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165564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цобина Галина Ивановна  МОУ"Алексеевская СОШ"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6:29:07Z</dcterms:created>
  <dc:creator>Chip</dc:creator>
  <dc:description/>
  <dc:language>en-US</dc:language>
  <cp:lastModifiedBy>Chip</cp:lastModifiedBy>
  <dcterms:modified xsi:type="dcterms:W3CDTF">2008-12-29T14:37:29Z</dcterms:modified>
  <cp:revision>7</cp:revision>
  <dc:subject/>
  <dc:title>Les légumes</dc:title>
</cp:coreProperties>
</file>