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0AA-AD5B-46B2-930A-95454285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15D-56A5-45DA-A5E7-362BADFB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76A-1DB6-4D68-8373-1EE5AC46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393-EF26-4493-8353-61C4F1C7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AF9D-E458-47B8-B46B-DCEEB618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6711-A5A7-4149-A095-C36B2098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1A9A-5E8C-4774-B734-917AE0A7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6C92-07A8-4674-8D9B-23B60DCE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E1E6-7290-4709-9DEA-56165A80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CFA0-DD6D-41F8-859D-2EDFF2A6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2DC8-5930-42B6-BBFD-117AF5D5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4C1-256F-4CC8-B330-43D959E3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4B32-B30A-4390-889E-B25DE55C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4EB0-7851-41CC-86DB-79154798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D09D-9CCA-466A-9A45-7F77B0F6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F9F4-B073-41BD-8DAF-C02F6CBD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4DDD-7C5F-46E9-9767-95C3E377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ED9-E27B-43CF-9A61-F57A1E1B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EB0-B875-4583-B5C6-F68CDB3A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D6D-D3AF-4F4C-9CB7-0EA8CDB4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967-1BBF-4C6C-B0AF-3C751680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719-97C7-4BC5-A8F2-6ED9617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49B-0AEF-4BAF-B9AB-7C618452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422-B5D1-45F7-A740-9D517273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522E-AB01-4B02-BFE6-FE174934857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B774-07BB-4F6A-84A0-F1B409DD097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4076280"/>
            <a:ext cx="81090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Комитет по образованию Мурманской области.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Муниципаль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средняя общеобразовательная школа №2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Творческий проект:</a:t>
            </a: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1800"/>
            </a:b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тор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Летний»</a:t>
            </a:r>
            <a:br>
              <a:rPr sz="2800"/>
            </a:br>
            <a:br>
              <a:rPr sz="28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Учениц </a:t>
            </a: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7</a:t>
            </a: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класса: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    Терещенко Лилии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                Селениной Александры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              Руководитель: учитель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              обслуживающего труда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                                                                 Пискунова З. В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п. Сафоново,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Verdana"/>
              </a:rPr>
              <a:t>2009 год</a:t>
            </a:r>
            <a:endParaRPr b="1" lang="en-US" sz="1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1116000" y="2708280"/>
            <a:ext cx="4095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567760" y="185760"/>
            <a:ext cx="3471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тесто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 ст ложки с горкой меда (80~90г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/3 стакана сахара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3 яйца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,5~3 стакана муки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1 ч ложка бех верха соды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крем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500мл сметаны 15~20%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/3 стакана сахара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50г творожной массы (с ванилином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3673440" cy="2443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11280" y="189000"/>
            <a:ext cx="42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2) Торт «Медовое полено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32120" y="4147200"/>
            <a:ext cx="19195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99"/>
                </a:solidFill>
                <a:uFillTx/>
                <a:latin typeface="Verdana"/>
              </a:rPr>
              <a:t>бисквит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 – 300 гр.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6699"/>
                </a:solidFill>
                <a:uFillTx/>
                <a:latin typeface="Verdana"/>
              </a:rPr>
              <a:t>торт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метана – 500 гр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ахар – 1 ст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желатин – 3 ст. лож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киви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банан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3384360" cy="26128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3429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3) Торт «Летний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выбрали третий вариант, потому что сейчас уже наступает зима и так хочется ощутить тепло лета, а торт «Летний» навеял нам чудные воспоминания об уходящей поре, и мы хотим поделиться ими с в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 тому же торт «Летний» очень легок в приготовлении, и потому мы считаем, что этот десерт - самый оптимальный вариант для нас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спользуемые материалы и инструмент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1989000"/>
            <a:ext cx="64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1125360"/>
            <a:ext cx="71276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Нож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Доска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Тарелк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Ложк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Фартуки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Ингредиенты, нужные для приготовления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3429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храна труда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4292640"/>
            <a:ext cx="8497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Надеть спецодежду перед началом работы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одготовить рабочее место: разложить на столе необходимые приспособления для приготовления торта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ервичная обработка и сортировка продуктов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6699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Правильное обращение с режущими предметам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440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ецепт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Бисквит – 300 гр. (можно купить готовый или приготовить самим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метана – 500 гр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Сахар – 1 ст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Желатин – 3 ст. лож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Киви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Банан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Клубни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299736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2349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пособ приготовлени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38606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314172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Желатин зальем 0,5 стакана холодной воды на 30 минут. В это время сметану взобьем с сахаром. По прошествии 30 мин. желатин поставим на огонь и подогреем до полного растворения (важно не доводить до кипения). Введем в желатин сметану тоненькой струйкой постоянно помешива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стелем глубокую посуду пищевой пленкой, на дно выложим нарезанные на половинки фрукты, затем слой поломанного на кусочки бисквита, опять слой ассорти и слой бисквита.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льем нашей смесью сметаны и желатина, и уберем в холодильник на 2 часа. По прошествии 2-х часов достаем тортик из холодильника и аккуратно переворачиваем на блюдо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Заключение 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                                       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ценка качества проект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считаем, что наш творческий проект удался: презентация оформлена, торт приготовлен, все цели и задачи выполнены, и поэтому мы можем смело сказать, что умеем готовить торты. Но нам хочется еще раз  испечь торт, на этот раз другой. Мы будем стремиться к новым успехам. УРА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743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-171360"/>
            <a:ext cx="824364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асчет себестоимост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549360"/>
          <a:ext cx="8229600" cy="5199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исквит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7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0 г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7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метан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00 г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2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аха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8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 стака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Желати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 ст. л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5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ив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8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 шт.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6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ананы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54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 шт. 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7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лубник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9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300 г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9 ру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5867280" y="59500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Итого: 183 руб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Библиограф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tp://www.sladka.ru/sweets/cakes/348/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tp://gotovly.ru/recept/?recept=4449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ttp://images.yandex.ru/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50752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Приятного аппетита !!!=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2637000"/>
            <a:ext cx="3456000" cy="2590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07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824364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6666"/>
                </a:solidFill>
                <a:latin typeface="Verdana"/>
              </a:rPr>
              <a:t>Селенина Саша                               Терещенко Лиля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835000" cy="325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2793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Содержание: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Введение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1) Из истории кулинар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2) Из истории тортов                               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Планирование и изготовление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1) Цели и задачи                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2) Звёздочка обдумывания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3) Разработка идей и выбор оптимального варианта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4) Используемые материалы и инструменты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5) Рецеп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6) Способ приготовлени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7) Охрана труда                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Заключение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1) Оценка качества проекта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2) Расчет себестоимости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3) Библиография                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Введение.</a:t>
            </a:r>
            <a:br>
              <a:rPr sz="4000"/>
            </a:b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з истории русской кулинарии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IX-XVI ВЕКА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На этом начальном этапе русской кулинарии сформировалась остающаяся неизменной по сей день основа русского стола: знаменитый черный ржаной хлеб, традиционные супы и каши, пироги и другие многочисленные изделия из дрожжевого теста, блины, а также напитки - мед, квас и водка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Кроме того, в связи с принятием в этот период христианства, оформились стол постный и стол скоромный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XVI-XVII ВЕКА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В этот период к России были присоединены ханства Казанское и Астраханское, Башкирия и Сибирь, что обусловило появление заметного влияния на русскую кухню кухни тюркских народов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Именно тогда в русскую кухню вошли блюда из пресного теста типа лапши или пельменей, она обогатилась такими восточными пряностями, как корица, перец, шафран и многие другие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На русском столе появились новые фрукты: курага, урюк, инжир, изюм, хурма, лимоны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Тогда же в Россию впервые был завезен чай, без которого сейчас просто невозможно представить российский стол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В это время стал поступать в Россию и тростниковый сахар, благодаря чему появились и совершенно привычные для нас сегодня варенья, конфеты, цукаты и другие сладост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Нужно отметить и такую характерную черту этого периода русской кулинарии - в это время резко обозначилась разница между столом простонародья и знати, и, если пища знати становилась более богатой и изысканной, то еда низших слоев населения, наоборот, упростилась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XVIII ВЕК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эпоху реформ Петра I русская кухня испытывает на себе сильное западное влияние - сначала голландское, немецкое, австрийское и шведское, затем - большей степени французское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Именно тогда среди знати становится модным привозить для себя поваров из этих стран, на их кухнях появляется печь новой конструкции - голландская, что привносит новые способы кулинарной обработки, так же, как и вывезенная иностранными поварами из своих стран новая кухонная утварь - кастрюли, дуршлаги и сковородки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числе новых продуктов появляются голландские и французские сыры и, конечно, картофель, который сейчас стал непременным продуктом на столе россиян, а поначалу вызывал у народа такое неприятие, что иногда это заканчивалось даже так называемыми "картофельными бунтами"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XIX ВЕК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эпоху наполеоновского нашествия в русском обществе ярко проявились славянофильские настроения, появился интерес ко всему исконно русскому, в частности, на волне этого интереса было по-новому переосмыслено русское кулинарное наследие, что парадоксальным образом сочеталось с одновременным сильнейшим влиянием французской кухни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это время в России появились первые рестораны, в них работало огромное множество поваров - французов, которые по-своему воплощали извлеченные из бабушкиных сундуков традиционные русские рецепты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XX ВЕК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 наш век бурного развития средств коммуникации и транспорта происходит широкое обогащение русской кухни за счет кухонь и кулинарных традиций самых разных стран мира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На нашем столе появляются новые для нас продукты, мы усваиваем новые для нас подходы к приготовлению продуктов традиционных, наконец мы используем на кухне всевозможные чудеса бытовой техники, такие, как микроволновая печь, комбайны, ростеры, фритюрницы и многое другое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Все это дает безграничные возможности для творчества на кухне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з истории кондитерских изделий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Кондитерские и дрожжевые булочные изделия являются неотъемлемой частью русской и татарской кухни, имеют большое значение в питании человека. Они обладают привлекательным внешним видом и хорошим вкусом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Вся выпускаемая кондитерская продукция должна соответствовать требованиям государственных стандартов (ГОСТом); изготавливаются из качественного сырья с применением технологических процессов обеспечивающих выпуск высококачественной продукции, особое значение имеют изделия предназначенные для детского и диетического питания. На крупных ведущих предприятиях отрасли города Москвы, Санкт - Петербурга и некоторых других городов качества выпускаемой продукции высокое. Особый интерес в перспективе представляет влажность, внедрение в практику кондитерских предприятий. Международной системе качества ИСО - 9000, она нацелена на предотвращение брака, а не на его последствии. Внедрение такой системы в кондитерскую промышленность станет эффективным механизмом, гарантирующим стабильный выпуск высококачественной продукций. Одной из основных задач стоящей перед предприятиями кондитерской промышленности в настоящее время является целенаправленное создание цивилизованного рынка продуктов, высокого качества, а также продуктов лечебно- диетического, профилактического и детского назначения, отвечающих потребностям конкретных групп населения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Так, например, многие предприятия вырабатывают изделия с пониженным содержанием сахарозы. Вырабатываются также группы изделий, как витаминизированное печенье, печенье с бета - каротином, уже производится шоколад с добавлением природных антиоксидантов. Увеличение объемов производства и повышение качества кондитерских изделий возможно лишь на основе новейших научных разработок и повышения уровня технологического контроля. Создание рынка труда поставило перед процессом обучения новые задачи, в частности не только соответствовать современным требованиям, уметь выполнять работу, но и работать с заказчиком, планировать свою работу, производить технологические, экономические расчеты, а также заниматься самоконтролем своего труда.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Verdana"/>
              </a:rPr>
              <a:t>Планирование и изготовление</a:t>
            </a: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        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Цели и задач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аша цель научиться вкусно готовить торты, правильно комбинировать разные компоненты друг с другом и в дальнейшем, на основе данного торта, изобрести собственный рецепт приготовл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Мы хотели бы удивить наших друзей необыкновенным тортом и напомнить об ушедшем лет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6948360" y="333360"/>
            <a:ext cx="1944720" cy="18734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Звёздочка обдумыван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1773360"/>
            <a:ext cx="5400720" cy="3959280"/>
          </a:xfrm>
          <a:prstGeom prst="star5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364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«Летний» торт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1640" y="1341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Материалы и инструменты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278136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Охрана труд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08720" y="2492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Техника приготовления тор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587700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57340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Разработка идей и выбор оптимального вариант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57340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Себестоимость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азработка идей и выбор оптимального вариант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У нас было несколько рецептов приготовления тортов. Вот одни из них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5038560" y="2200320"/>
            <a:ext cx="41054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для коржей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яйца - 2 шт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ахар - 1 стакан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разрыхлитель - 0,5 ч.л.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метана - 250 г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ука - 1,5 стакан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рехи - 0,5 стакан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какао - 2 ст. л.</a:t>
            </a:r>
            <a:br>
              <a:rPr sz="1400"/>
            </a:br>
            <a:br>
              <a:rPr sz="1400"/>
            </a:br>
            <a:r>
              <a:rPr b="0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для крема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метана - 550 г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ахар - 2 стакан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загуститель для сливок - 2 пакетик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рехи - 0,5 стакан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консервированные ананасы - 1 баночка</a:t>
            </a:r>
            <a:br>
              <a:rPr sz="1400"/>
            </a:br>
            <a:br>
              <a:rPr sz="1400"/>
            </a:br>
            <a:r>
              <a:rPr b="0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для украшения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шоколад - 1 плитка,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олоко</a:t>
            </a:r>
            <a:br>
              <a:rPr sz="1400"/>
            </a:b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кружочки ананаса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2276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1) Торт "Мраморный"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40147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8:11:11Z</dcterms:created>
  <dc:creator>leo</dc:creator>
  <dc:description/>
  <dc:language>en-US</dc:language>
  <cp:lastModifiedBy>leo</cp:lastModifiedBy>
  <dcterms:modified xsi:type="dcterms:W3CDTF">2009-11-15T16:41:44Z</dcterms:modified>
  <cp:revision>4</cp:revision>
  <dc:subject/>
  <dc:title>Комитет по образованию Мурманской области. Муниципальное общеобразовательное учреждение средняя общеобразовательная школа №2.      Творческий проект:   торт  «Летний»                                                                          Ученицы 7 класса:                                                                      Терещенко Лилия                                                                              Селенина Александра.                                                                                 Руководитель: учитель                                                                                обслуживающего труда                                                                  Пискунова З. В.        п. Сафоново, 2009 год</dc:title>
</cp:coreProperties>
</file>