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FB86-1C45-46C4-9C6D-A34EA845F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E4A5-8090-4B3D-8439-7FAB3872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DBE9-26A6-48FE-9B6B-07A1D63E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C467-E418-4013-9BDE-9857EBC5B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6EDD-7AC9-4A0C-BDB6-8881FCE1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6020-7AE5-42F4-A25B-CBBC7714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7B77-518D-41A5-B270-E8E5879E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B2F6-BEB8-4516-9132-E30BB0F8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9508-0A90-4A6B-9AAD-84FF4ED4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CC1F-276B-4758-AF22-A60EFB3B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8ABA-0E51-4759-A64F-D1E764D2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0CE9-809B-418D-9E10-48EC8C2A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1CE0-CA63-4948-8C4D-6EADF522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4B66-B106-4F38-9852-59DE17F1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CE5D-0521-4AA5-9DF8-7499E4C0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1EF6-77D4-48E8-82BC-17A55ABD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8D21-68FC-43CE-9573-66BC60B71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6B9F-CF66-440A-B956-C38F627D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AE91-A2BD-4D79-BA1F-3DB387C7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8C13-5BDE-48BD-81A9-5DD89036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617C-A4EB-45A3-B447-8C891B7C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7BC1-7880-498D-BA75-6F9548E3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A010-5B40-46AE-BCC6-DD954BCA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48BE-3301-4A8C-B5A4-0DC75F34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DE94-1743-40BF-BE55-32AB26D5D529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93A0-F55A-4291-8F6D-D218B4B9D07C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4076280"/>
            <a:ext cx="810900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Verdana"/>
              </a:rPr>
              <a:t>Комитет по образованию Мурманской области.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Verdana"/>
              </a:rPr>
              <a:t>Муниципальное общеобразовательное учреждение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Verdana"/>
              </a:rPr>
              <a:t>средняя общеобразовательная школа №2.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6666"/>
                </a:solidFill>
                <a:latin typeface="Verdana"/>
              </a:rPr>
              <a:t>Творческий проект: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1800"/>
            </a:b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Verdana"/>
              </a:rPr>
              <a:t>тор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«Летний»</a:t>
            </a:r>
            <a:br>
              <a:rPr sz="2800"/>
            </a:br>
            <a:br>
              <a:rPr sz="28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Verdana"/>
              </a:rPr>
              <a:t>                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                                                  </a:t>
            </a:r>
            <a:r>
              <a:rPr b="1" lang="ru-RU" sz="1400" spc="-1" strike="noStrike">
                <a:solidFill>
                  <a:srgbClr val="006666"/>
                </a:solidFill>
                <a:latin typeface="Verdana"/>
              </a:rPr>
              <a:t> Учениц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7</a:t>
            </a:r>
            <a:r>
              <a:rPr b="1" lang="ru-RU" sz="1400" spc="-1" strike="noStrike">
                <a:solidFill>
                  <a:srgbClr val="006666"/>
                </a:solidFill>
                <a:latin typeface="Verdana"/>
              </a:rPr>
              <a:t> класса: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Verdana"/>
              </a:rPr>
              <a:t>                                                                     Терещенко Лилии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Verdana"/>
              </a:rPr>
              <a:t>                                                                                 Селениной Александры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Verdana"/>
              </a:rPr>
              <a:t>                                                                               Руководитель: учитель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Verdana"/>
              </a:rPr>
              <a:t>                                                                               обслуживающего труда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Verdana"/>
              </a:rPr>
              <a:t>                                                                 Пискунова З. В.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Verdana"/>
              </a:rPr>
              <a:t>п. Сафоново,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Verdana"/>
              </a:rPr>
              <a:t>2009 год</a:t>
            </a:r>
            <a:endParaRPr b="1" lang="en-US" sz="1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Рисунок 1" descr=""/>
          <p:cNvPicPr/>
          <p:nvPr/>
        </p:nvPicPr>
        <p:blipFill>
          <a:blip r:embed="rId1"/>
          <a:stretch/>
        </p:blipFill>
        <p:spPr>
          <a:xfrm>
            <a:off x="1116000" y="2708280"/>
            <a:ext cx="40957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567760" y="185760"/>
            <a:ext cx="34711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тесто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2 ст ложки с горкой меда (80~90г)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2/3 стакана сахара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3 яйца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2,5~3 стакана муки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1 ч ложка бех верха соды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крем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500мл сметаны 15~20%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2/3 стакана сахара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250г творожной массы (с ванилином)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3673440" cy="24433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11280" y="189000"/>
            <a:ext cx="424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2) Торт «Медовое полено»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32120" y="4147200"/>
            <a:ext cx="1919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6699"/>
                </a:solidFill>
                <a:uFillTx/>
                <a:latin typeface="Verdana"/>
              </a:rPr>
              <a:t>бисквит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 – 300 гр.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6699"/>
                </a:solidFill>
                <a:uFillTx/>
                <a:latin typeface="Verdana"/>
              </a:rPr>
              <a:t>торт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сметана – 500 гр.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сахар – 1 ст.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желатин – 3 ст. лож.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киви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банан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0" name="Рисунок 1" descr=""/>
          <p:cNvPicPr/>
          <p:nvPr/>
        </p:nvPicPr>
        <p:blipFill>
          <a:blip r:embed="rId2"/>
          <a:stretch/>
        </p:blipFill>
        <p:spPr>
          <a:xfrm>
            <a:off x="1332000" y="4005360"/>
            <a:ext cx="3384360" cy="26128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39640" y="34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3) Торт «Летний»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Мы выбрали третий вариант, потому что сейчас уже наступает зима и так хочется ощутить тепло лета, а торт «Летний» навеял нам чудные воспоминания об уходящей поре, и мы хотим поделиться ими с вам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К тому же торт «Летний» очень легок в приготовлении, и потому мы считаем, что этот десерт - самый оптимальный вариант для нас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700360" y="3716280"/>
            <a:ext cx="36734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44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Используемые материалы и инструменты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0" y="1989000"/>
            <a:ext cx="64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1280" y="1125360"/>
            <a:ext cx="71276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Ножи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Доска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Тарелки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Ложки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Фартуки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Ингредиенты, нужные для приготовления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1640" y="342900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Охрана труда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4292640"/>
            <a:ext cx="84978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Надеть спецодежду перед началом работы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одготовить рабочее место: разложить на столе необходимые приспособления для приготовления торта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ервичная обработка и сортировка продуктов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равильное обращение с режущими предметами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44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Рецепт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Бисквит – 300 гр. (можно купить готовый или приготовить самим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Сметана – 500 гр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Сахар – 1 ст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Желатин – 3 ст. лож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Киви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Банан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Клубника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2997360"/>
            <a:ext cx="82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79640" y="234936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Способ приготовления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16000" y="386064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3141720"/>
            <a:ext cx="84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Желатин зальем 0,5 стакана холодной воды на 30 минут. В это время сметану взобьем с сахаром. По прошествии 30 мин. желатин поставим на огонь и подогреем до полного растворения (важно не доводить до кипения). Введем в желатин сметану тоненькой струйкой постоянно помешивая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Застелем глубокую посуду пищевой пленкой, на дно выложим нарезанные на половинки фрукты, затем слой поломанного на кусочки бисквита, опять слой ассорти и слой бисквита.</a:t>
            </a:r>
            <a:br>
              <a:rPr sz="1800"/>
            </a:b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Зальем нашей смесью сметаны и желатина, и уберем в холодильник на 2 часа. По прошествии 2-х часов достаем тортик из холодильника и аккуратно переворачиваем на блюдо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Заключение </a:t>
            </a: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                                        </a:t>
            </a:r>
            <a:br>
              <a:rPr sz="4400"/>
            </a:b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Оценка качества проекта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Мы считаем, что наш творческий проект удался: презентация оформлена, торт приготовлен, все цели и задачи выполнены, и поэтому мы можем смело сказать, что умеем готовить торты. Но нам хочется еще раз  испечь торт, на этот раз другой. Мы будем стремиться к новым успехам. УРА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771640" y="3789360"/>
            <a:ext cx="3743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3640" y="-171360"/>
            <a:ext cx="824364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Расчет себестоимости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68360" y="549360"/>
          <a:ext cx="8229600" cy="51991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исквиты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7 руб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00 гр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7 руб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метана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2 руб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00 гр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2 руб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ахар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8 руб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 стакан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 руб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Желатин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 руб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 ст. л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 руб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иви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8 руб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 шт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6 руб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ананы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4 руб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 шт. 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7 руб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лубника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9 руб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00 гр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9 руб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5867280" y="59500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Итого: 183 руб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Библиография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ttp://www.sladka.ru/sweets/cakes/348/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ttp://gotovly.ru/recept/?recept=4449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ttp://images.yandex.ru/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50752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Приятного аппетита !!!=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4284720" y="2637000"/>
            <a:ext cx="3456000" cy="25905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507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0920" y="1341360"/>
            <a:ext cx="824364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Селенина Саша                               Терещенко Лиля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651640" y="1989000"/>
            <a:ext cx="2835000" cy="3256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971640" y="1989000"/>
            <a:ext cx="27939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Содержание: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 Введение                               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1) Из истории кулинар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2) Из истории тортов                                                                       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 Планирование и изготовление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1) Цели и задачи                                                        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2) Звёздочка обдумывания                                     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3) Разработка идей и выбор оптимального варианта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4) Используемые материалы и инструменты     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5) Рецепт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6) Способ приготовлени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7) Охрана труда                                                        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 Заключение                          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1) Оценка качества проекта                                   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2) Расчет себестоимости                                        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3) Библиография                                                      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44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Verdana"/>
              </a:rPr>
              <a:t>Введение.</a:t>
            </a:r>
            <a:br>
              <a:rPr sz="4000"/>
            </a:b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Из истории русской кулинарии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IX-XVI ВЕКА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На этом начальном этапе русской кулинарии сформировалась остающаяся неизменной по сей день основа русского стола: знаменитый черный ржаной хлеб, традиционные супы и каши, пироги и другие многочисленные изделия из дрожжевого теста, блины, а также напитки - мед, квас и водка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Кроме того, в связи с принятием в этот период христианства, оформились стол постный и стол скоромный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XVI-XVII ВЕКА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В этот период к России были присоединены ханства Казанское и Астраханское, Башкирия и Сибирь, что обусловило появление заметного влияния на русскую кухню кухни тюркских народов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Именно тогда в русскую кухню вошли блюда из пресного теста типа лапши или пельменей, она обогатилась такими восточными пряностями, как корица, перец, шафран и многие другие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На русском столе появились новые фрукты: курага, урюк, инжир, изюм, хурма, лимоны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Тогда же в Россию впервые был завезен чай, без которого сейчас просто невозможно представить российский стол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В это время стал поступать в Россию и тростниковый сахар, благодаря чему появились и совершенно привычные для нас сегодня варенья, конфеты, цукаты и другие сладости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Нужно отметить и такую характерную черту этого периода русской кулинарии - в это время резко обозначилась разница между столом простонародья и знати, и, если пища знати становилась более богатой и изысканной, то еда низших слоев населения, наоборот, упростилась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XVIII ВЕК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В эпоху реформ Петра I русская кухня испытывает на себе сильное западное влияние - сначала голландское, немецкое, австрийское и шведское, затем - большей степени французское.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Именно тогда среди знати становится модным привозить для себя поваров из этих стран, на их кухнях появляется печь новой конструкции - голландская, что привносит новые способы кулинарной обработки, так же, как и вывезенная иностранными поварами из своих стран новая кухонная утварь - кастрюли, дуршлаги и сковородки.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В числе новых продуктов появляются голландские и французские сыры и, конечно, картофель, который сейчас стал непременным продуктом на столе россиян, а поначалу вызывал у народа такое неприятие, что иногда это заканчивалось даже так называемыми "картофельными бунтами".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XIX ВЕК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В эпоху наполеоновского нашествия в русском обществе ярко проявились славянофильские настроения, появился интерес ко всему исконно русскому, в частности, на волне этого интереса было по-новому переосмыслено русское кулинарное наследие, что парадоксальным образом сочеталось с одновременным сильнейшим влиянием французской кухни.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В это время в России появились первые рестораны, в них работало огромное множество поваров - французов, которые по-своему воплощали извлеченные из бабушкиных сундуков традиционные русские рецепты.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XX ВЕК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В наш век бурного развития средств коммуникации и транспорта происходит широкое обогащение русской кухни за счет кухонь и кулинарных традиций самых разных стран мира.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На нашем столе появляются новые для нас продукты, мы усваиваем новые для нас подходы к приготовлению продуктов традиционных, наконец мы используем на кухне всевозможные чудеса бытовой техники, такие, как микроволновая печь, комбайны, ростеры, фритюрницы и многое другое.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Все это дает безграничные возможности для творчества на кухне.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Из истории кондитерских изделий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Кондитерские и дрожжевые булочные изделия являются неотъемлемой частью русской и татарской кухни, имеют большое значение в питании человека. Они обладают привлекательным внешним видом и хорошим вкусом.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Вся выпускаемая кондитерская продукция должна соответствовать требованиям государственных стандартов (ГОСТом); изготавливаются из качественного сырья с применением технологических процессов обеспечивающих выпуск высококачественной продукции, особое значение имеют изделия предназначенные для детского и диетического питания. На крупных ведущих предприятиях отрасли города Москвы, Санкт - Петербурга и некоторых других городов качества выпускаемой продукции высокое. Особый интерес в перспективе представляет влажность, внедрение в практику кондитерских предприятий. Международной системе качества ИСО - 9000, она нацелена на предотвращение брака, а не на его последствии. Внедрение такой системы в кондитерскую промышленность станет эффективным механизмом, гарантирующим стабильный выпуск высококачественной продукций. Одной из основных задач стоящей перед предприятиями кондитерской промышленности в настоящее время является целенаправленное создание цивилизованного рынка продуктов, высокого качества, а также продуктов лечебно- диетического, профилактического и детского назначения, отвечающих потребностям конкретных групп населения.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Так, например, многие предприятия вырабатывают изделия с пониженным содержанием сахарозы. Вырабатываются также группы изделий, как витаминизированное печенье, печенье с бета - каротином, уже производится шоколад с добавлением природных антиоксидантов. Увеличение объемов производства и повышение качества кондитерских изделий возможно лишь на основе новейших научных разработок и повышения уровня технологического контроля. Создание рынка труда поставило перед процессом обучения новые задачи, в частности не только соответствовать современным требованиям, уметь выполнять работу, но и работать с заказчиком, планировать свою работу, производить технологические, экономические расчеты, а также заниматься самоконтролем своего труда.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Verdana"/>
              </a:rPr>
              <a:t>Планирование и изготовление</a:t>
            </a: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         </a:t>
            </a: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Цели и задачи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Наша цель научиться вкусно готовить торты, правильно комбинировать разные компоненты друг с другом и в дальнейшем, на основе данного торта, изобрести собственный рецепт приготовлен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Мы хотели бы удивить наших друзей необыкновенным тортом и напомнить об ушедшем лет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6948360" y="333360"/>
            <a:ext cx="1944720" cy="18734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44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Звёздочка обдумывания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1908000" y="1773360"/>
            <a:ext cx="5400720" cy="3959280"/>
          </a:xfrm>
          <a:prstGeom prst="star5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360" y="3645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«Летний» торт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71640" y="1341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Материалы и инструменты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1280" y="278136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Охрана труд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08720" y="249228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Техника приготовления торт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587700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57340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Разработка идей и выбор оптимального вариант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80000" y="573408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Себестоимость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44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Разработка идей и выбор оптимального варианта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У нас было несколько рецептов приготовления тортов. Вот одни из них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5038560" y="2200320"/>
            <a:ext cx="41054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для коржей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яйца - 2 шт,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сахар - 1 стакан,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разрыхлитель - 0,5 ч.л.,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сметана - 250 г,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мука - 1,5 стакана,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орехи - 0,5 стакана,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какао - 2 ст. л.</a:t>
            </a:r>
            <a:br>
              <a:rPr sz="1400"/>
            </a:br>
            <a:br>
              <a:rPr sz="1400"/>
            </a:br>
            <a:r>
              <a:rPr b="0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для крема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сметана - 550 г,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сахар - 2 стакана,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загуститель для сливок - 2 пакетика,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орехи - 0,5 стакана,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консервированные ананасы - 1 баночка</a:t>
            </a:r>
            <a:br>
              <a:rPr sz="1400"/>
            </a:br>
            <a:br>
              <a:rPr sz="1400"/>
            </a:br>
            <a:r>
              <a:rPr b="0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для украшения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шоколад - 1 плитка,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молоко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кружочки ананаса</a:t>
            </a: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4000" y="2276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1) Торт "Мраморный"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4360" y="2852640"/>
            <a:ext cx="401472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18:11:11Z</dcterms:created>
  <dc:creator>leo</dc:creator>
  <dc:description/>
  <dc:language>en-US</dc:language>
  <cp:lastModifiedBy>leo</cp:lastModifiedBy>
  <dcterms:modified xsi:type="dcterms:W3CDTF">2009-11-15T16:41:44Z</dcterms:modified>
  <cp:revision>4</cp:revision>
  <dc:subject/>
  <dc:title>Комитет по образованию Мурманской области. Муниципальное общеобразовательное учреждение средняя общеобразовательная школа №2.      Творческий проект:   торт  «Летний»                                                                          Ученицы 7 класса:                                                                      Терещенко Лилия                                                                              Селенина Александра.                                                                                 Руководитель: учитель                                                                                обслуживающего труда                                                                  Пискунова З. В.        п. Сафоново, 2009 год</dc:title>
</cp:coreProperties>
</file>