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1486-A841-48F6-B5AF-08C483D6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3880" y="389160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B915-6E70-4927-8232-C86958F1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3880" y="389160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7200" y="389160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C08B-BDC4-4C7B-82E8-6385CA15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3000" y="168264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2120" y="168264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3880" y="389160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3000" y="389160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2120" y="389160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8A5B-90C9-4195-8D28-1817E2C0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13880" y="1682640"/>
            <a:ext cx="84567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67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14240" y="240840"/>
            <a:ext cx="8298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13880" y="389160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3880" y="1682640"/>
            <a:ext cx="84567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7674-E28A-410F-91B0-6D046A90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47200" y="389160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13880" y="389160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13880" y="389160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13880" y="389160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47200" y="389160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73000" y="168264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32120" y="168264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13880" y="389160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73000" y="389160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32120" y="389160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13880" y="1682640"/>
            <a:ext cx="84567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67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67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0D3C-EB63-446D-AE66-04E49C3E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14240" y="240840"/>
            <a:ext cx="8298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13880" y="389160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47200" y="389160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13880" y="389160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3880" y="389160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3880" y="389160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47200" y="389160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73000" y="168264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2120" y="168264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13880" y="389160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73000" y="389160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2120" y="389160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13880" y="1682640"/>
            <a:ext cx="84567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67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88DB-0CC2-4D99-9EC2-6F6C124A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14240" y="240840"/>
            <a:ext cx="8298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13880" y="389160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47200" y="389160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3880" y="389160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13880" y="389160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13880" y="389160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047200" y="389160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73000" y="168264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32120" y="168264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13880" y="389160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73000" y="389160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32120" y="389160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2D2E-7F9D-4B38-8641-9EF50834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240840"/>
            <a:ext cx="8298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9B74-5BCE-4E46-9839-FC456AF6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3880" y="389160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AD20-8423-4536-B687-1FE115C7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7200" y="389160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FC9B-5370-4162-B641-94D937BA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3880" y="389160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615F-5CFA-4BD5-AB15-F7A0B6E2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6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780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604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7F2E1-014B-453E-8785-1E8B6E50A49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13880" y="1682640"/>
            <a:ext cx="84567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98400" y="6066000"/>
            <a:ext cx="9021960" cy="82440"/>
          </a:xfrm>
          <a:prstGeom prst="roundRect">
            <a:avLst>
              <a:gd name="adj" fmla="val 192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16280" y="6248520"/>
            <a:ext cx="7804080" cy="82440"/>
          </a:xfrm>
          <a:prstGeom prst="roundRect">
            <a:avLst>
              <a:gd name="adj" fmla="val 192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13880" y="1682640"/>
            <a:ext cx="84567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8400" y="6066000"/>
            <a:ext cx="9021960" cy="82440"/>
          </a:xfrm>
          <a:prstGeom prst="roundRect">
            <a:avLst>
              <a:gd name="adj" fmla="val 192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16280" y="6248520"/>
            <a:ext cx="7804080" cy="82440"/>
          </a:xfrm>
          <a:prstGeom prst="roundRect">
            <a:avLst>
              <a:gd name="adj" fmla="val 192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0600" y="1623960"/>
            <a:ext cx="9329760" cy="4856040"/>
          </a:xfrm>
          <a:prstGeom prst="roundRect">
            <a:avLst>
              <a:gd name="adj" fmla="val 32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4240" y="47592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1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14240" y="1801440"/>
            <a:ext cx="829800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174600" cy="787320"/>
          </a:xfrm>
          <a:custGeom>
            <a:avLst/>
            <a:gdLst>
              <a:gd name="textAreaLeft" fmla="*/ 360 w 174600"/>
              <a:gd name="textAreaRight" fmla="*/ 174240 w 174600"/>
              <a:gd name="textAreaTop" fmla="*/ 360 h 787320"/>
              <a:gd name="textAreaBottom" fmla="*/ 786960 h 787320"/>
            </a:gdLst>
            <a:ahLst/>
            <a:rect l="textAreaLeft" t="textAreaTop" r="textAreaRight" b="textAreaBottom"/>
            <a:pathLst>
              <a:path w="21600" h="97244">
                <a:moveTo>
                  <a:pt x="196" y="0"/>
                </a:moveTo>
                <a:arcTo wR="196" hR="196" stAng="16200000" swAng="-5400000"/>
                <a:lnTo>
                  <a:pt x="0" y="97048"/>
                </a:lnTo>
                <a:arcTo wR="196" hR="196" stAng="10800000" swAng="-5400000"/>
                <a:lnTo>
                  <a:pt x="21404" y="97244"/>
                </a:lnTo>
                <a:arcTo wR="196" hR="196" stAng="5400000" swAng="-5400000"/>
                <a:lnTo>
                  <a:pt x="21600" y="196"/>
                </a:lnTo>
                <a:arcTo wR="196" hR="196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041560"/>
            <a:ext cx="174600" cy="787320"/>
          </a:xfrm>
          <a:custGeom>
            <a:avLst/>
            <a:gdLst>
              <a:gd name="textAreaLeft" fmla="*/ 360 w 174600"/>
              <a:gd name="textAreaRight" fmla="*/ 174240 w 174600"/>
              <a:gd name="textAreaTop" fmla="*/ 360 h 787320"/>
              <a:gd name="textAreaBottom" fmla="*/ 786960 h 787320"/>
            </a:gdLst>
            <a:ahLst/>
            <a:rect l="textAreaLeft" t="textAreaTop" r="textAreaRight" b="textAreaBottom"/>
            <a:pathLst>
              <a:path w="21600" h="97244">
                <a:moveTo>
                  <a:pt x="196" y="0"/>
                </a:moveTo>
                <a:arcTo wR="196" hR="196" stAng="16200000" swAng="-5400000"/>
                <a:lnTo>
                  <a:pt x="0" y="97048"/>
                </a:lnTo>
                <a:arcTo wR="196" hR="196" stAng="10800000" swAng="-5400000"/>
                <a:lnTo>
                  <a:pt x="21404" y="97244"/>
                </a:lnTo>
                <a:arcTo wR="196" hR="196" stAng="5400000" swAng="-5400000"/>
                <a:lnTo>
                  <a:pt x="21600" y="196"/>
                </a:lnTo>
                <a:arcTo wR="196" hR="196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001880"/>
            <a:ext cx="174600" cy="787320"/>
          </a:xfrm>
          <a:custGeom>
            <a:avLst/>
            <a:gdLst>
              <a:gd name="textAreaLeft" fmla="*/ 360 w 174600"/>
              <a:gd name="textAreaRight" fmla="*/ 174240 w 174600"/>
              <a:gd name="textAreaTop" fmla="*/ 360 h 787320"/>
              <a:gd name="textAreaBottom" fmla="*/ 786960 h 787320"/>
            </a:gdLst>
            <a:ahLst/>
            <a:rect l="textAreaLeft" t="textAreaTop" r="textAreaRight" b="textAreaBottom"/>
            <a:pathLst>
              <a:path w="21600" h="97244">
                <a:moveTo>
                  <a:pt x="196" y="0"/>
                </a:moveTo>
                <a:arcTo wR="196" hR="196" stAng="16200000" swAng="-5400000"/>
                <a:lnTo>
                  <a:pt x="0" y="97048"/>
                </a:lnTo>
                <a:arcTo wR="196" hR="196" stAng="10800000" swAng="-5400000"/>
                <a:lnTo>
                  <a:pt x="21404" y="97244"/>
                </a:lnTo>
                <a:arcTo wR="196" hR="196" stAng="5400000" swAng="-5400000"/>
                <a:lnTo>
                  <a:pt x="21600" y="196"/>
                </a:lnTo>
                <a:arcTo wR="196" hR="196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8040" y="53964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Presentation in English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20360" y="2700360"/>
            <a:ext cx="846612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Topic: Canada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made by Morozova V.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Form 7 B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School № 180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OTTAWA</a:t>
            </a:r>
            <a:r>
              <a:rPr b="1" i="1" lang="en-US" sz="1800" spc="-1" strike="noStrike">
                <a:solidFill>
                  <a:srgbClr val="ff9966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67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11280" y="1152360"/>
            <a:ext cx="84978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 CYR"/>
                <a:ea typeface="Arial CYR"/>
              </a:rPr>
              <a:t>Toronto and Montreal are the largest                    cities of Canada </a:t>
            </a:r>
            <a:endParaRPr b="1" i="1" lang="en-US" sz="36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344600"/>
            <a:ext cx="4356000" cy="4054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500720" y="1295280"/>
            <a:ext cx="5040000" cy="40323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58400" y="0"/>
            <a:ext cx="71852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Canada</a:t>
            </a:r>
            <a:endParaRPr b="1" i="1" lang="en-US" sz="5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480000" y="1123920"/>
            <a:ext cx="288000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63640" y="1152360"/>
            <a:ext cx="6264360" cy="4859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58400" y="-360"/>
            <a:ext cx="830124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Canada</a:t>
            </a:r>
            <a:endParaRPr b="1" i="1" lang="en-US" sz="5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480000" y="1079640"/>
            <a:ext cx="288000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 CYR"/>
                <a:ea typeface="Arial CYR"/>
              </a:rPr>
              <a:t>Canada is slightly larger than the United States and about 26 million people live </a:t>
            </a:r>
            <a:r>
              <a:rPr b="0" lang="en-US" sz="2600" spc="-1" strike="noStrike">
                <a:solidFill>
                  <a:srgbClr val="ffffff"/>
                </a:solidFill>
                <a:latin typeface="Arial CYR"/>
                <a:ea typeface="Arial CYR"/>
              </a:rPr>
              <a:t>there.</a:t>
            </a:r>
            <a:endParaRPr b="0" lang="en-US" sz="2600" spc="-1" strike="noStrike">
              <a:solidFill>
                <a:srgbClr val="cccccc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1079640"/>
            <a:ext cx="612000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58400" y="-360"/>
            <a:ext cx="830124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Canada</a:t>
            </a:r>
            <a:endParaRPr b="1" i="1" lang="en-US" sz="5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480000" y="1079640"/>
            <a:ext cx="288000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 CYR"/>
                <a:ea typeface="Arial CYR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 CYR"/>
                <a:ea typeface="Arial CYR"/>
              </a:rPr>
              <a:t>Its westen coast is washed by the Pacific Ocean and its eastern coast by the Atlantic Ocean. </a:t>
            </a:r>
            <a:endParaRPr b="0" lang="en-US" sz="2600" spc="-1" strike="noStrike">
              <a:solidFill>
                <a:srgbClr val="cccccc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280" y="1079640"/>
            <a:ext cx="6120000" cy="4859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979080" y="1474920"/>
            <a:ext cx="1665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lantic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61640" y="1547640"/>
            <a:ext cx="1665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lantic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0360" y="179280"/>
            <a:ext cx="84596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Arial"/>
              </a:rPr>
              <a:t>National Flag and Coat of Arms</a:t>
            </a:r>
            <a:endParaRPr b="1" i="1" lang="en-US" sz="42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60360" y="1979640"/>
            <a:ext cx="5219640" cy="2879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940360" y="1440000"/>
            <a:ext cx="3279960" cy="39844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39640" y="179280"/>
            <a:ext cx="66754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Symbols of Canad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959280" y="360036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260360" y="3600360"/>
            <a:ext cx="27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300720" y="1260360"/>
            <a:ext cx="2340000" cy="2340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260360" y="1260360"/>
            <a:ext cx="2519640" cy="2340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3780000" y="1260360"/>
            <a:ext cx="2519280" cy="2340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759280" y="3600360"/>
            <a:ext cx="2880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The symbols</a:t>
            </a:r>
            <a:r>
              <a:rPr b="0" lang="ru-RU" sz="2600" spc="-1" strike="noStrike">
                <a:solidFill>
                  <a:srgbClr val="ffffff"/>
                </a:solidFill>
                <a:latin typeface="Arial CYR"/>
                <a:ea typeface="Arial CYR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of Canada are a maple leaf and syrup,a canadian beaver,a loon and  a canadian go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39640" y="179280"/>
            <a:ext cx="66754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Symbols of Canada.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959280" y="360036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60360" y="3600360"/>
            <a:ext cx="27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300720" y="1260360"/>
            <a:ext cx="2340000" cy="2340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1260360" y="1260360"/>
            <a:ext cx="2519640" cy="2340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3780000" y="1260360"/>
            <a:ext cx="2519280" cy="2340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759280" y="3611520"/>
            <a:ext cx="288000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600" spc="-1" strike="noStrike">
                <a:solidFill>
                  <a:srgbClr val="ffffff"/>
                </a:solidFill>
                <a:latin typeface="Arial CYR"/>
                <a:ea typeface="Arial CYR"/>
              </a:rPr>
              <a:t>English and French are two official languages of the country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02920" y="88560"/>
            <a:ext cx="8317080" cy="1855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Canada is an independent country. Canada g</a:t>
            </a: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ot</a:t>
            </a:r>
            <a:r>
              <a:rPr b="1" lang="ru-RU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 full independen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</a:t>
            </a:r>
            <a:r>
              <a:rPr b="1" lang="ru-RU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 1931. </a:t>
            </a: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The country is a member of the Commonwealth. </a:t>
            </a:r>
            <a:r>
              <a:rPr b="1" lang="ru-RU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Queen Elizabeth II </a:t>
            </a: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is the head of the Commonwealth and the</a:t>
            </a:r>
            <a:r>
              <a:rPr b="1" lang="ru-RU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 Queen of Canada</a:t>
            </a: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 but only formally.</a:t>
            </a:r>
            <a:endParaRPr b="1" i="1" lang="en-US" sz="28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276720" y="2016000"/>
            <a:ext cx="3386160" cy="42325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39840" y="360000"/>
            <a:ext cx="884088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Ottawa is the capital of the country</a:t>
            </a:r>
            <a:br>
              <a:rPr sz="2400"/>
            </a:b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87280" y="1079640"/>
            <a:ext cx="7345440" cy="43941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132000" y="5580000"/>
            <a:ext cx="410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adian Parlia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7:28:53Z</dcterms:created>
  <dc:creator>Виктория Морозова</dc:creator>
  <dc:description/>
  <dc:language>en-US</dc:language>
  <cp:lastModifiedBy>Admin</cp:lastModifiedBy>
  <dcterms:modified xsi:type="dcterms:W3CDTF">2011-02-13T17:22:55Z</dcterms:modified>
  <cp:revision>29</cp:revision>
  <dc:subject/>
  <dc:title>                 Presentation in English.</dc:title>
</cp:coreProperties>
</file>