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4EA-5EE8-428D-84D1-FE7B0567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292-FB9B-4163-B015-AEB5ED03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ABD-5172-4293-A0E0-1ED6E2F1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00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212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00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212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09F-65DA-40A5-8AAA-5AF27367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C00-1258-4831-90BD-363B122C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300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212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1388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300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212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BD3-65D5-4143-A13C-70827FA0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7300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3212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1388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7300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43212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BD6-CA79-48B7-8166-1CC9EE68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300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432120" y="168264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1388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300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432120" y="3891600"/>
            <a:ext cx="2722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D37-3D26-4190-8F7D-B441D2AE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40840"/>
            <a:ext cx="8298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11E-49C8-4B34-8A66-350C9634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F44-2414-42EB-A26A-8A86BCB2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7200" y="389160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E3B-6BAB-49A8-B3F7-C9B83CC9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7200" y="1682640"/>
            <a:ext cx="412668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891600"/>
            <a:ext cx="845676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39C-0C57-4C06-8AC8-519349A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58840"/>
            <a:ext cx="874404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515600"/>
            <a:ext cx="87440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1208B-0475-49AB-B1F3-928B0DEEECB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8400" y="6066000"/>
            <a:ext cx="902196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16280" y="6248520"/>
            <a:ext cx="7804080" cy="82440"/>
          </a:xfrm>
          <a:prstGeom prst="roundRect">
            <a:avLst>
              <a:gd name="adj" fmla="val 1921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0600" y="1623960"/>
            <a:ext cx="9329760" cy="4856040"/>
          </a:xfrm>
          <a:prstGeom prst="roundRect">
            <a:avLst>
              <a:gd name="adj" fmla="val 32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47592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14240" y="1801440"/>
            <a:ext cx="829800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04156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01880"/>
            <a:ext cx="174600" cy="787320"/>
          </a:xfrm>
          <a:custGeom>
            <a:avLst/>
            <a:gdLst>
              <a:gd name="textAreaLeft" fmla="*/ 360 w 174600"/>
              <a:gd name="textAreaRight" fmla="*/ 174240 w 174600"/>
              <a:gd name="textAreaTop" fmla="*/ 360 h 787320"/>
              <a:gd name="textAreaBottom" fmla="*/ 786960 h 787320"/>
            </a:gdLst>
            <a:ahLst/>
            <a:rect l="textAreaLeft" t="textAreaTop" r="textAreaRight" b="textAreaBottom"/>
            <a:pathLst>
              <a:path w="21600" h="97244">
                <a:moveTo>
                  <a:pt x="196" y="0"/>
                </a:moveTo>
                <a:arcTo wR="196" hR="196" stAng="16200000" swAng="-5400000"/>
                <a:lnTo>
                  <a:pt x="0" y="97048"/>
                </a:lnTo>
                <a:arcTo wR="196" hR="196" stAng="10800000" swAng="-5400000"/>
                <a:lnTo>
                  <a:pt x="21404" y="97244"/>
                </a:lnTo>
                <a:arcTo wR="196" hR="196" stAng="5400000" swAng="-5400000"/>
                <a:lnTo>
                  <a:pt x="21600" y="196"/>
                </a:lnTo>
                <a:arcTo wR="196" hR="196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8040" y="53964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Presentation in English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360" y="2700360"/>
            <a:ext cx="84661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Topic: Canada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made by Morozova V.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Form 7 B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School № 180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4240" y="240840"/>
            <a:ext cx="8298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ff9966"/>
                </a:solidFill>
                <a:latin typeface="Arial"/>
              </a:rPr>
              <a:t>OTTAWA</a:t>
            </a:r>
            <a:r>
              <a:rPr b="1" i="1" lang="en-US" sz="1800" spc="-1" strike="noStrike">
                <a:solidFill>
                  <a:srgbClr val="ff9966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3880" y="1682640"/>
            <a:ext cx="845676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1152360"/>
            <a:ext cx="8497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3880" y="241200"/>
            <a:ext cx="8301240" cy="108288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 CYR"/>
                <a:ea typeface="Arial CYR"/>
              </a:rPr>
              <a:t>Toronto and Montreal are the largest                    cities of Canada 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344600"/>
            <a:ext cx="4356000" cy="4054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00720" y="1295280"/>
            <a:ext cx="5040000" cy="4032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58400" y="0"/>
            <a:ext cx="71852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1" i="1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480000" y="1123920"/>
            <a:ext cx="288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152360"/>
            <a:ext cx="6264360" cy="485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58400" y="-36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1" i="1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480000" y="1079640"/>
            <a:ext cx="288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Canada is slightly larger than the United States and about 26 million people live </a:t>
            </a:r>
            <a:r>
              <a:rPr b="0" lang="en-US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there.</a:t>
            </a:r>
            <a:endParaRPr b="0" lang="en-US" sz="26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61200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58400" y="-360"/>
            <a:ext cx="830124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3400"/>
                <a:tab algn="l" pos="5065560"/>
                <a:tab algn="l" pos="5789520"/>
                <a:tab algn="l" pos="6513480"/>
                <a:tab algn="l" pos="7237440"/>
                <a:tab algn="l" pos="796140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1" i="1" lang="en-US" sz="5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480000" y="1079640"/>
            <a:ext cx="288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Its westen coast is washed by the Pacific Ocean and its eastern coast by the Atlantic Ocean. </a:t>
            </a:r>
            <a:endParaRPr b="0" lang="en-US" sz="26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079640"/>
            <a:ext cx="6120000" cy="4859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79080" y="1474920"/>
            <a:ext cx="1665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61640" y="1547640"/>
            <a:ext cx="1665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lantic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360" y="179280"/>
            <a:ext cx="84596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37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National Flag and Coat of Arms</a:t>
            </a:r>
            <a:endParaRPr b="1" i="1" lang="en-US" sz="4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5219640" cy="287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940360" y="1440000"/>
            <a:ext cx="3279960" cy="39844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39640" y="179280"/>
            <a:ext cx="66754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Symbols of Canad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9280" y="3600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260360" y="360036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300720" y="126036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260360" y="1260360"/>
            <a:ext cx="2519640" cy="2340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3780000" y="1260360"/>
            <a:ext cx="2519280" cy="2340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759280" y="3600360"/>
            <a:ext cx="2880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he symbols</a:t>
            </a:r>
            <a:r>
              <a:rPr b="0" lang="ru-RU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f Canada are a maple leaf and syrup,a canadian beaver,a loon and  a canadian go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39640" y="179280"/>
            <a:ext cx="66754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Symbols of Canada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59280" y="3600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60360" y="360036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300720" y="1260360"/>
            <a:ext cx="2340000" cy="2340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1260360" y="1260360"/>
            <a:ext cx="2519640" cy="2340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780000" y="1260360"/>
            <a:ext cx="2519280" cy="2340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759280" y="3611520"/>
            <a:ext cx="288000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600" spc="-1" strike="noStrike">
                <a:solidFill>
                  <a:srgbClr val="ffffff"/>
                </a:solidFill>
                <a:latin typeface="Arial CYR"/>
                <a:ea typeface="Arial CYR"/>
              </a:rPr>
              <a:t>English and French are two official languages of the country.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2920" y="88560"/>
            <a:ext cx="8317080" cy="1855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Canada is an independent country. Canada g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ot</a:t>
            </a: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full independen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</a:t>
            </a: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1931. 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The country is a member of the Commonwealth. </a:t>
            </a: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Queen Elizabeth II 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is the head of the Commonwealth and the</a:t>
            </a:r>
            <a:r>
              <a:rPr b="1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Queen of Canada</a:t>
            </a:r>
            <a:r>
              <a:rPr b="1" lang="en-US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but only formally.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76720" y="2016000"/>
            <a:ext cx="3386160" cy="423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39840" y="360000"/>
            <a:ext cx="884088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 CYR"/>
                <a:ea typeface="Arial CYR"/>
              </a:rPr>
              <a:t>Ottawa is the capital of the country</a:t>
            </a:r>
            <a:br>
              <a:rPr sz="2400"/>
            </a:b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87280" y="1079640"/>
            <a:ext cx="7345440" cy="4394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132000" y="5580000"/>
            <a:ext cx="410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adian Parlia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7:28:53Z</dcterms:created>
  <dc:creator>Виктория Морозова</dc:creator>
  <dc:description/>
  <dc:language>en-US</dc:language>
  <cp:lastModifiedBy>Admin</cp:lastModifiedBy>
  <dcterms:modified xsi:type="dcterms:W3CDTF">2011-02-13T17:22:55Z</dcterms:modified>
  <cp:revision>29</cp:revision>
  <dc:subject/>
  <dc:title>                 Presentation in English.</dc:title>
</cp:coreProperties>
</file>