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AE7-CF61-49AB-B4D0-EFED6D64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F46-01B8-4DE8-A674-BADF87B0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A5C-8DF5-4393-98DD-0E362D1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69E-B1A4-44BE-94BC-475EF6EE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F7DA-64F9-43F7-96E1-9222B772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79E8-A1C6-4DD6-9841-743F1850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3A16-395F-4662-91EE-872BF282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4715-C6C8-4B00-8B68-2CA52F15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41AC-C10F-4575-8694-D9F1C55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171F-62F6-470D-861A-26073E9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D1D6-6757-4D8F-B132-5A1F3616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591-A956-44E5-AF2F-6CF0307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5E4C-3162-471A-B3A1-6C1E16D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2FDF-D5A9-43FE-838B-38D90B37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C3AB-0D55-41A8-958F-BA2FA54B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875-C098-465C-ABD1-7F4FA586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5F4C-F98F-43FC-BA00-B460E453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4E12-67BF-4C5D-815C-5C568FD1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DC02-725F-422A-AD69-FC70F9B3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20B26-EE4A-45C9-B1CB-400F452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092C-F4F6-48B2-8B7F-888210BD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D640-1680-47E2-8BD5-6F84437F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6CA-EF21-471E-AFF6-1A5DC8C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2241-A9CF-426E-AB45-6789BC6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8C7A-E26E-4491-BD6C-EED8B369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43A1-3BCA-4A5A-9F56-E802E48E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12C0-6FAE-4FAC-877B-0E573C15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9FBA-C532-4C17-9784-B5A68FBC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46B8-9B91-493A-A7FA-4658EE82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ED982-73D2-4ED2-BA32-245BA120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92B8-9A51-4014-8247-08B83DE5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F002-9E37-45D0-BE84-509DA2D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78E5-356D-4226-9956-8E2DFD1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D9F-CCAC-40C1-9903-CEAF906E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E8CE6-DDBC-4B97-BCC9-102A604E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4F549-C32E-41E3-AD0B-9A67DF8A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D042E-07DC-4004-9DC7-8E8BE762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8278-6952-465C-A8C2-E7F218FE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1200A-A9AF-4F47-9CF0-0FCBCD3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E1C2-D693-46C3-AF40-B2F4D0AF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70DE-C6E0-470A-81E2-3047AFF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218D0-DCFB-43B2-9D44-D55889A5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A81AB-6AE1-46EB-B609-BA6DDC24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B4BF-1B4B-4171-BA5F-230B114A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F8D-D56A-4445-8BF2-3C2636DD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2D24D-2F7A-4F7C-9A65-32342F5F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70E21-C4A4-4A9A-A9E1-B633C9B5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1C62-554B-4BC5-9F17-0CEFBC2F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00D53-AD5F-4671-8855-F97F2549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300E-BF71-4685-BB3E-5180AE0C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F608-7181-412F-8A28-71D80A2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A4BD-B429-4B58-B7D7-3863B8C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6630F-75F2-482F-A392-1FE1B67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C778-5E41-4B3C-A3B0-F463A4F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6F342-FB9A-4712-A26D-4F21FFC2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AA9-C861-431E-8A07-F16BDA0E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F5EEA-8DFE-4E15-9E63-A5091491E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913-16E2-4DF8-8C96-4D5508D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790-24B0-42A8-B12C-FE5EFEE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C264-948D-4CB3-93D2-98D9965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2C4-523E-41F9-BE5D-DAD3D02C9A2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3267-8337-4006-9A48-FBEDD5B741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1A27-CFE3-48AE-8F89-135D888B9A4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48B-E725-4EDD-8B11-9F4CF2076A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1BD3-9C57-4202-A6CF-F3813E18840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ыполнила ученица 7 класса МОУ»КСОШ №1» Кондратьева Нина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ководитель: Виряскина Л.Н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«ВАЛЕНКИ,ВАЛЕНКИ»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 Процесс изготовления валенок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Значимость валенок в жизни русского народ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9" name="Содержимое 4" descr="Image"/>
          <p:cNvPicPr/>
          <p:nvPr/>
        </p:nvPicPr>
        <p:blipFill>
          <a:blip r:embed="rId1"/>
          <a:stretch/>
        </p:blipFill>
        <p:spPr>
          <a:xfrm>
            <a:off x="142920" y="2357280"/>
            <a:ext cx="4521240" cy="3714840"/>
          </a:xfrm>
          <a:prstGeom prst="rect">
            <a:avLst/>
          </a:prstGeom>
          <a:ln w="0">
            <a:noFill/>
          </a:ln>
        </p:spPr>
      </p:pic>
      <p:pic>
        <p:nvPicPr>
          <p:cNvPr id="250" name="Содержимое 5" descr="Image"/>
          <p:cNvPicPr/>
          <p:nvPr/>
        </p:nvPicPr>
        <p:blipFill>
          <a:blip r:embed="rId2"/>
          <a:stretch/>
        </p:blipFill>
        <p:spPr>
          <a:xfrm>
            <a:off x="4714920" y="235728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аленки во время ВОВ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2" name="Содержимое 3" descr="Image"/>
          <p:cNvPicPr/>
          <p:nvPr/>
        </p:nvPicPr>
        <p:blipFill>
          <a:blip r:embed="rId1"/>
          <a:stretch/>
        </p:blipFill>
        <p:spPr>
          <a:xfrm>
            <a:off x="1285920" y="1571760"/>
            <a:ext cx="7143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:</a:t>
            </a:r>
            <a:br>
              <a:rPr sz="36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4" name="Содержимое 3" descr="Image"/>
          <p:cNvPicPr/>
          <p:nvPr/>
        </p:nvPicPr>
        <p:blipFill>
          <a:blip r:embed="rId1"/>
          <a:stretch/>
        </p:blipFill>
        <p:spPr>
          <a:xfrm>
            <a:off x="785880" y="1214280"/>
            <a:ext cx="76438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6" name="Содержимое 4" descr="Image"/>
          <p:cNvPicPr/>
          <p:nvPr/>
        </p:nvPicPr>
        <p:blipFill>
          <a:blip r:embed="rId1"/>
          <a:stretch/>
        </p:blipFill>
        <p:spPr>
          <a:xfrm>
            <a:off x="214200" y="1571760"/>
            <a:ext cx="4449960" cy="450036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5" descr="Image"/>
          <p:cNvPicPr/>
          <p:nvPr/>
        </p:nvPicPr>
        <p:blipFill>
          <a:blip r:embed="rId2"/>
          <a:stretch/>
        </p:blipFill>
        <p:spPr>
          <a:xfrm>
            <a:off x="4714920" y="1571760"/>
            <a:ext cx="42148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Роль валенок в современном мир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Содержимое 3" descr="Image"/>
          <p:cNvPicPr/>
          <p:nvPr/>
        </p:nvPicPr>
        <p:blipFill>
          <a:blip r:embed="rId1"/>
          <a:stretch/>
        </p:blipFill>
        <p:spPr>
          <a:xfrm>
            <a:off x="1500120" y="1643040"/>
            <a:ext cx="635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57120" y="3200040"/>
            <a:ext cx="84297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-перв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сегодня на первый план выходят проблемы экологии и здоровья. А ведь валенки - обувь, сделанная из натуральных материалов без урона для природы и животных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о-втор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 медицина подтверждает целебные свойства обув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третьи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профессии. Растет спрос - возрождается промысел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-четвёртых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валенки снова входят в моду!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Calibri"/>
              </a:rPr>
              <a:t>Выдвинутая мною гипотеза подтвердилась.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0040" y="3200400"/>
            <a:ext cx="814392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аким образом, изучив историю валяльного промысла в нашей местности, мы познакомиться с технологией изготовления валенок, встретились с людьми, занимающимися этим промыслом, выяснили, какое значение имеют валенки в жизни современных людей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аклю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99680" y="3200040"/>
            <a:ext cx="835812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inc.ru - музей "Русский валенок"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promsherst.ru - Где можно приобрести вален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specserver.com/rus/notice.asp?noticeID=198927 - оборудование по изготовлению вале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www.valenki.textex.ru   - валенки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Журнал "Юный краевед",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94920" y="3071520"/>
            <a:ext cx="72774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ведение_________________________________________стр.3-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гда и где появились первые валенки_____________стр.4-7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цесс изготовления валенок ___________________ стр.7-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начимость валенок в жизни русского народа _______ стр.8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ль валенок в современном мире_________________стр.8-9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Заключение __________________________________________стр.11-1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Литература____________________________________________стр.1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иложение___________________________________________стр.1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96464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держ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28760" y="3200040"/>
            <a:ext cx="8286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ногие люди имеют эту исконно русскую обувь, но мало кто в последнее время носит валенки. Я задала себе вопрос: «Почему в современном мире слово "валенок" часто вызывает у нас улыбку как нечто устаревшее и просто забавное?» А может это не так?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еред собой я поставил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–    исследовать значимость валенок в жизни русского народа с XIII века по настоящее врем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роблема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856800" y="3200400"/>
            <a:ext cx="683892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Оценить отношение к валенкам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Выяснить когда и где появились первые вален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 Изучить процесс изготовления валено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4.   Оценить роль валенок  в жизни наших предков и современном мир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56760" y="3200040"/>
            <a:ext cx="8286840" cy="28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аленки  - уникальное ноу-хау русского народа! Испокон веков они - неотъемлемая часть русского костюма, русского образа жизни, русской зимы и даже русского характера. 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бъект и предмет исследова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392868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1506600"/>
            <a:ext cx="822960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Была выдвинута </a:t>
            </a:r>
            <a:r>
              <a:rPr b="1" lang="ru-RU" sz="2900" spc="-1" strike="noStrike" u="sng">
                <a:solidFill>
                  <a:srgbClr val="ffffff"/>
                </a:solidFill>
                <a:uFillTx/>
                <a:latin typeface="Calibri"/>
              </a:rPr>
              <a:t>гипотеза: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  в XXI веке русские валенки  возвращают к себе народную любовь.</a:t>
            </a:r>
            <a:r>
              <a:rPr b="1" lang="ru-RU" sz="29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295280" y="30715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прос, изучение научной и художественной  литературы по теме, экскурсия в музей валенок в с.Урусово Ардатовского района, работа с информацией интернета, анализ, систематизация, обобщени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Методы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ё исследование я начала с посещения музея валенок в с.Урусово , провела анкетирование среди учащихся, в результате, выяснила, что большая часть учащихся мало что знает о валенках. (Приложение 1) </a:t>
            </a:r>
            <a:br>
              <a:rPr sz="2000"/>
            </a:br>
            <a:endParaRPr b="0" lang="en-US" sz="2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14200" y="3200400"/>
            <a:ext cx="8715600" cy="33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ни пришли к нам от азиатских народов. Самые древние были обнаружены археологами на Алтае в пластах аж IV века до Рождества Христо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ще до тех валенок, которых мы привыкли видеть, жители суровых азиатских просторов носили валяные коты, чуни, кеньги, которые были с суконным голенищем или вообще не имели его. Высокие валенки с голенищами стали изготавливать позж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499760"/>
            <a:ext cx="8229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Когда и где появились первые валенки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4:26:32Z</dcterms:created>
  <dc:creator>Admin</dc:creator>
  <dc:description/>
  <dc:language>en-US</dc:language>
  <cp:lastModifiedBy>Admin</cp:lastModifiedBy>
  <dcterms:modified xsi:type="dcterms:W3CDTF">2011-03-13T15:32:47Z</dcterms:modified>
  <cp:revision>8</cp:revision>
  <dc:subject/>
  <dc:title>Исследовательская работа  «ВАЛЕНКИ,ВАЛЕНКИ»</dc:title>
</cp:coreProperties>
</file>