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EC07-405C-48A9-991D-286C695A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8953-6434-4220-AADF-269198B5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0E0C-E7FC-4AD7-9A82-FDD689FF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A744-9CFF-4F63-914A-C25D6E9A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60F6-6C70-41E1-B793-E1DD22E0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058D-DF3A-4AA3-8C1C-964BEEB1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347E-2A98-4CF8-B89B-47D4E4A0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3173-0890-4CE9-BA84-F0D70374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6A5D-1256-4E13-A398-1A546F95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1429-9E0B-474D-8D7C-12220C1C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9A8A-1BF0-4126-BA22-2C2C5EB4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FDD3-3012-4A75-A0B8-D9BCC1CB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D33B-6160-43CB-A8D3-930C01D8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E455-4315-4455-8926-B2D700F6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F3D7-8DA2-4316-8607-D6620929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0E6D-4053-462C-A924-6E7B7A69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C961-F87A-43DB-AB82-12C0AE92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C21A3-F8D8-4193-B958-87AFDCDD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DA5A2-5BAA-4186-AF5A-8238081A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BED88-BEA7-457B-94AE-9F6C323F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15DCB-610E-4543-9683-C7EF6D35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A693E-3043-43D8-B0DC-E9C004FD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BBB0-16A5-4DA2-928C-D9CF8F2C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63C60-2373-44D9-B6C5-803114D2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F4949-88CF-4273-94DA-35A34CE6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EAA73-15F0-471F-A745-3AE1CFD1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12C71-FDB6-4259-9CDB-E2B61401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66556-069F-413A-A9EB-DE5CC030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9550E-9B9C-44C7-B5BE-BC6625A2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77454-F193-41F8-AFC0-CB4E0275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83BD7-AA35-4353-B291-D0F47966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53725-3AFF-4A19-89D6-FA8B2B62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1AC2C-C658-4B15-9E7A-F7569E1F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98A4-4F5C-431B-9D0E-1135D258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11F63-8801-481E-BDB3-7015149D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2FC9D-03FD-429C-8EA8-32196B09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4881A-4C57-4C1E-9A95-F4491EE9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3F371-18D6-4EFC-8A05-CADA3CAD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57861-D162-44F2-B600-C96F99AB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A7FB5-FE82-4CBB-8345-47F21F0D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03B3C-1CEB-44CF-8BC5-6E70AE78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74553-CB3B-4ABF-A90F-A4652362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7F033-48D3-4B47-BE7E-179DB1BA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6C736-626A-4A48-B291-AAC109B7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36DF-C7EF-4838-912A-0853BF10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CDC08-F5ED-42D6-8442-7C4718B4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FD030-8003-40B9-AE9C-4B97F049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1BF46-2AEC-44A5-A495-3D58421B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41BFE-D82D-44FE-82CC-66747103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1E3D2-F512-4781-A0D9-FC7D7702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03E79-9372-4BD3-A18A-1315FDA9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79608-468A-4A8B-83EB-DCA4F0E8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4B0D7-AB93-40A8-B31D-1E5C5B4B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131E6-E457-4F6E-9B7A-A35D5DD6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562E1-F3F6-41B7-B9D1-A146526B3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57E9-DBB7-4018-AC0C-22E9C30C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7C7EF-7E68-48EF-91A6-EE337920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0999-440C-4922-B5E1-3C3C019B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70CD-486F-441B-83A3-2D8993D6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08B1-E9DA-41E5-B947-041A33DD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F7A4-554F-4FD6-B729-4B06D396726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CE94-32C0-41EC-A15E-BF89A980E1E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F266-0423-4CF5-A125-E9EE8583A57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727D-CEB4-4EF4-AD20-80336E0618E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3C63-99F9-48BF-A784-6829AAFDDA1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ыполнила ученица 7 класса МОУ»КСОШ №1» Кондратьева Нина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уководитель: Виряскина Л.Н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Исследовательская работа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«ВАЛЕНКИ,ВАЛЕНКИ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696464"/>
              </a:solidFill>
              <a:latin typeface="Cambr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Процесс изготовления валенок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Значимость валенок в жизни русского народа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9" name="Содержимое 4" descr="Image"/>
          <p:cNvPicPr/>
          <p:nvPr/>
        </p:nvPicPr>
        <p:blipFill>
          <a:blip r:embed="rId1"/>
          <a:stretch/>
        </p:blipFill>
        <p:spPr>
          <a:xfrm>
            <a:off x="142920" y="2357280"/>
            <a:ext cx="4521240" cy="3714840"/>
          </a:xfrm>
          <a:prstGeom prst="rect">
            <a:avLst/>
          </a:prstGeom>
          <a:ln w="0">
            <a:noFill/>
          </a:ln>
        </p:spPr>
      </p:pic>
      <p:pic>
        <p:nvPicPr>
          <p:cNvPr id="250" name="Содержимое 5" descr="Image"/>
          <p:cNvPicPr/>
          <p:nvPr/>
        </p:nvPicPr>
        <p:blipFill>
          <a:blip r:embed="rId2"/>
          <a:stretch/>
        </p:blipFill>
        <p:spPr>
          <a:xfrm>
            <a:off x="4714920" y="2357280"/>
            <a:ext cx="42861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           </a:t>
            </a: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Валенки во время ВОВ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2" name="Содержимое 3" descr="Image"/>
          <p:cNvPicPr/>
          <p:nvPr/>
        </p:nvPicPr>
        <p:blipFill>
          <a:blip r:embed="rId1"/>
          <a:stretch/>
        </p:blipFill>
        <p:spPr>
          <a:xfrm>
            <a:off x="1285920" y="1571760"/>
            <a:ext cx="71438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Роль валенок в современном мире:</a:t>
            </a:r>
            <a:br>
              <a:rPr sz="3600"/>
            </a:b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4" name="Содержимое 3" descr="Image"/>
          <p:cNvPicPr/>
          <p:nvPr/>
        </p:nvPicPr>
        <p:blipFill>
          <a:blip r:embed="rId1"/>
          <a:stretch/>
        </p:blipFill>
        <p:spPr>
          <a:xfrm>
            <a:off x="785880" y="1214280"/>
            <a:ext cx="764388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Роль валенок в современном мире: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6" name="Содержимое 4" descr="Image"/>
          <p:cNvPicPr/>
          <p:nvPr/>
        </p:nvPicPr>
        <p:blipFill>
          <a:blip r:embed="rId1"/>
          <a:stretch/>
        </p:blipFill>
        <p:spPr>
          <a:xfrm>
            <a:off x="214200" y="1571760"/>
            <a:ext cx="4449960" cy="4500360"/>
          </a:xfrm>
          <a:prstGeom prst="rect">
            <a:avLst/>
          </a:prstGeom>
          <a:ln w="0">
            <a:noFill/>
          </a:ln>
        </p:spPr>
      </p:pic>
      <p:pic>
        <p:nvPicPr>
          <p:cNvPr id="257" name="Содержимое 5" descr="Image"/>
          <p:cNvPicPr/>
          <p:nvPr/>
        </p:nvPicPr>
        <p:blipFill>
          <a:blip r:embed="rId2"/>
          <a:stretch/>
        </p:blipFill>
        <p:spPr>
          <a:xfrm>
            <a:off x="4714920" y="1571760"/>
            <a:ext cx="42148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Роль валенок в современном мир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9" name="Содержимое 3" descr="Image"/>
          <p:cNvPicPr/>
          <p:nvPr/>
        </p:nvPicPr>
        <p:blipFill>
          <a:blip r:embed="rId1"/>
          <a:stretch/>
        </p:blipFill>
        <p:spPr>
          <a:xfrm>
            <a:off x="1500120" y="1643040"/>
            <a:ext cx="6357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357120" y="3200040"/>
            <a:ext cx="84297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Во-первых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сегодня на первый план выходят проблемы экологии и здоровья. А ведь валенки - обувь, сделанная из натуральных материалов без урона для природы и животных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Во-вторых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 медицина подтверждает целебные свойства обуви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В-третьих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профессии. Растет спрос - возрождается промысел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В-четвёртых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валенки снова входят в моду!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Выдвинутая мною гипотеза подтвердилась. 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0040" y="3200400"/>
            <a:ext cx="81439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аким образом, изучив историю валяльного промысла в нашей местности, мы познакомиться с технологией изготовления валенок, встретились с людьми, занимающимися этим промыслом, выяснили, какое значение имеют валенки в жизни современных людей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Заключе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99680" y="3200040"/>
            <a:ext cx="835812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www.valenki.inc.ru - музей "Русский валенок"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www.valenki.promsherst.ru - Где можно приобрести валенк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www.specserver.com/rus/notice.asp?noticeID=198927 - оборудование по изготовлению валенок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www.valenki.textex.ru   - валенки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Журнал "Юный краевед", 2007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Литератур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294920" y="3071520"/>
            <a:ext cx="72774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6464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ведение_________________________________________стр.3-4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огда и где появились первые валенки_____________стр.4-7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оцесс изготовления валенок ___________________ стр.7-8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начимость валенок в жизни русского народа _______ стр.8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оль валенок в современном мире_________________стр.8-9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ключение __________________________________________стр.11-12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Литература____________________________________________стр.12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иложение___________________________________________стр.13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6464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одерж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28760" y="3200040"/>
            <a:ext cx="8286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Многие люди имеют эту исконно русскую обувь, но мало кто в последнее время носит валенки. Я задала себе вопрос: «Почему в современном мире слово "валенок" часто вызывает у нас улыбку как нечто устаревшее и просто забавное?» А может это не так?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еред собой я поставил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–    исследовать значимость валенок в жизни русского народа с XIII века по настоящее врем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роблем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856800" y="3200400"/>
            <a:ext cx="6838920" cy="33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Оценить отношение к валенкам учащихся нашей школы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2.Выяснить когда и где появились первые валенк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3. Изучить процесс изготовления валенок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4.   Оценить роль валенок  в жизни наших предков и современном мир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Задачи: 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56760" y="3200040"/>
            <a:ext cx="828684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аленки  - уникальное ноу-хау русского народа! Испокон веков они - неотъемлемая часть русского костюма, русского образа жизни, русской зимы и даже русского характера. 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Объект и предмет исследован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295280" y="3928680"/>
            <a:ext cx="6400800" cy="8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696464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7200" y="1506600"/>
            <a:ext cx="82296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libri"/>
              </a:rPr>
              <a:t>Была выдвинута </a:t>
            </a:r>
            <a:r>
              <a:rPr b="1" lang="ru-RU" sz="2900" spc="-1" strike="noStrike" u="sng">
                <a:solidFill>
                  <a:srgbClr val="ffffff"/>
                </a:solidFill>
                <a:uFillTx/>
                <a:latin typeface="Calibri"/>
              </a:rPr>
              <a:t>гипотеза:</a:t>
            </a:r>
            <a:r>
              <a:rPr b="0" lang="ru-RU" sz="2900" spc="-1" strike="noStrike">
                <a:solidFill>
                  <a:srgbClr val="ffffff"/>
                </a:solidFill>
                <a:latin typeface="Calibri"/>
              </a:rPr>
              <a:t>  в XXI веке русские валенки  возвращают к себе народную любовь.</a:t>
            </a:r>
            <a:r>
              <a:rPr b="1" lang="ru-RU" sz="29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295280" y="30715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прос, изучение научной и художественной  литературы по теме, экскурсия в музей валенок в с.Урусово Ардатовского района, работа с информацией интернета, анализ, систематизация, обобщение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Методы исследования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оё исследование я начала с посещения музея валенок в с.Урусово , провела анкетирование среди учащихся, в результате, выяснила, что большая часть учащихся мало что знает о валенках. (Приложение 1) </a:t>
            </a:r>
            <a:br>
              <a:rPr sz="2000"/>
            </a:br>
            <a:endParaRPr b="0" lang="en-US" sz="2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214200" y="3200400"/>
            <a:ext cx="8715600" cy="33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ни пришли к нам от азиатских народов. Самые древние были обнаружены археологами на Алтае в пластах аж IV века до Рождества Христов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Еще до тех валенок, которых мы привыкли видеть, жители суровых азиатских просторов носили валяные коты, чуни, кеньги, которые были с суконным голенищем или вообще не имели его. Высокие валенки с голенищами стали изготавливать позже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457200" y="1499760"/>
            <a:ext cx="8229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Когда и где появились первые валенки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4:26:32Z</dcterms:created>
  <dc:creator>Admin</dc:creator>
  <dc:description/>
  <dc:language>en-US</dc:language>
  <cp:lastModifiedBy>Admin</cp:lastModifiedBy>
  <dcterms:modified xsi:type="dcterms:W3CDTF">2011-03-13T15:32:47Z</dcterms:modified>
  <cp:revision>8</cp:revision>
  <dc:subject/>
  <dc:title>Исследовательская работа  «ВАЛЕНКИ,ВАЛЕНКИ»</dc:title>
</cp:coreProperties>
</file>