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5C1-E79B-4B96-9C54-23E4484D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E25-04D7-4D9C-B5CD-5DD18F42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291-5B46-4298-9482-2980A4DC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31E-A24C-4016-BBF0-13922DAB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826-511A-4074-A3FE-AF69A3B4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289-93C7-4A8A-B9EF-CD7593AD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769-2AE5-438B-AB2D-77E9AD37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00D-4D05-407B-8EAC-7E4C5DF7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3E5-A6E1-49A3-8FFB-90C49F21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6C3-3B0A-4628-A60A-5745ABE7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1DA-8354-4B2C-A4F0-505363B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DF9-17FE-4983-86AD-A0BDDC25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3345-95A3-4DA2-8A86-0054CECD52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ая средняя общеобразовательная шко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домский район Московская обл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8556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Конспект урока по русскому язы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 3 клас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о теме:</a:t>
            </a:r>
            <a:br>
              <a:rPr sz="2800"/>
            </a:br>
            <a:r>
              <a:rPr b="1" i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Закрепление понятия текст-опис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пражнение в определении оконч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мён прилагательных по вопросу</a:t>
            </a:r>
            <a:br>
              <a:rPr sz="3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Подготовил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Рыбкина Ольга Василье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Учитель начальных классов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МОУ  ССОШ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Талдомского райо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Московской облас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. Какова роль имени прилагательного в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С какими словами «дружат» имена прилага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Какие правила нам помогают грамотно их записы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УРОК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.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. 145, стр. 5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stival.1september.ru›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nsportal.ru/nachalnaya-shkola/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 http://pikalsosh3.narod.ru/daytel.ht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ой литературы: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tival.1september.ru›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sportal.ru/nachalnaya-shkola/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http://pikalsosh3.narod.ru/daytel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. Какова роль имени прилагательного в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С какими словами «дружат» имена прилага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Какие правила нам помогают грамотно их записы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екст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-  э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два или несколько предложени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связанных между собой по смы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текст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кст – повеств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кст – опис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кст - рассу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6000840"/>
            <a:ext cx="5486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ЯТ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99880" y="612720"/>
            <a:ext cx="307188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2643120" y="214200"/>
            <a:ext cx="3714840" cy="5857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. Скребицк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2560" y="-360"/>
            <a:ext cx="8543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ром дереве пристроился дятел. Какой он красивый! Головка и спинка чёрные. На затылке красное пятно. На чёрных крыльях зелёные пятна и полоски. Он весь пёстры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929280" y="0"/>
            <a:ext cx="185760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работ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Найти словосочетание: сущ. + при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оставить от главного слова вопрос к зависимом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По вопросу определить оконч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alibri"/>
              </a:rPr>
              <a:t>Запомни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–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ой,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- ый-, ий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–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ая-, -яя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–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ое-, -ее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–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ые-, ие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оробей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болтливая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орона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шустры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яц     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 звонки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оловей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чёрная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едведь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 трусливы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орова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хитрая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орока 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косолапы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Лисица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грустн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20:22:25Z</dcterms:created>
  <dc:creator>Мама</dc:creator>
  <dc:description/>
  <dc:language>en-US</dc:language>
  <cp:lastModifiedBy>Мама</cp:lastModifiedBy>
  <dcterms:modified xsi:type="dcterms:W3CDTF">2011-07-14T21:23:46Z</dcterms:modified>
  <cp:revision>7</cp:revision>
  <dc:subject/>
  <dc:title>Муниципальное общеобразовательное учреждение Северная средняя общеобразовательная школа  Талдомский район Московская область</dc:title>
</cp:coreProperties>
</file>