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6D1F-5AF6-44C0-9FB1-B82CC324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C4B9-427A-4523-BDD0-FDEA45C8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3C18-C91F-450C-B02C-05B75433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EFE-2DCE-40DF-AB9A-06A91EDBE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62A-9E9A-471B-A20E-E7C90FE9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2CCD-49DE-4B96-9247-0E4B6E19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A593-6C15-43B4-B7B9-0317F3B2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3017-4611-4A9D-AD85-AC7FC51B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0A1F-59B0-40F1-B169-F6FAC8D4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162D-2F55-4BDF-AF79-0063C8BF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8370-B4F1-4484-B5DF-D6205F92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5BF0-6061-4034-AFED-7A37A6B3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650E-290C-4510-BF09-860EE8F894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верная средняя общеобразовательная школ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домский район Московская обла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85560"/>
            <a:ext cx="82868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Конспект урока по русскому язык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в 3 класс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по теме:</a:t>
            </a:r>
            <a:br>
              <a:rPr sz="2800"/>
            </a:br>
            <a:r>
              <a:rPr b="1" i="1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Закрепление понятия текст-описа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Упражнение в определении оконча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мён прилагательных по вопросу</a:t>
            </a:r>
            <a:br>
              <a:rPr sz="3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98989"/>
                </a:solidFill>
                <a:latin typeface="Calibri"/>
              </a:rPr>
              <a:t>Подготовила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98989"/>
                </a:solidFill>
                <a:latin typeface="Calibri"/>
              </a:rPr>
              <a:t>Рыбкина Ольга Васильевн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98989"/>
                </a:solidFill>
                <a:latin typeface="Calibri"/>
              </a:rPr>
              <a:t>Учитель начальных классов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98989"/>
                </a:solidFill>
                <a:latin typeface="Calibri"/>
              </a:rPr>
              <a:t>МОУ  ССОШ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898989"/>
                </a:solidFill>
                <a:latin typeface="Calibri"/>
              </a:rPr>
              <a:t>Талдомского район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898989"/>
                </a:solidFill>
                <a:latin typeface="Calibri"/>
              </a:rPr>
              <a:t>Московской област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1. Какова роль имени прилагательного в реч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. С какими словами «дружат» имена прилагательны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3. Какие правила нам помогают грамотно их записыв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УРОК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м.зада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. 145, стр. 5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estival.1september.ru›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nsportal.ru/nachalnaya-shkola/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 http://pikalsosh3.narod.ru/daytel.ht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ованной литературы:</a:t>
            </a: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stival.1september.ru›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sportal.ru/nachalnaya-shkola/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http://pikalsosh3.narod.ru/daytel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рабо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1. Какова роль имени прилагательного в реч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2. С какими словами «дружат» имена прилагательны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3. Какие правила нам помогают грамотно их записыв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Текст  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-  эт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два или несколько предложений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связанных между собой по смы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текстов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кст – повеств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кст – опис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кст - рассуж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440" y="6000840"/>
            <a:ext cx="54864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ЯТЕ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99880" y="612720"/>
            <a:ext cx="3071880" cy="4114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"/>
          <p:cNvPicPr/>
          <p:nvPr/>
        </p:nvPicPr>
        <p:blipFill>
          <a:blip r:embed="rId2"/>
          <a:stretch/>
        </p:blipFill>
        <p:spPr>
          <a:xfrm>
            <a:off x="2643120" y="214200"/>
            <a:ext cx="3714840" cy="5857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. Скребицки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2560" y="-360"/>
            <a:ext cx="85438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аром дереве пристроился дятел. Какой он красивый! Головка и спинка чёрные. На затылке красное пятно. На чёрных крыльях зелёные пятна и полоски. Он весь пёстры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929280" y="0"/>
            <a:ext cx="1857600" cy="2571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лгоритм работы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. Найти словосочетание: сущ. + при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Поставить от главного слова вопрос к зависимом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По вопросу определить оконча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Calibri"/>
              </a:rPr>
              <a:t>Запомни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 – </a:t>
            </a: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ой,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- ый-, ий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 – </a:t>
            </a: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ая-, -яя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 – </a:t>
            </a: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ое-, -ее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 – </a:t>
            </a: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ые-, ие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оробей                  </a:t>
            </a:r>
            <a:r>
              <a:rPr b="1" i="1" lang="ru-RU" sz="4400" spc="-1" strike="noStrike">
                <a:solidFill>
                  <a:srgbClr val="10253f"/>
                </a:solidFill>
                <a:latin typeface="Calibri"/>
              </a:rPr>
              <a:t>болтливая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Ворона                     </a:t>
            </a:r>
            <a:r>
              <a:rPr b="1" i="1" lang="ru-RU" sz="4400" spc="-1" strike="noStrike">
                <a:solidFill>
                  <a:srgbClr val="10253f"/>
                </a:solidFill>
                <a:latin typeface="Calibri"/>
              </a:rPr>
              <a:t>шустрый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Заяц                          </a:t>
            </a:r>
            <a:r>
              <a:rPr b="1" i="1" lang="ru-RU" sz="4400" spc="-1" strike="noStrike">
                <a:solidFill>
                  <a:srgbClr val="10253f"/>
                </a:solidFill>
                <a:latin typeface="Calibri"/>
              </a:rPr>
              <a:t> звонкий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Соловей                    </a:t>
            </a:r>
            <a:r>
              <a:rPr b="1" i="1" lang="ru-RU" sz="4400" spc="-1" strike="noStrike">
                <a:solidFill>
                  <a:srgbClr val="10253f"/>
                </a:solidFill>
                <a:latin typeface="Calibri"/>
              </a:rPr>
              <a:t>чёрная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Медведь                 </a:t>
            </a:r>
            <a:r>
              <a:rPr b="1" i="1" lang="ru-RU" sz="4400" spc="-1" strike="noStrike">
                <a:solidFill>
                  <a:srgbClr val="10253f"/>
                </a:solidFill>
                <a:latin typeface="Calibri"/>
              </a:rPr>
              <a:t> трусливый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Корова                     </a:t>
            </a:r>
            <a:r>
              <a:rPr b="1" i="1" lang="ru-RU" sz="4400" spc="-1" strike="noStrike">
                <a:solidFill>
                  <a:srgbClr val="10253f"/>
                </a:solidFill>
                <a:latin typeface="Calibri"/>
              </a:rPr>
              <a:t>хитрая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Сорока                      </a:t>
            </a:r>
            <a:r>
              <a:rPr b="1" i="1" lang="ru-RU" sz="4400" spc="-1" strike="noStrike">
                <a:solidFill>
                  <a:srgbClr val="10253f"/>
                </a:solidFill>
                <a:latin typeface="Calibri"/>
              </a:rPr>
              <a:t>косолапый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Лисица                     </a:t>
            </a:r>
            <a:r>
              <a:rPr b="1" i="1" lang="ru-RU" sz="4400" spc="-1" strike="noStrike">
                <a:solidFill>
                  <a:srgbClr val="10253f"/>
                </a:solidFill>
                <a:latin typeface="Calibri"/>
              </a:rPr>
              <a:t>грустна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20:22:25Z</dcterms:created>
  <dc:creator>Мама</dc:creator>
  <dc:description/>
  <dc:language>en-US</dc:language>
  <cp:lastModifiedBy>Мама</cp:lastModifiedBy>
  <dcterms:modified xsi:type="dcterms:W3CDTF">2011-07-14T21:23:46Z</dcterms:modified>
  <cp:revision>7</cp:revision>
  <dc:subject/>
  <dc:title>Муниципальное общеобразовательное учреждение Северная средняя общеобразовательная школа  Талдомский район Московская область</dc:title>
</cp:coreProperties>
</file>