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9.png" ContentType="image/png"/>
  <Override PartName="/ppt/media/image33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11.png" ContentType="image/png"/>
  <Override PartName="/ppt/media/image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A1ED-4C57-46A4-ABD4-1FEFFC23A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1B10-FAE2-417D-B150-942908742D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004B-D97F-45D5-9BF9-61FEEF0EED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3D44-3672-4E1F-A04C-5EEBE0D85B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88DE-6C67-492C-B926-D1C5927CC6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F811-B5D5-417D-9A32-F12207DDCA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826C-7E66-4E52-870D-604C8C3E1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1F90-F3DB-41DB-8B0F-0CE814CF1E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BFDF-AFF9-45F5-B38B-B5838FBBF1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823F-5670-4FD2-B106-B64AE379BE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4624-1473-4E81-8EF7-9CE46E0F36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9C06-5ED1-45F4-A31D-1C49C4994C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0112-67FB-41ED-9233-874EFB1631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553D-E734-4FD5-84DF-A729FF19DE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2983-3248-42C1-BDCB-5FB3E5679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42DE-E9D6-4F92-9EDC-4945DC5E63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52D4-7BB7-420D-85D4-C9F86AB5BA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8ABE-9B77-4C0E-B8D5-913A7DC8FB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BEC-74EB-4A8A-8172-498A1C36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1F9-FF2D-496B-B905-92E307BD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182-2D8C-4853-B98E-FFC2B325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BE1-4B57-4D39-8920-78277AB2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0CB-124B-42BB-96F4-2E78064A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43F-1D93-4948-A2EF-6C983B6C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1494-8B92-47DC-AD87-F89C33EC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79B-BF6E-43D0-8050-E4CB9012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D62-E45E-4EF0-BF36-55966A01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43E-E551-4330-B0F4-E0CD9C28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E3E-5D78-4D22-8EDE-FD178C20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66F-C7E1-4201-9651-1B7536AD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8EBF-3AA7-4CDD-AEEE-E7BDF88369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571760" y="214200"/>
            <a:ext cx="60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5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изитка 8 класс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Picture 6" descr="H:\Распечатать\DSC00972.JPG"/>
          <p:cNvPicPr/>
          <p:nvPr/>
        </p:nvPicPr>
        <p:blipFill>
          <a:blip r:embed="rId1"/>
          <a:stretch/>
        </p:blipFill>
        <p:spPr>
          <a:xfrm>
            <a:off x="1285920" y="1571760"/>
            <a:ext cx="6429240" cy="4822560"/>
          </a:xfrm>
          <a:prstGeom prst="rect">
            <a:avLst/>
          </a:prstGeom>
          <a:ln w="0">
            <a:noFill/>
          </a:ln>
        </p:spPr>
      </p:pic>
      <p:pic>
        <p:nvPicPr>
          <p:cNvPr id="50" name="liubovne_istorii_-_shkola,_ya_skuchaiu_minus.mp3" descr=""/>
          <p:cNvPicPr/>
          <p:nvPr/>
        </p:nvPicPr>
        <p:blipFill>
          <a:blip r:embed="rId2"/>
          <a:stretch/>
        </p:blipFill>
        <p:spPr>
          <a:xfrm>
            <a:off x="857268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5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" dur="25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42920" y="2285640"/>
            <a:ext cx="43275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Comic Sans MS"/>
              </a:rPr>
              <a:t>Ербол – активный участник конкурсов стих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Comic Sans MS"/>
              </a:rPr>
              <a:t>В ноябре 2010 года на конкурсе стихов о Родине он занял                  </a:t>
            </a:r>
            <a:r>
              <a:rPr b="1" lang="ru-RU" sz="2800" spc="-1" strike="noStrike" u="sng">
                <a:solidFill>
                  <a:srgbClr val="990033"/>
                </a:solidFill>
                <a:uFillTx/>
                <a:latin typeface="Comic Sans MS"/>
              </a:rPr>
              <a:t>1 место</a:t>
            </a:r>
            <a:r>
              <a:rPr b="1" lang="ru-RU" sz="2800" spc="-1" strike="noStrike">
                <a:solidFill>
                  <a:srgbClr val="990033"/>
                </a:solidFill>
                <a:latin typeface="Comic Sans MS"/>
              </a:rPr>
              <a:t> и награжден грам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8" descr="DSC00976.JPG"/>
          <p:cNvPicPr/>
          <p:nvPr/>
        </p:nvPicPr>
        <p:blipFill>
          <a:blip r:embed="rId1"/>
          <a:stretch/>
        </p:blipFill>
        <p:spPr>
          <a:xfrm>
            <a:off x="142920" y="285840"/>
            <a:ext cx="42861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6" descr="DSC01105.JPG"/>
          <p:cNvPicPr/>
          <p:nvPr/>
        </p:nvPicPr>
        <p:blipFill>
          <a:blip r:embed="rId1"/>
          <a:stretch/>
        </p:blipFill>
        <p:spPr>
          <a:xfrm>
            <a:off x="142920" y="142920"/>
            <a:ext cx="4286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0" y="21384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Артём Кузякин  - участник районной олимпиады по истори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Он занял 7-е место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Артём большой книголюб, влюблён в историю.  И кто знает, может быть  это в будущем  знаменитый истор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3857760"/>
            <a:ext cx="4543200" cy="24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У меня растут года, будет и семнадцать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 Где работать мне тогда, чем заниматься?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 Нужные работники - столяры и плотни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Витя Баруткин  призёр районной олимпиады по техн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Его ждёт успех! С деревом он работает лучше все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14" descr="DSC01109.JPG"/>
          <p:cNvPicPr/>
          <p:nvPr/>
        </p:nvPicPr>
        <p:blipFill>
          <a:blip r:embed="rId2"/>
          <a:stretch/>
        </p:blipFill>
        <p:spPr>
          <a:xfrm>
            <a:off x="6143760" y="3048120"/>
            <a:ext cx="272556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5214600"/>
            <a:ext cx="85010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это наши новоселы: Лариса, Света, Настя и Ди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занимаются в кружке «Умелые руки», плетут красивые укра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Содержимое 10" descr="DSC00961.JPG"/>
          <p:cNvPicPr/>
          <p:nvPr/>
        </p:nvPicPr>
        <p:blipFill>
          <a:blip r:embed="rId2"/>
          <a:stretch/>
        </p:blipFill>
        <p:spPr>
          <a:xfrm>
            <a:off x="1428840" y="21420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600"/>
                            </p:stCondLst>
                            <p:childTnLst>
                              <p:par>
                                <p:cTn id="39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32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6" descr="DSC01100.JPG"/>
          <p:cNvPicPr/>
          <p:nvPr/>
        </p:nvPicPr>
        <p:blipFill>
          <a:blip r:embed="rId2"/>
          <a:stretch/>
        </p:blipFill>
        <p:spPr>
          <a:xfrm>
            <a:off x="214200" y="214200"/>
            <a:ext cx="3857760" cy="514368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5" descr=""/>
          <p:cNvPicPr/>
          <p:nvPr/>
        </p:nvPicPr>
        <p:blipFill>
          <a:blip r:embed="rId3"/>
          <a:stretch/>
        </p:blipFill>
        <p:spPr>
          <a:xfrm>
            <a:off x="4498920" y="2968560"/>
            <a:ext cx="4565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онкурс частуш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6" descr="DSC01121.JPG"/>
          <p:cNvPicPr/>
          <p:nvPr/>
        </p:nvPicPr>
        <p:blipFill>
          <a:blip r:embed="rId1"/>
          <a:stretch/>
        </p:blipFill>
        <p:spPr>
          <a:xfrm>
            <a:off x="285840" y="1143000"/>
            <a:ext cx="3714840" cy="278460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7" descr="DSC01124.JPG"/>
          <p:cNvPicPr/>
          <p:nvPr/>
        </p:nvPicPr>
        <p:blipFill>
          <a:blip r:embed="rId2"/>
          <a:stretch/>
        </p:blipFill>
        <p:spPr>
          <a:xfrm>
            <a:off x="5000760" y="1357200"/>
            <a:ext cx="3619440" cy="2714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71320" y="4357800"/>
            <a:ext cx="77864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бята активные участники различных мероприятий школы и класса: КВН, интеллектуальных игр, конк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и учатся творчески подходить к различным делам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робовали себя в конкурсе частуш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здоров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5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5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143240" y="3499920"/>
            <a:ext cx="485784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5320" indent="-179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Школу как не люб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5320" indent="-179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Мы научимся т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5320" indent="-179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е бояться ни бурь, ни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5320" indent="-179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се дороги – пути, даже звездный маршр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5320" indent="-179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чинаются в школе все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5320" indent="-1795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D:\Фото\Картинки для телефона\Новая папка (4)\240x320 wallpack semasterz.com\A (74).jpg"/>
          <p:cNvPicPr/>
          <p:nvPr/>
        </p:nvPicPr>
        <p:blipFill>
          <a:blip r:embed="rId1"/>
          <a:stretch/>
        </p:blipFill>
        <p:spPr>
          <a:xfrm>
            <a:off x="214200" y="285840"/>
            <a:ext cx="37864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6" descr="p1_izobrajenie097.jpg"/>
          <p:cNvPicPr/>
          <p:nvPr/>
        </p:nvPicPr>
        <p:blipFill>
          <a:blip r:embed="rId1"/>
          <a:stretch/>
        </p:blipFill>
        <p:spPr>
          <a:xfrm>
            <a:off x="142920" y="642960"/>
            <a:ext cx="4809960" cy="3438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214600" y="2428920"/>
            <a:ext cx="3786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62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e119e"/>
                </a:solidFill>
                <a:latin typeface="Calibri"/>
              </a:rPr>
              <a:t>Родной интернат, начало нач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e119e"/>
                </a:solidFill>
                <a:latin typeface="Calibri"/>
              </a:rPr>
              <a:t>Ты в жизни моей – надёжный прич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e119e"/>
                </a:solidFill>
                <a:latin typeface="Calibri"/>
              </a:rPr>
              <a:t>Родной интернат, пускай много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e119e"/>
                </a:solidFill>
                <a:latin typeface="Calibri"/>
              </a:rPr>
              <a:t>Горит в твоих окнах добрый св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700"/>
              </a:spcBef>
              <a:buClr>
                <a:srgbClr val="0e119e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4000"/>
                            </p:stCondLst>
                            <p:childTnLst>
                              <p:par>
                                <p:cTn id="5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8229600" cy="19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 класс наш визитку Вы пролистали,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Чуточку больше о нас Вы узнали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Поверьте, нам есть, что еще показать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Но время не будем у Вас отнимат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tangle 3" descr=""/>
          <p:cNvPicPr/>
          <p:nvPr/>
        </p:nvPicPr>
        <p:blipFill>
          <a:blip r:embed="rId1"/>
          <a:stretch/>
        </p:blipFill>
        <p:spPr>
          <a:xfrm>
            <a:off x="633240" y="3206880"/>
            <a:ext cx="8291520" cy="223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1571760" y="214200"/>
            <a:ext cx="604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75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lin ang="27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lin ang="27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 класс – семьи большой частиц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лассе у нас – 4 девочки и 6 мальчик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представляем город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дужный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86040" y="3429000"/>
            <a:ext cx="611496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e146f"/>
                </a:solidFill>
                <a:latin typeface="Monotype Corsiva"/>
              </a:rPr>
              <a:t>Наш деви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119e"/>
                </a:solidFill>
                <a:latin typeface="Monotype Corsiva"/>
              </a:rPr>
              <a:t>«Сияй как радуга, цветам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e119e"/>
                </a:solidFill>
                <a:latin typeface="Monotype Corsiva"/>
              </a:rPr>
              <a:t>Отчизне пользу приноси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1100"/>
              </a:spcBef>
              <a:buClr>
                <a:srgbClr val="0e119e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Владелец\Мои документы\Галина Михайловна\Распечатать\DSC01120.JPG"/>
          <p:cNvPicPr/>
          <p:nvPr/>
        </p:nvPicPr>
        <p:blipFill>
          <a:blip r:embed="rId1"/>
          <a:stretch/>
        </p:blipFill>
        <p:spPr>
          <a:xfrm>
            <a:off x="142920" y="142920"/>
            <a:ext cx="5286240" cy="435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0" y="4572000"/>
            <a:ext cx="42530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с другом жизнь прекрас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много весел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здорово, что все мы зд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годня собрал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6760" y="4571640"/>
            <a:ext cx="40388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усть трудностей нав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ы всё преодоле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только друг без дру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м вряд ли обойт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7" descr="E:\Documents and Settings\Admin\Мои документы\Мои рисунки\анимация\l1_sociol_o.gif"/>
          <p:cNvPicPr/>
          <p:nvPr/>
        </p:nvPicPr>
        <p:blipFill>
          <a:blip r:embed="rId2"/>
          <a:stretch/>
        </p:blipFill>
        <p:spPr>
          <a:xfrm>
            <a:off x="6643800" y="857160"/>
            <a:ext cx="16221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3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28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:\Распечатать\DSC00970.JPG"/>
          <p:cNvPicPr/>
          <p:nvPr/>
        </p:nvPicPr>
        <p:blipFill>
          <a:blip r:embed="rId2"/>
          <a:stretch/>
        </p:blipFill>
        <p:spPr>
          <a:xfrm>
            <a:off x="4429080" y="1571760"/>
            <a:ext cx="3290760" cy="2468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Владелец\Мои документы\Галина Михайловна\Распечатать\DSC01119.JPG"/>
          <p:cNvPicPr/>
          <p:nvPr/>
        </p:nvPicPr>
        <p:blipFill>
          <a:blip r:embed="rId3"/>
          <a:stretch/>
        </p:blipFill>
        <p:spPr>
          <a:xfrm>
            <a:off x="5643720" y="4214880"/>
            <a:ext cx="3319200" cy="2490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4960" indent="-170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19e"/>
                </a:solidFill>
                <a:latin typeface="Arial"/>
              </a:rPr>
              <a:t>Будни в школе нач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19e"/>
                </a:solidFill>
                <a:latin typeface="Arial"/>
              </a:rPr>
              <a:t>Мы старательно             пытае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19e"/>
                </a:solidFill>
                <a:latin typeface="Arial"/>
              </a:rPr>
              <a:t>За  партою сид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19e"/>
                </a:solidFill>
                <a:latin typeface="Arial"/>
              </a:rPr>
              <a:t>Но так часто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19e"/>
                </a:solidFill>
                <a:latin typeface="Arial"/>
              </a:rPr>
              <a:t>Говорить хотелось вслу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19e"/>
                </a:solidFill>
                <a:latin typeface="Arial"/>
              </a:rPr>
              <a:t>И к соседу поверну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e119e"/>
                </a:solidFill>
                <a:latin typeface="Arial"/>
              </a:rPr>
              <a:t>И в окошко посмотр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04960" indent="-1704960">
              <a:spcBef>
                <a:spcPts val="601"/>
              </a:spcBef>
              <a:buClr>
                <a:srgbClr val="0e11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3" descr=""/>
          <p:cNvPicPr/>
          <p:nvPr/>
        </p:nvPicPr>
        <p:blipFill>
          <a:blip r:embed="rId1"/>
          <a:stretch/>
        </p:blipFill>
        <p:spPr>
          <a:xfrm>
            <a:off x="450720" y="-219240"/>
            <a:ext cx="8242560" cy="1646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214880" y="2428920"/>
            <a:ext cx="46432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836360" indent="-1836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119e"/>
                </a:solidFill>
                <a:latin typeface="Comic Sans MS"/>
              </a:rPr>
              <a:t>Хотя у каждого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6360" indent="-1836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119e"/>
                </a:solidFill>
                <a:latin typeface="Comic Sans MS"/>
              </a:rPr>
              <a:t>нас в учебе бывают                          про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6360" indent="-18363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e119e"/>
                </a:solidFill>
                <a:latin typeface="Comic Sans MS"/>
              </a:rPr>
              <a:t>В душе мы все –               отличники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6360" indent="-1836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6360" indent="-1836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:\Распечатать\DSC01107.JPG"/>
          <p:cNvPicPr/>
          <p:nvPr/>
        </p:nvPicPr>
        <p:blipFill>
          <a:blip r:embed="rId2"/>
          <a:stretch/>
        </p:blipFill>
        <p:spPr>
          <a:xfrm>
            <a:off x="214200" y="1643040"/>
            <a:ext cx="3643560" cy="485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23804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11" descr="DSC01111.JPG"/>
          <p:cNvPicPr/>
          <p:nvPr/>
        </p:nvPicPr>
        <p:blipFill>
          <a:blip r:embed="rId2"/>
          <a:stretch/>
        </p:blipFill>
        <p:spPr>
          <a:xfrm>
            <a:off x="4857840" y="15001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42560" y="3071880"/>
            <a:ext cx="45003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3520" indent="-2333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0948"/>
                </a:solidFill>
                <a:latin typeface="Arial"/>
              </a:rPr>
              <a:t>Без уроков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3520" indent="-2333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0948"/>
                </a:solidFill>
                <a:latin typeface="Arial"/>
              </a:rPr>
              <a:t>Мы ни туда и ни сю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3520" indent="-2333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0948"/>
                </a:solidFill>
                <a:latin typeface="Arial"/>
              </a:rPr>
              <a:t>Все теперь мы – мас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3520" indent="-23335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0948"/>
                </a:solidFill>
                <a:latin typeface="Arial"/>
              </a:rPr>
              <a:t>На все руки, хоть к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33520" indent="-2333520">
              <a:spcBef>
                <a:spcPts val="700"/>
              </a:spcBef>
              <a:buClr>
                <a:srgbClr val="e50948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D:\Documents and Settings\Admin\Рабочий стол\Распечатать\sova3.gif"/>
          <p:cNvPicPr/>
          <p:nvPr/>
        </p:nvPicPr>
        <p:blipFill>
          <a:blip r:embed="rId3"/>
          <a:stretch/>
        </p:blipFill>
        <p:spPr>
          <a:xfrm>
            <a:off x="500040" y="428760"/>
            <a:ext cx="1625760" cy="200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9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PICT5241"/>
          <p:cNvPicPr/>
          <p:nvPr/>
        </p:nvPicPr>
        <p:blipFill>
          <a:blip r:embed="rId1"/>
          <a:stretch/>
        </p:blipFill>
        <p:spPr>
          <a:xfrm>
            <a:off x="-10693440" y="15630480"/>
            <a:ext cx="4753080" cy="3565440"/>
          </a:xfrm>
          <a:prstGeom prst="rect">
            <a:avLst/>
          </a:prstGeom>
          <a:ln w="0">
            <a:noFill/>
          </a:ln>
        </p:spPr>
      </p:pic>
      <p:pic>
        <p:nvPicPr>
          <p:cNvPr id="70" name="Заголовок 10" descr=""/>
          <p:cNvPicPr/>
          <p:nvPr/>
        </p:nvPicPr>
        <p:blipFill>
          <a:blip r:embed="rId2"/>
          <a:stretch/>
        </p:blipFill>
        <p:spPr>
          <a:xfrm>
            <a:off x="450720" y="128520"/>
            <a:ext cx="8242560" cy="12985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11" descr="DSC01097.JPG"/>
          <p:cNvPicPr/>
          <p:nvPr/>
        </p:nvPicPr>
        <p:blipFill>
          <a:blip r:embed="rId3"/>
          <a:stretch/>
        </p:blipFill>
        <p:spPr>
          <a:xfrm>
            <a:off x="5715000" y="1571760"/>
            <a:ext cx="2887560" cy="385128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13" descr="DSC01096.JPG"/>
          <p:cNvPicPr/>
          <p:nvPr/>
        </p:nvPicPr>
        <p:blipFill>
          <a:blip r:embed="rId4"/>
          <a:stretch/>
        </p:blipFill>
        <p:spPr>
          <a:xfrm rot="20292600">
            <a:off x="417240" y="19987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4" descr=""/>
          <p:cNvPicPr/>
          <p:nvPr/>
        </p:nvPicPr>
        <p:blipFill>
          <a:blip r:embed="rId5"/>
          <a:stretch/>
        </p:blipFill>
        <p:spPr>
          <a:xfrm>
            <a:off x="2292480" y="5254560"/>
            <a:ext cx="52117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3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8259840" cy="158436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12" descr="DSC01102.JPG"/>
          <p:cNvPicPr/>
          <p:nvPr/>
        </p:nvPicPr>
        <p:blipFill>
          <a:blip r:embed="rId2"/>
          <a:stretch/>
        </p:blipFill>
        <p:spPr>
          <a:xfrm>
            <a:off x="285840" y="18572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357120" y="5572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ce4ec"/>
                </a:solidFill>
                <a:latin typeface="Arial"/>
              </a:rPr>
              <a:t>На школьном ка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10" descr="DSC01101.JPG"/>
          <p:cNvPicPr/>
          <p:nvPr/>
        </p:nvPicPr>
        <p:blipFill>
          <a:blip r:embed="rId3"/>
          <a:stretch/>
        </p:blipFill>
        <p:spPr>
          <a:xfrm>
            <a:off x="471492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4" descr=""/>
          <p:cNvPicPr/>
          <p:nvPr/>
        </p:nvPicPr>
        <p:blipFill>
          <a:blip r:embed="rId1"/>
          <a:stretch/>
        </p:blipFill>
        <p:spPr>
          <a:xfrm>
            <a:off x="208080" y="-255600"/>
            <a:ext cx="8240760" cy="154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57120" y="1071720"/>
            <a:ext cx="492912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3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иана – призёр олимпиады по технологии и конкурса «Минута слав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Её ждет успе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на вяжет и делает картины лучше всех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10" descr="DSC01099.JPG"/>
          <p:cNvPicPr/>
          <p:nvPr/>
        </p:nvPicPr>
        <p:blipFill>
          <a:blip r:embed="rId2"/>
          <a:stretch/>
        </p:blipFill>
        <p:spPr>
          <a:xfrm>
            <a:off x="571680" y="2857680"/>
            <a:ext cx="2786040" cy="37144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714840" y="4500720"/>
            <a:ext cx="521496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Гена Кубасов прославил свой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мечательным художественным чт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н неоднократно участвовал в конкур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тихов и занимал призовые м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то знает, может быть это будущий диктор телевид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9" descr="DSC01113.JPG"/>
          <p:cNvPicPr/>
          <p:nvPr/>
        </p:nvPicPr>
        <p:blipFill>
          <a:blip r:embed="rId3"/>
          <a:stretch/>
        </p:blipFill>
        <p:spPr>
          <a:xfrm>
            <a:off x="6143760" y="714240"/>
            <a:ext cx="2714400" cy="3619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2"/>
          <p:cNvSpPr/>
          <p:nvPr/>
        </p:nvSpPr>
        <p:spPr>
          <a:xfrm>
            <a:off x="3924360" y="328464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2000"/>
                                        <p:tgtEl>
                                          <p:spTgt spid="79">
                                            <p:txEl>
                                              <p:pRg st="38" end="3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2000"/>
                                        <p:tgtEl>
                                          <p:spTgt spid="79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2000"/>
                                        <p:tgtEl>
                                          <p:spTgt spid="79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8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000"/>
                            </p:stCondLst>
                            <p:childTnLst>
                              <p:par>
                                <p:cTn id="2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5:19:35Z</dcterms:created>
  <dc:creator>Алла</dc:creator>
  <dc:description/>
  <dc:language>en-US</dc:language>
  <cp:lastModifiedBy>WIN7XP</cp:lastModifiedBy>
  <dcterms:modified xsi:type="dcterms:W3CDTF">2011-07-16T10:44:55Z</dcterms:modified>
  <cp:revision>78</cp:revision>
  <dc:subject/>
  <dc:title>10 «Е» класс</dc:title>
</cp:coreProperties>
</file>