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9.png" ContentType="image/png"/>
  <Override PartName="/ppt/media/image33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1.png" ContentType="image/pn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0CA5-E222-480E-8E59-BDE014FE3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4FA8-8DA4-469C-86FF-AA0259B12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630-24D6-4B68-A479-751C58F8D2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0FC5-9894-45E7-BE3B-3970F663F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0F6-D309-41AC-8D6F-DC33FB2AA4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A85E-F873-4B47-9B10-92E1626B2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A37D-99F9-4655-A3F7-53E707279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91E4-E503-4B52-BF92-16CB658359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B3AB-6661-4604-AF43-DFE528A57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49F5-5066-4B1D-92ED-AB82F55F8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D08-30DE-4B35-BB8D-56CBEA014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6BF2-EE10-430F-87A6-DAD78D5B4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213A-E422-427A-A801-FB7AE1C20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99B9-0902-435E-9243-2FA3C13F9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D66-4A19-4E51-B2C2-5D0389AFC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1DD0-E154-471C-AC5E-805941DC6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A5B8-2DE1-4A5C-B911-CA3C5405D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5A0A-8FA1-489D-848F-2AD42801D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AAE-EF56-449E-9462-A2FAF42D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2DF-D7B2-4C0B-A611-527D24BC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506-E17C-4477-803B-97D05448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EC8-475F-4E27-9A37-F751C880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A0B-DA0E-4618-BE01-3FE136E3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2FE-81E5-4B46-9240-D01B30CA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5CD-826D-457B-A199-4BE9C07F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D7F-264B-4411-BD96-4D34EB25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4A8-694C-4A95-8446-B7D2088E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7BE-BBB9-440F-BE2F-0E795CF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8C2-5B94-4297-823E-CE7A223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E72-4F28-4F5D-BC46-E23F2BF7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0962-073D-4F82-BDE5-A9E050544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571760" y="21420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зитка 8 класс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6" descr="H:\Распечатать\DSC00972.JPG"/>
          <p:cNvPicPr/>
          <p:nvPr/>
        </p:nvPicPr>
        <p:blipFill>
          <a:blip r:embed="rId1"/>
          <a:stretch/>
        </p:blipFill>
        <p:spPr>
          <a:xfrm>
            <a:off x="1285920" y="1571760"/>
            <a:ext cx="6429240" cy="4822560"/>
          </a:xfrm>
          <a:prstGeom prst="rect">
            <a:avLst/>
          </a:prstGeom>
          <a:ln w="0">
            <a:noFill/>
          </a:ln>
        </p:spPr>
      </p:pic>
      <p:pic>
        <p:nvPicPr>
          <p:cNvPr id="50" name="liubovne_istorii_-_shkola,_ya_skuchaiu_minus.mp3" descr=""/>
          <p:cNvPicPr/>
          <p:nvPr/>
        </p:nvPicPr>
        <p:blipFill>
          <a:blip r:embed="rId2"/>
          <a:stretch/>
        </p:blipFill>
        <p:spPr>
          <a:xfrm>
            <a:off x="857268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42920" y="2285640"/>
            <a:ext cx="4327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Ербол – активный участник конкурсов сти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В ноябре 2010 года на конкурсе стихов о Родине он занял                  </a:t>
            </a:r>
            <a:r>
              <a:rPr b="1" lang="ru-RU" sz="2800" spc="-1" strike="noStrike" u="sng">
                <a:solidFill>
                  <a:srgbClr val="990033"/>
                </a:solidFill>
                <a:uFillTx/>
                <a:latin typeface="Comic Sans MS"/>
              </a:rPr>
              <a:t>1 место</a:t>
            </a: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 и награжден грам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8" descr="DSC00976.JPG"/>
          <p:cNvPicPr/>
          <p:nvPr/>
        </p:nvPicPr>
        <p:blipFill>
          <a:blip r:embed="rId1"/>
          <a:stretch/>
        </p:blipFill>
        <p:spPr>
          <a:xfrm>
            <a:off x="142920" y="28584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6" descr="DSC01105.JPG"/>
          <p:cNvPicPr/>
          <p:nvPr/>
        </p:nvPicPr>
        <p:blipFill>
          <a:blip r:embed="rId1"/>
          <a:stretch/>
        </p:blipFill>
        <p:spPr>
          <a:xfrm>
            <a:off x="142920" y="14292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0" y="21384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Артём Кузякин  - участник районной олимпиады по истор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Он занял 7-е мест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Артём большой книголюб, влюблён в историю.  И кто знает, может быть  это в будущем  знаменитый исто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3857760"/>
            <a:ext cx="4543200" cy="24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У меня растут года, будет и семнадцать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 Где работать мне тогда, чем заниматься?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 Нужные работники - столяры и плотни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Витя Баруткин  призёр районной олимпиады по тех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Его ждёт успех! С деревом он работает лучше все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14" descr="DSC01109.JPG"/>
          <p:cNvPicPr/>
          <p:nvPr/>
        </p:nvPicPr>
        <p:blipFill>
          <a:blip r:embed="rId2"/>
          <a:stretch/>
        </p:blipFill>
        <p:spPr>
          <a:xfrm>
            <a:off x="6143760" y="3048120"/>
            <a:ext cx="27255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5214600"/>
            <a:ext cx="8501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это наши новоселы: Лариса, Света, Настя и Ди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занимаются в кружке «Умелые руки», плетут красивые укра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10" descr="DSC00961.JPG"/>
          <p:cNvPicPr/>
          <p:nvPr/>
        </p:nvPicPr>
        <p:blipFill>
          <a:blip r:embed="rId2"/>
          <a:stretch/>
        </p:blipFill>
        <p:spPr>
          <a:xfrm>
            <a:off x="1428840" y="21420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600"/>
                            </p:stCondLst>
                            <p:childTnLst>
                              <p:par>
                                <p:cTn id="39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32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6" descr="DSC01100.JPG"/>
          <p:cNvPicPr/>
          <p:nvPr/>
        </p:nvPicPr>
        <p:blipFill>
          <a:blip r:embed="rId2"/>
          <a:stretch/>
        </p:blipFill>
        <p:spPr>
          <a:xfrm>
            <a:off x="214200" y="214200"/>
            <a:ext cx="385776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5" descr=""/>
          <p:cNvPicPr/>
          <p:nvPr/>
        </p:nvPicPr>
        <p:blipFill>
          <a:blip r:embed="rId3"/>
          <a:stretch/>
        </p:blipFill>
        <p:spPr>
          <a:xfrm>
            <a:off x="4498920" y="2968560"/>
            <a:ext cx="4565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онкурс частуш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DSC01121.JPG"/>
          <p:cNvPicPr/>
          <p:nvPr/>
        </p:nvPicPr>
        <p:blipFill>
          <a:blip r:embed="rId1"/>
          <a:stretch/>
        </p:blipFill>
        <p:spPr>
          <a:xfrm>
            <a:off x="285840" y="1143000"/>
            <a:ext cx="3714840" cy="27846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DSC01124.JPG"/>
          <p:cNvPicPr/>
          <p:nvPr/>
        </p:nvPicPr>
        <p:blipFill>
          <a:blip r:embed="rId2"/>
          <a:stretch/>
        </p:blipFill>
        <p:spPr>
          <a:xfrm>
            <a:off x="5000760" y="135720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71320" y="4357800"/>
            <a:ext cx="77864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ята активные участники различных мероприятий школы и класса: КВН, интеллектуальных игр, конк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и учатся творчески подходить к различным делам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обовали себя в конкурсе часту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здоро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143240" y="3499920"/>
            <a:ext cx="48578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Школу как не люб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ы научимся 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е бояться ни бурь, ни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се дороги – пути, даже звездный марш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чинаются в школе 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D:\Фото\Картинки для телефона\Новая папка (4)\240x320 wallpack semasterz.com\A (74).jpg"/>
          <p:cNvPicPr/>
          <p:nvPr/>
        </p:nvPicPr>
        <p:blipFill>
          <a:blip r:embed="rId1"/>
          <a:stretch/>
        </p:blipFill>
        <p:spPr>
          <a:xfrm>
            <a:off x="214200" y="285840"/>
            <a:ext cx="37864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6" descr="p1_izobrajenie097.jpg"/>
          <p:cNvPicPr/>
          <p:nvPr/>
        </p:nvPicPr>
        <p:blipFill>
          <a:blip r:embed="rId1"/>
          <a:stretch/>
        </p:blipFill>
        <p:spPr>
          <a:xfrm>
            <a:off x="142920" y="642960"/>
            <a:ext cx="4809960" cy="343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214600" y="2428920"/>
            <a:ext cx="3786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e119e"/>
                </a:solidFill>
                <a:latin typeface="Calibri"/>
              </a:rPr>
              <a:t>Родной интернат, начало нач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e119e"/>
                </a:solidFill>
                <a:latin typeface="Calibri"/>
              </a:rPr>
              <a:t>Ты в жизни моей – надёжный прич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e119e"/>
                </a:solidFill>
                <a:latin typeface="Calibri"/>
              </a:rPr>
              <a:t>Родной интернат, пускай много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e119e"/>
                </a:solidFill>
                <a:latin typeface="Calibri"/>
              </a:rPr>
              <a:t>Горит в твоих окнах добрый с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700"/>
              </a:spcBef>
              <a:buClr>
                <a:srgbClr val="0e11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229600" cy="19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 класс наш визитку Вы пролистали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Чуточку больше о нас Вы узнал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Поверьте, нам есть, что еще показать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Но время не будем у Вас отнима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1"/>
          <a:stretch/>
        </p:blipFill>
        <p:spPr>
          <a:xfrm>
            <a:off x="633240" y="3206880"/>
            <a:ext cx="8291520" cy="223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571760" y="21420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 класс – семьи большой частиц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ассе у нас – 4 девочки и 6 мальчик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едставляем город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дужный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86040" y="3429000"/>
            <a:ext cx="61149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e146f"/>
                </a:solidFill>
                <a:latin typeface="Monotype Corsiva"/>
              </a:rPr>
              <a:t>Наш деви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19e"/>
                </a:solidFill>
                <a:latin typeface="Monotype Corsiva"/>
              </a:rPr>
              <a:t>«Сияй как радуга, цветам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19e"/>
                </a:solidFill>
                <a:latin typeface="Monotype Corsiva"/>
              </a:rPr>
              <a:t>Отчизне пользу приноси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100"/>
              </a:spcBef>
              <a:buClr>
                <a:srgbClr val="0e119e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Владелец\Мои документы\Галина Михайловна\Распечатать\DSC01120.JPG"/>
          <p:cNvPicPr/>
          <p:nvPr/>
        </p:nvPicPr>
        <p:blipFill>
          <a:blip r:embed="rId1"/>
          <a:stretch/>
        </p:blipFill>
        <p:spPr>
          <a:xfrm>
            <a:off x="142920" y="142920"/>
            <a:ext cx="5286240" cy="435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0" y="4572000"/>
            <a:ext cx="42530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с другом жизнь прекрас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много весе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здорово, что все мы зд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годня собр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6760" y="457164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сть трудностей нав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всё преодоле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только друг без др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вряд ли обойт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7" descr="E:\Documents and Settings\Admin\Мои документы\Мои рисунки\анимация\l1_sociol_o.gif"/>
          <p:cNvPicPr/>
          <p:nvPr/>
        </p:nvPicPr>
        <p:blipFill>
          <a:blip r:embed="rId2"/>
          <a:stretch/>
        </p:blipFill>
        <p:spPr>
          <a:xfrm>
            <a:off x="6643800" y="857160"/>
            <a:ext cx="1622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3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8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:\Распечатать\DSC00970.JPG"/>
          <p:cNvPicPr/>
          <p:nvPr/>
        </p:nvPicPr>
        <p:blipFill>
          <a:blip r:embed="rId2"/>
          <a:stretch/>
        </p:blipFill>
        <p:spPr>
          <a:xfrm>
            <a:off x="4429080" y="157176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Владелец\Мои документы\Галина Михайловна\Распечатать\DSC01119.JPG"/>
          <p:cNvPicPr/>
          <p:nvPr/>
        </p:nvPicPr>
        <p:blipFill>
          <a:blip r:embed="rId3"/>
          <a:stretch/>
        </p:blipFill>
        <p:spPr>
          <a:xfrm>
            <a:off x="5643720" y="4214880"/>
            <a:ext cx="3319200" cy="2490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Будни в школе нач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Мы старательно             пытае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За  партою с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Но так часто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Говорить хотелось всл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И к соседу поверну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И в окошко посмотр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601"/>
              </a:spcBef>
              <a:buClr>
                <a:srgbClr val="0e11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3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64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214880" y="2428920"/>
            <a:ext cx="46432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836360" indent="-1836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119e"/>
                </a:solidFill>
                <a:latin typeface="Comic Sans MS"/>
              </a:rPr>
              <a:t>Хотя у каждого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360" indent="-1836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119e"/>
                </a:solidFill>
                <a:latin typeface="Comic Sans MS"/>
              </a:rPr>
              <a:t>нас в учебе бывают                          про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360" indent="-1836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119e"/>
                </a:solidFill>
                <a:latin typeface="Comic Sans MS"/>
              </a:rPr>
              <a:t>В душе мы все –               отличник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360" indent="-1836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360" indent="-1836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:\Распечатать\DSC01107.JPG"/>
          <p:cNvPicPr/>
          <p:nvPr/>
        </p:nvPicPr>
        <p:blipFill>
          <a:blip r:embed="rId2"/>
          <a:stretch/>
        </p:blipFill>
        <p:spPr>
          <a:xfrm>
            <a:off x="214200" y="1643040"/>
            <a:ext cx="364356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11" descr="DSC01111.JPG"/>
          <p:cNvPicPr/>
          <p:nvPr/>
        </p:nvPicPr>
        <p:blipFill>
          <a:blip r:embed="rId2"/>
          <a:stretch/>
        </p:blipFill>
        <p:spPr>
          <a:xfrm>
            <a:off x="4857840" y="15001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42560" y="3071880"/>
            <a:ext cx="45003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3520" indent="-2333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0948"/>
                </a:solidFill>
                <a:latin typeface="Arial"/>
              </a:rPr>
              <a:t>Без уроков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3520" indent="-2333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0948"/>
                </a:solidFill>
                <a:latin typeface="Arial"/>
              </a:rPr>
              <a:t>Мы ни туда и ни сю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3520" indent="-2333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0948"/>
                </a:solidFill>
                <a:latin typeface="Arial"/>
              </a:rPr>
              <a:t>Все теперь мы – мас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3520" indent="-2333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0948"/>
                </a:solidFill>
                <a:latin typeface="Arial"/>
              </a:rPr>
              <a:t>На все руки, хоть к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3520" indent="-2333520">
              <a:spcBef>
                <a:spcPts val="700"/>
              </a:spcBef>
              <a:buClr>
                <a:srgbClr val="e50948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D:\Documents and Settings\Admin\Рабочий стол\Распечатать\sova3.gif"/>
          <p:cNvPicPr/>
          <p:nvPr/>
        </p:nvPicPr>
        <p:blipFill>
          <a:blip r:embed="rId3"/>
          <a:stretch/>
        </p:blipFill>
        <p:spPr>
          <a:xfrm>
            <a:off x="500040" y="428760"/>
            <a:ext cx="1625760" cy="200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9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ICT5241"/>
          <p:cNvPicPr/>
          <p:nvPr/>
        </p:nvPicPr>
        <p:blipFill>
          <a:blip r:embed="rId1"/>
          <a:stretch/>
        </p:blipFill>
        <p:spPr>
          <a:xfrm>
            <a:off x="-10693440" y="15630480"/>
            <a:ext cx="4753080" cy="3565440"/>
          </a:xfrm>
          <a:prstGeom prst="rect">
            <a:avLst/>
          </a:prstGeom>
          <a:ln w="0">
            <a:noFill/>
          </a:ln>
        </p:spPr>
      </p:pic>
      <p:pic>
        <p:nvPicPr>
          <p:cNvPr id="70" name="Заголовок 10" descr=""/>
          <p:cNvPicPr/>
          <p:nvPr/>
        </p:nvPicPr>
        <p:blipFill>
          <a:blip r:embed="rId2"/>
          <a:stretch/>
        </p:blipFill>
        <p:spPr>
          <a:xfrm>
            <a:off x="450720" y="128520"/>
            <a:ext cx="8242560" cy="12985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11" descr="DSC01097.JPG"/>
          <p:cNvPicPr/>
          <p:nvPr/>
        </p:nvPicPr>
        <p:blipFill>
          <a:blip r:embed="rId3"/>
          <a:stretch/>
        </p:blipFill>
        <p:spPr>
          <a:xfrm>
            <a:off x="5715000" y="1571760"/>
            <a:ext cx="2887560" cy="385128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13" descr="DSC01096.JPG"/>
          <p:cNvPicPr/>
          <p:nvPr/>
        </p:nvPicPr>
        <p:blipFill>
          <a:blip r:embed="rId4"/>
          <a:stretch/>
        </p:blipFill>
        <p:spPr>
          <a:xfrm rot="20292600">
            <a:off x="417240" y="19987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4" descr=""/>
          <p:cNvPicPr/>
          <p:nvPr/>
        </p:nvPicPr>
        <p:blipFill>
          <a:blip r:embed="rId5"/>
          <a:stretch/>
        </p:blipFill>
        <p:spPr>
          <a:xfrm>
            <a:off x="2292480" y="5254560"/>
            <a:ext cx="52117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3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59840" cy="158436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12" descr="DSC01102.JPG"/>
          <p:cNvPicPr/>
          <p:nvPr/>
        </p:nvPicPr>
        <p:blipFill>
          <a:blip r:embed="rId2"/>
          <a:stretch/>
        </p:blipFill>
        <p:spPr>
          <a:xfrm>
            <a:off x="285840" y="18572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57120" y="5572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e4ec"/>
                </a:solidFill>
                <a:latin typeface="Arial"/>
              </a:rPr>
              <a:t>На школьном ка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10" descr="DSC01101.JPG"/>
          <p:cNvPicPr/>
          <p:nvPr/>
        </p:nvPicPr>
        <p:blipFill>
          <a:blip r:embed="rId3"/>
          <a:stretch/>
        </p:blipFill>
        <p:spPr>
          <a:xfrm>
            <a:off x="471492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4" descr=""/>
          <p:cNvPicPr/>
          <p:nvPr/>
        </p:nvPicPr>
        <p:blipFill>
          <a:blip r:embed="rId1"/>
          <a:stretch/>
        </p:blipFill>
        <p:spPr>
          <a:xfrm>
            <a:off x="208080" y="-255600"/>
            <a:ext cx="8240760" cy="154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57120" y="1071720"/>
            <a:ext cx="492912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3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иана – призёр олимпиады по технологии и конкурса «Минута слав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Её ждет успе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на вяжет и делает картины лучше всех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10" descr="DSC01099.JPG"/>
          <p:cNvPicPr/>
          <p:nvPr/>
        </p:nvPicPr>
        <p:blipFill>
          <a:blip r:embed="rId2"/>
          <a:stretch/>
        </p:blipFill>
        <p:spPr>
          <a:xfrm>
            <a:off x="571680" y="2857680"/>
            <a:ext cx="2786040" cy="3714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714840" y="4500720"/>
            <a:ext cx="521496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ена Кубасов прославил сво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мечательным художественным чт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н неоднократно участвовал в конкур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тихов и занимал призовые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то знает, может быть это будущий диктор телевид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9" descr="DSC01113.JPG"/>
          <p:cNvPicPr/>
          <p:nvPr/>
        </p:nvPicPr>
        <p:blipFill>
          <a:blip r:embed="rId3"/>
          <a:stretch/>
        </p:blipFill>
        <p:spPr>
          <a:xfrm>
            <a:off x="6143760" y="714240"/>
            <a:ext cx="2714400" cy="3619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3924360" y="328464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2000"/>
                                        <p:tgtEl>
                                          <p:spTgt spid="79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2000"/>
                                        <p:tgtEl>
                                          <p:spTgt spid="79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2000"/>
                                        <p:tgtEl>
                                          <p:spTgt spid="79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8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000"/>
                            </p:stCondLst>
                            <p:childTnLst>
                              <p:par>
                                <p:cTn id="2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5:19:35Z</dcterms:created>
  <dc:creator>Алла</dc:creator>
  <dc:description/>
  <dc:language>en-US</dc:language>
  <cp:lastModifiedBy>WIN7XP</cp:lastModifiedBy>
  <dcterms:modified xsi:type="dcterms:W3CDTF">2011-07-16T10:44:55Z</dcterms:modified>
  <cp:revision>78</cp:revision>
  <dc:subject/>
  <dc:title>10 «Е» класс</dc:title>
</cp:coreProperties>
</file>