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88F8-7AB4-4760-B295-03024FF3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7CAF-4CED-4713-ABA6-BDC81392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6907-F978-4472-9C23-0645AD94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6975-BBF8-46B7-8F2B-3E0A4AF1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827E-120F-4514-A7A5-FC1B86CB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D520-B371-453B-9C43-ACE3127B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1D23-8EBE-442D-A802-7654B245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3807-4E29-4EC7-9F84-94C29B22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5732-60D1-4046-92CB-EDE2E75F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B098-ACB9-495C-9D8A-84EB015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8B9-CF05-428D-8B9E-0CF796B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8B05-97FC-453E-9CE4-016EF5F3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DB4-B2E6-4025-91D4-A69C6B36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D48B-C4D9-4B21-950F-8AA3B0A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9533-3646-4716-BD92-4A4AD793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66D-2C66-49DA-95DF-E6EF237F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6E89-54BE-4626-8655-9A736DD8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6BD5-8427-4C36-9094-E2D6B4E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7C5F-D2A5-4C1B-B797-271E915E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5DBF-F3C6-465B-ABA3-F3D4174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8278-90E7-4A7F-B6A5-029E8E7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7F29-6C22-48D2-8E5B-69756A5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1204-975E-4C98-A72F-B9F9DFD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1DA5-9C47-48FA-A38C-CE9F565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1DE-0011-4945-9CEF-BBB1656BF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CD6B-0EA8-445A-8F67-0A557FEB2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428760" y="8571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ое задание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стема персонажей  в пов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лощение авторского замыс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и   русского языка и литерат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ламова С.А. (АМПЛ№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2857680" y="662760"/>
            <a:ext cx="5786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Татьяна Станислав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У меня бизнес, у меня личного нет и не было.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от у вас есть семья , а счастья все равно никакого… Еще не хватало, чтоб родные дети отнимали у меня дело, на которое я потратила столько времени и сил, или – еще лучше – наняли для меня киллера. На мои же деньги… Нет, идея семейного счастья – это в прошлом. Сейчас ради семьи люди не живут. Мужчина – не проблема, — усмехается Татьяна. – А если он у тебя один, то с годами просто садится на шею. Вари ему, стирай, зашивай, еще и не смей никуда выйти, с кем-то пообщаться… А дети? Моя мама потратила на нас всю жизнь. То же – бабушки. У одной было четверо, у другой – шестеро. Пожертвовали на детей всю свою жизнь. Нет, теперь ученые пришли к выводу, что это неправи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241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755640" y="5183280"/>
            <a:ext cx="831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А знаете, ребята, о чем я подумала?.. Может, и хорошо, что меня здесь зажало. Я в обычной жизни как белка в колесе. Последние два года работаю, не останавливаясь ни на минуту, не отдыхая, недосыпая, почти не встречаясь с родственниками и подругами. Как это ни странно, но я с вами отдохнула. Сна тоже не было, зато поговорили по душам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… И сделка сорвалась, которая заставила бы меня пахать еще больше. Уже, наверное, надорвалась б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2786040" y="214200"/>
            <a:ext cx="60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  <a:ea typeface="Calibri"/>
              </a:rPr>
              <a:t>Наоборот, человек должен любить себя, делать то, что хочется, жить ради себя, а главное — считать себя во всем правым и не заниматься самокопанием: правильно поступил – неправильно. Поступил и поступил. Это уже в прошлом… У нас, русских, у всех комплекс: ищем чего-то, мучаемся совестью по поводу и без повода. Увереннее надо быть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идеть на завалинке, а делать дело, жить. Если будешь хорошо относиться к самому себе, то и жизнь вокруг тебя будет нормальной, счастли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Для безграничных возможностей нужны безграничные стремления.– Не у всех богатых людей это так. Мне вон и в Турцию на недельку невозможно съездить. Всё дела, дела. Сплошная суета с одной лишь целью: удержаться на плаву, не разориться. У конкурентов совести ни на грамм, расслабиться не дают… Власть тоже: постоянно толкает на нарушения законов и правил, а потом наказыва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Выгнутая вниз стрелка 5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7680" y="189000"/>
            <a:ext cx="1666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3214800" y="39672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– « длинноволосый, кучерявый мужчина лет тридцати с усиками полукругом. Он с самой посадки сидит за столиком, и все это время его взгляд не отрывается от экрана ноутбука, только левая рука один раз в пять минут тянется к пиву. Мужчина делает большой глоток, но глаза его все равно не отрываются от компьютер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Я веб-дизайнер. Меня пригласила на работу солидная фирма, и я готовлю для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сколько презентаций. Не удивляйтесь, я сейчас сбрею усы: в этой фирме строго с внешним видом. Как приеду, еще и коротко подстригусь. Таковы требования. Надо соответ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А я все детство в футбол играл. Зимой – в хоккей. У нас в школе работал замечательный физрук – сейчас он на пенсии, наверное, — который возился с нами, пацанвой, целыми днями. И даже летом, в каникулы. Это был не спорт, это было удовольств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 еще, между прочим, я все детство и отрочество любил одну дево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94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6"/>
          <p:cNvSpPr/>
          <p:nvPr/>
        </p:nvSpPr>
        <p:spPr>
          <a:xfrm>
            <a:off x="3500280" y="488880"/>
            <a:ext cx="50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_Да разве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я сейчас живу?.. Уродство это, а не жизнь</a:t>
            </a: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. Вбил себе в голову, что надо заработать миллион долларов, а потом уйти на покой, ничего не делать и до конца дней загорать на пляжах какой—нибудь Майорки. И все, жизнь закончилас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3500280" y="2214720"/>
            <a:ext cx="5357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Я не обманул человека на крупную сумму, которую он так хотел мне подарить. И – что странно – совсем не жалею. Я сильно не обеднею, а он, может, удавился бы с горя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… Смотрю на эту дыру в потолке: мы точно под землей, в гробу, а та жизнь – обычная, на поверхности – тусклая и туманная, как сегодняшнее утро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Взорвали бы меня сегодня, или сгорел, кому бы мой неполный миллион достался? Наверное, банкам. Я ведь завещания не писа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ыгнутая вниз стрелка 5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28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857680" y="435240"/>
            <a:ext cx="62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Миша (АПОЛЛОН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«в седьмом купе на правой верхней полке ехал спортивного вида молодой человек, одетый в оранжево-зелено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2857680" y="2286000"/>
            <a:ext cx="60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Я это… Стриптиз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иптиз – тоже искус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от я раньше на гитаре в группе играл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Я сам музыку сочинял. Народ тащ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2857680" y="35002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а по—любому проституткой работать не прет. Мне и так уже двадцать пять. Еще чуть—чуть, и выпаду из движения: молодые затрут. Надо бы на пенсию подзаработ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2857680" y="471492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учше в какую—нибудь рекламу пойду, там можно и в сорок лет работать, ничего. Бабки, конечно, не такие, зато без унижен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гнутая вниз стрелка 7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368280"/>
            <a:ext cx="20127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357120" y="642960"/>
            <a:ext cx="80726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Для раскрытия  образов  персонажей автор чаще всего  использует диалогическую речь, пользуется приемом  саморазоблачения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рактически нет портретной характеристики , но читатель благодаря  авторским деталям(речь)легко представляет перед собой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Не случайно А.ШЕВЧЕНКО собрал в одном купе таких непохожих  персонажей( они разные и в социальном, и  в возрастном плане).Такая система образов помогает раскрыть проблемы , затронутые в этой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Особой миссией наделен образ СВЯЩЕННИКА. Его речь, поведение, скупые  рассказы из личной жизни  симпатичны автору. Через его монологи автор пытается донести свою позицию до чит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Название повести «Стиснутые»-символично , имеет несколько значений (1.сдавить, сжать;2.сильно прижать одно к другом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е -один из способов выражения авторской 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гнутая вниз стрелка 3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Цели работы: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явить основные приемы описания характеров главных героев, внутреннюю логику создания образа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крыть значение авторского присутствия, приобщиться к исследовательской работе и творческому осмыслению полученных наблюдений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учить находить художественные детали, сопоставлять факты, обобщать, делать выводы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Формировать исследовательские навыки работы над текстом, внимание к авторскому слову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42960" y="357120"/>
            <a:ext cx="797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571680" y="483480"/>
            <a:ext cx="40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оварная рабо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персон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Художественная детал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57120" y="21589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художественный образ, созданный автором, включает в себя портретную характеристику героя, в которой автор, как правило, акцентирует внимание на основных чертах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286000" y="372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ХУДОЖЕСТВЕННЫЕ СРЕДСТВА СОЗДАНИЯ ОБРАЗ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500040" y="444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чевая характеристика геро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Мон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500040" y="5437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вторская характерис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Внутренний монолог и др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4"/>
          <p:cNvSpPr/>
          <p:nvPr/>
        </p:nvSpPr>
        <p:spPr>
          <a:xfrm>
            <a:off x="642960" y="78588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таль – значимая подробность, позволяющая передать эмоциональное и смысловое содержание сцены, эпиз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42960" y="16430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персонажей художественного произведения – это порядок расположения образов в произве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642960" y="3857760"/>
            <a:ext cx="70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Отметим такой прием, как саморазоблачение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вторская характеристика может  состоять из отдельных фрагментов, в которых рассказывается о привычках героя, характерных эпизодах его жизни, манерах поведения в обществе. Каждая из этих зарисовок представляет сжатый рассказ, раскрывающий ту или иную черту его харак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42960" y="228600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рада́ц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лат. gradatio — постепенное повышение, от gradus — ступень, степень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тилистическая фигура, ряд однородных слов или выражений последовательно нагнетающих, наращивающих или, наоборот, понижающих смысловую или эмоциональную значимость. Принцип Г. может служить приёмом строфической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3"/>
          <p:cNvGrpSpPr/>
          <p:nvPr/>
        </p:nvGrpSpPr>
        <p:grpSpPr>
          <a:xfrm>
            <a:off x="623880" y="430200"/>
            <a:ext cx="7824960" cy="6140520"/>
            <a:chOff x="623880" y="430200"/>
            <a:chExt cx="7824960" cy="6140520"/>
          </a:xfrm>
        </p:grpSpPr>
        <p:sp>
          <p:nvSpPr>
            <p:cNvPr id="118" name="Полилиния 4"/>
            <p:cNvSpPr/>
            <p:nvPr/>
          </p:nvSpPr>
          <p:spPr>
            <a:xfrm>
              <a:off x="5094720" y="2049840"/>
              <a:ext cx="543960" cy="413568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4135680"/>
                <a:gd name="textAreaBottom" fmla="*/ 4136040 h 4135680"/>
              </a:gdLst>
              <a:ahLst/>
              <a:rect l="textAreaLeft" t="textAreaTop" r="textAreaRight" b="textAreaBottom"/>
              <a:pathLst>
                <a:path w="552558" h="4257482">
                  <a:moveTo>
                    <a:pt x="0" y="0"/>
                  </a:moveTo>
                  <a:lnTo>
                    <a:pt x="0" y="4256841"/>
                  </a:lnTo>
                  <a:lnTo>
                    <a:pt x="551657" y="4256841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олилиния 5"/>
            <p:cNvSpPr/>
            <p:nvPr/>
          </p:nvSpPr>
          <p:spPr>
            <a:xfrm>
              <a:off x="5094720" y="2049840"/>
              <a:ext cx="543960" cy="324612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552558" h="3341536">
                  <a:moveTo>
                    <a:pt x="0" y="0"/>
                  </a:moveTo>
                  <a:lnTo>
                    <a:pt x="0" y="3340975"/>
                  </a:lnTo>
                  <a:lnTo>
                    <a:pt x="551657" y="3340975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олилиния 6"/>
            <p:cNvSpPr/>
            <p:nvPr/>
          </p:nvSpPr>
          <p:spPr>
            <a:xfrm>
              <a:off x="5094720" y="2049840"/>
              <a:ext cx="543960" cy="235620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2356200"/>
                <a:gd name="textAreaBottom" fmla="*/ 2356200 h 2356200"/>
              </a:gdLst>
              <a:ahLst/>
              <a:rect l="textAreaLeft" t="textAreaTop" r="textAreaRight" b="textAreaBottom"/>
              <a:pathLst>
                <a:path w="552558" h="2425590">
                  <a:moveTo>
                    <a:pt x="0" y="0"/>
                  </a:moveTo>
                  <a:lnTo>
                    <a:pt x="0" y="2425109"/>
                  </a:lnTo>
                  <a:lnTo>
                    <a:pt x="551657" y="2425109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олилиния 7"/>
            <p:cNvSpPr/>
            <p:nvPr/>
          </p:nvSpPr>
          <p:spPr>
            <a:xfrm>
              <a:off x="5094720" y="2049840"/>
              <a:ext cx="543960" cy="146628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1466280"/>
                <a:gd name="textAreaBottom" fmla="*/ 1466280 h 1466280"/>
              </a:gdLst>
              <a:ahLst/>
              <a:rect l="textAreaLeft" t="textAreaTop" r="textAreaRight" b="textAreaBottom"/>
              <a:pathLst>
                <a:path w="552558" h="1509644">
                  <a:moveTo>
                    <a:pt x="0" y="0"/>
                  </a:moveTo>
                  <a:lnTo>
                    <a:pt x="0" y="1509243"/>
                  </a:lnTo>
                  <a:lnTo>
                    <a:pt x="551657" y="1509243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олилиния 8"/>
            <p:cNvSpPr/>
            <p:nvPr/>
          </p:nvSpPr>
          <p:spPr>
            <a:xfrm>
              <a:off x="5094720" y="2049840"/>
              <a:ext cx="543960" cy="57672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552558" h="593698">
                  <a:moveTo>
                    <a:pt x="0" y="0"/>
                  </a:moveTo>
                  <a:lnTo>
                    <a:pt x="0" y="593377"/>
                  </a:lnTo>
                  <a:lnTo>
                    <a:pt x="551657" y="593377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олилиния 9"/>
            <p:cNvSpPr/>
            <p:nvPr/>
          </p:nvSpPr>
          <p:spPr>
            <a:xfrm>
              <a:off x="4520520" y="1160280"/>
              <a:ext cx="2023560" cy="263520"/>
            </a:xfrm>
            <a:custGeom>
              <a:avLst/>
              <a:gdLst>
                <a:gd name="textAreaLeft" fmla="*/ 0 w 2023560"/>
                <a:gd name="textAreaRight" fmla="*/ 2023920 w 2023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4628" h="271450">
                  <a:moveTo>
                    <a:pt x="0" y="0"/>
                  </a:moveTo>
                  <a:lnTo>
                    <a:pt x="0" y="135444"/>
                  </a:lnTo>
                  <a:lnTo>
                    <a:pt x="2054513" y="135444"/>
                  </a:lnTo>
                  <a:lnTo>
                    <a:pt x="2054513" y="270889"/>
                  </a:lnTo>
                </a:path>
              </a:pathLst>
            </a:custGeom>
            <a:noFill/>
            <a:ln w="25560">
              <a:solidFill>
                <a:srgbClr val="70b7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олилиния 10"/>
            <p:cNvSpPr/>
            <p:nvPr/>
          </p:nvSpPr>
          <p:spPr>
            <a:xfrm>
              <a:off x="1064160" y="2049840"/>
              <a:ext cx="555120" cy="3167280"/>
            </a:xfrm>
            <a:custGeom>
              <a:avLst/>
              <a:gdLst>
                <a:gd name="textAreaLeft" fmla="*/ 0 w 555120"/>
                <a:gd name="textAreaRight" fmla="*/ 555120 w 555120"/>
                <a:gd name="textAreaTop" fmla="*/ 0 h 3167280"/>
                <a:gd name="textAreaBottom" fmla="*/ 3167640 h 3167280"/>
              </a:gdLst>
              <a:ahLst/>
              <a:rect l="textAreaLeft" t="textAreaTop" r="textAreaRight" b="textAreaBottom"/>
              <a:pathLst>
                <a:path w="563673" h="3260577">
                  <a:moveTo>
                    <a:pt x="0" y="0"/>
                  </a:moveTo>
                  <a:lnTo>
                    <a:pt x="0" y="3260495"/>
                  </a:lnTo>
                  <a:lnTo>
                    <a:pt x="564665" y="3260495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олилиния 11"/>
            <p:cNvSpPr/>
            <p:nvPr/>
          </p:nvSpPr>
          <p:spPr>
            <a:xfrm>
              <a:off x="1064160" y="2049840"/>
              <a:ext cx="565920" cy="235620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2356200"/>
                <a:gd name="textAreaBottom" fmla="*/ 2356200 h 2356200"/>
              </a:gdLst>
              <a:ahLst/>
              <a:rect l="textAreaLeft" t="textAreaTop" r="textAreaRight" b="textAreaBottom"/>
              <a:pathLst>
                <a:path w="574788" h="2425590">
                  <a:moveTo>
                    <a:pt x="0" y="0"/>
                  </a:moveTo>
                  <a:lnTo>
                    <a:pt x="0" y="2425109"/>
                  </a:lnTo>
                  <a:lnTo>
                    <a:pt x="575720" y="2425109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илиния 12"/>
            <p:cNvSpPr/>
            <p:nvPr/>
          </p:nvSpPr>
          <p:spPr>
            <a:xfrm>
              <a:off x="1064160" y="2049840"/>
              <a:ext cx="565920" cy="146628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1466280"/>
                <a:gd name="textAreaBottom" fmla="*/ 1466280 h 1466280"/>
              </a:gdLst>
              <a:ahLst/>
              <a:rect l="textAreaLeft" t="textAreaTop" r="textAreaRight" b="textAreaBottom"/>
              <a:pathLst>
                <a:path w="574788" h="1509644">
                  <a:moveTo>
                    <a:pt x="0" y="0"/>
                  </a:moveTo>
                  <a:lnTo>
                    <a:pt x="0" y="1509243"/>
                  </a:lnTo>
                  <a:lnTo>
                    <a:pt x="575720" y="1509243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олилиния 13"/>
            <p:cNvSpPr/>
            <p:nvPr/>
          </p:nvSpPr>
          <p:spPr>
            <a:xfrm>
              <a:off x="1064160" y="2049840"/>
              <a:ext cx="565920" cy="57672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574788" h="593698">
                  <a:moveTo>
                    <a:pt x="0" y="0"/>
                  </a:moveTo>
                  <a:lnTo>
                    <a:pt x="0" y="593377"/>
                  </a:lnTo>
                  <a:lnTo>
                    <a:pt x="575720" y="593377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олилиния 14"/>
            <p:cNvSpPr/>
            <p:nvPr/>
          </p:nvSpPr>
          <p:spPr>
            <a:xfrm>
              <a:off x="2576520" y="1160280"/>
              <a:ext cx="1944000" cy="263520"/>
            </a:xfrm>
            <a:custGeom>
              <a:avLst/>
              <a:gdLst>
                <a:gd name="textAreaLeft" fmla="*/ 0 w 1944000"/>
                <a:gd name="textAreaRight" fmla="*/ 1944360 w 1944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973650" h="271450">
                  <a:moveTo>
                    <a:pt x="1974303" y="0"/>
                  </a:moveTo>
                  <a:lnTo>
                    <a:pt x="1974303" y="135444"/>
                  </a:lnTo>
                  <a:lnTo>
                    <a:pt x="0" y="135444"/>
                  </a:lnTo>
                  <a:lnTo>
                    <a:pt x="0" y="270889"/>
                  </a:lnTo>
                </a:path>
              </a:pathLst>
            </a:custGeom>
            <a:noFill/>
            <a:ln w="25560">
              <a:solidFill>
                <a:srgbClr val="70b7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Полилиния 15"/>
            <p:cNvGrpSpPr/>
            <p:nvPr/>
          </p:nvGrpSpPr>
          <p:grpSpPr>
            <a:xfrm>
              <a:off x="1734840" y="430200"/>
              <a:ext cx="5567040" cy="799200"/>
              <a:chOff x="1734840" y="430200"/>
              <a:chExt cx="5567040" cy="799200"/>
            </a:xfrm>
          </p:grpSpPr>
          <p:pic>
            <p:nvPicPr>
              <p:cNvPr id="130" name="Полилиния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734840" y="430200"/>
                <a:ext cx="5567040" cy="7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793520" y="534240"/>
                <a:ext cx="5454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 u="sng">
                    <a:solidFill>
                      <a:srgbClr val="666699"/>
                    </a:solidFill>
                    <a:uFillTx/>
                    <a:latin typeface="Calibri"/>
                    <a:hlinkClick r:id="rId2" action="ppaction://hlinksldjump"/>
                  </a:rPr>
                  <a:t>Священник - особый персонаж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 u="sng">
                    <a:solidFill>
                      <a:srgbClr val="666699"/>
                    </a:solidFill>
                    <a:uFillTx/>
                    <a:latin typeface="Calibri"/>
                    <a:hlinkClick r:id="rId3" action="ppaction://hlinksldjump"/>
                  </a:rPr>
                  <a:t>(голос автора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Полилиния 16"/>
            <p:cNvGrpSpPr/>
            <p:nvPr/>
          </p:nvGrpSpPr>
          <p:grpSpPr>
            <a:xfrm>
              <a:off x="623880" y="1389240"/>
              <a:ext cx="3897360" cy="734040"/>
              <a:chOff x="623880" y="1389240"/>
              <a:chExt cx="3897360" cy="734040"/>
            </a:xfrm>
          </p:grpSpPr>
          <p:pic>
            <p:nvPicPr>
              <p:cNvPr id="133" name="Полилиния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880" y="1389240"/>
                <a:ext cx="389736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685800" y="1423440"/>
                <a:ext cx="3780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Главные герои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Полилиния 18"/>
            <p:cNvGrpSpPr/>
            <p:nvPr/>
          </p:nvGrpSpPr>
          <p:grpSpPr>
            <a:xfrm>
              <a:off x="1572480" y="2277720"/>
              <a:ext cx="2792520" cy="734040"/>
              <a:chOff x="1572480" y="2277720"/>
              <a:chExt cx="2792520" cy="734040"/>
            </a:xfrm>
          </p:grpSpPr>
          <p:pic>
            <p:nvPicPr>
              <p:cNvPr id="136" name="Полилиния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572480" y="2277720"/>
                <a:ext cx="27925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1630800" y="2313360"/>
                <a:ext cx="267804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Нина Анатольев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9"/>
            <p:cNvGrpSpPr/>
            <p:nvPr/>
          </p:nvGrpSpPr>
          <p:grpSpPr>
            <a:xfrm>
              <a:off x="1572480" y="3165840"/>
              <a:ext cx="2792520" cy="734040"/>
              <a:chOff x="1572480" y="3165840"/>
              <a:chExt cx="2792520" cy="734040"/>
            </a:xfrm>
          </p:grpSpPr>
          <p:pic>
            <p:nvPicPr>
              <p:cNvPr id="139" name="Полилиния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72480" y="3165840"/>
                <a:ext cx="27925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630800" y="3202920"/>
                <a:ext cx="267804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Ни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Полилиния 20"/>
            <p:cNvGrpSpPr/>
            <p:nvPr/>
          </p:nvGrpSpPr>
          <p:grpSpPr>
            <a:xfrm>
              <a:off x="1572480" y="4060080"/>
              <a:ext cx="2792520" cy="728280"/>
              <a:chOff x="1572480" y="4060080"/>
              <a:chExt cx="2792520" cy="728280"/>
            </a:xfrm>
          </p:grpSpPr>
          <p:pic>
            <p:nvPicPr>
              <p:cNvPr id="142" name="Полилиния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72480" y="4060080"/>
                <a:ext cx="2792520" cy="7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630800" y="4092840"/>
                <a:ext cx="267804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Татьяна Станиславов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Полилиния 21"/>
            <p:cNvGrpSpPr/>
            <p:nvPr/>
          </p:nvGrpSpPr>
          <p:grpSpPr>
            <a:xfrm>
              <a:off x="1560600" y="4871520"/>
              <a:ext cx="2792520" cy="728280"/>
              <a:chOff x="1560600" y="4871520"/>
              <a:chExt cx="2792520" cy="728280"/>
            </a:xfrm>
          </p:grpSpPr>
          <p:pic>
            <p:nvPicPr>
              <p:cNvPr id="145" name="Полилиния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1560600" y="4871520"/>
                <a:ext cx="2792520" cy="7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1620000" y="4904640"/>
                <a:ext cx="267804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Миша (Аполлон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22"/>
            <p:cNvGrpSpPr/>
            <p:nvPr/>
          </p:nvGrpSpPr>
          <p:grpSpPr>
            <a:xfrm>
              <a:off x="4671360" y="1389240"/>
              <a:ext cx="3735360" cy="734040"/>
              <a:chOff x="4671360" y="1389240"/>
              <a:chExt cx="3735360" cy="734040"/>
            </a:xfrm>
          </p:grpSpPr>
          <p:pic>
            <p:nvPicPr>
              <p:cNvPr id="148" name="Полилиния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4671360" y="1389240"/>
                <a:ext cx="373536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732920" y="1423440"/>
                <a:ext cx="362268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Второстепенные герои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Полилиния 23"/>
            <p:cNvGrpSpPr/>
            <p:nvPr/>
          </p:nvGrpSpPr>
          <p:grpSpPr>
            <a:xfrm>
              <a:off x="5578200" y="2277720"/>
              <a:ext cx="2870640" cy="734040"/>
              <a:chOff x="5578200" y="2277720"/>
              <a:chExt cx="2870640" cy="734040"/>
            </a:xfrm>
          </p:grpSpPr>
          <p:pic>
            <p:nvPicPr>
              <p:cNvPr id="151" name="Полилиния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78200" y="2277720"/>
                <a:ext cx="287064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5638320" y="2313360"/>
                <a:ext cx="275580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Женщина с ребёнко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Полилиния 24"/>
            <p:cNvGrpSpPr/>
            <p:nvPr/>
          </p:nvGrpSpPr>
          <p:grpSpPr>
            <a:xfrm>
              <a:off x="5578200" y="3165840"/>
              <a:ext cx="2864520" cy="734040"/>
              <a:chOff x="5578200" y="3165840"/>
              <a:chExt cx="2864520" cy="734040"/>
            </a:xfrm>
          </p:grpSpPr>
          <p:pic>
            <p:nvPicPr>
              <p:cNvPr id="154" name="Полилиния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78200" y="3165840"/>
                <a:ext cx="28645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638320" y="3202920"/>
                <a:ext cx="275148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Максим Петрови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25"/>
            <p:cNvGrpSpPr/>
            <p:nvPr/>
          </p:nvGrpSpPr>
          <p:grpSpPr>
            <a:xfrm>
              <a:off x="5578200" y="4060080"/>
              <a:ext cx="2870640" cy="728280"/>
              <a:chOff x="5578200" y="4060080"/>
              <a:chExt cx="2870640" cy="728280"/>
            </a:xfrm>
          </p:grpSpPr>
          <p:pic>
            <p:nvPicPr>
              <p:cNvPr id="157" name="Полилиния 25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78200" y="4060080"/>
                <a:ext cx="2870640" cy="7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638320" y="4092840"/>
                <a:ext cx="275580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Вик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Полилиния 26"/>
            <p:cNvGrpSpPr/>
            <p:nvPr/>
          </p:nvGrpSpPr>
          <p:grpSpPr>
            <a:xfrm>
              <a:off x="5578200" y="4948200"/>
              <a:ext cx="2870640" cy="734040"/>
              <a:chOff x="5578200" y="4948200"/>
              <a:chExt cx="2870640" cy="734040"/>
            </a:xfrm>
          </p:grpSpPr>
          <p:pic>
            <p:nvPicPr>
              <p:cNvPr id="160" name="Полилиния 2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78200" y="4948200"/>
                <a:ext cx="287064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638320" y="4982400"/>
                <a:ext cx="275580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Сосед-инжен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Полилиния 27"/>
            <p:cNvGrpSpPr/>
            <p:nvPr/>
          </p:nvGrpSpPr>
          <p:grpSpPr>
            <a:xfrm>
              <a:off x="5578200" y="5836680"/>
              <a:ext cx="2870640" cy="734040"/>
              <a:chOff x="5578200" y="5836680"/>
              <a:chExt cx="2870640" cy="734040"/>
            </a:xfrm>
          </p:grpSpPr>
          <p:pic>
            <p:nvPicPr>
              <p:cNvPr id="163" name="Полилиния 27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78200" y="5836680"/>
                <a:ext cx="287064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5638320" y="5872320"/>
                <a:ext cx="275580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Баба Наст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2571840" y="401760"/>
            <a:ext cx="63579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Священ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Спаси, Господи, милые попутчики. …возвращаться надо: на четыре дня приход остав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Господи, слава Тебе за тайные и явные милости твои: вот я и в пут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Слава Тебе, явившему мне красоту вселенной. Когда на землю сходит закат, когда воцаряется покой ночного сна и тишина угасающего дня, я вижу Твои черты под образом сияющих палат и облачных сеней зари. Огонь и пурпур, золото и лазурь пророчески говорят о неизреченной красоте Твоих селени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Да, сестра, бесы сии… И эта скорбь на твоем сердце мне понятна и близка. Сатанинское воинство оккупировало Россию. Продали страну, продали веру. И вот поди ж ты, как силен враг человеков. Бесов-коммунистов прогнали, что церкви порушили да монашество и священство истребили, так они перекрасились, шерсть причесали гладенько и вновь между нас позатерлись. Теперь они и церкви строят, и сами со свечками стоят, да только Бога в их…нутрах как не было, так и нет. Уж лучше в лесу Богу молиться и без свечки и иконы, да искренне, чем в храмах – лицемерно, оскверняя. Изощрен враг наш, всегда что-то новое выдумывает для погубления душ. Еще бы: торжество человека, его духа, чистоты и красоты – это торжество Бога на земле. Вот враг и не хочет торжества истинно человеческого в человеке, ловит нас всевозможными способами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Слава Тебе, посылающему нам испытания и скорби, дабы мы были чуткими к страданиям других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ыгнутая вниз стрелка 4"/>
          <p:cNvSpPr/>
          <p:nvPr/>
        </p:nvSpPr>
        <p:spPr>
          <a:xfrm>
            <a:off x="8643960" y="65548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15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6"/>
          <p:cNvSpPr/>
          <p:nvPr/>
        </p:nvSpPr>
        <p:spPr>
          <a:xfrm>
            <a:off x="2500200" y="357120"/>
            <a:ext cx="61437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Да неужто Его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д. БОГА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обязанность – исправлять миллиарды наших глупостей? Особенно когда человек настырно портит себе жизнь, подменяет настоящее эфемерным, виртуальным, как сейчас говорят… Вот ты, сестра, тоже предприниматель. А сколько людей сейчас хотело бы оказаться на твоем месте, то есть быть преуспевающим бизнесменом? Верно, многие тысячи. Они уж точно согласились бы и недельку просидеть стиснутыми в искореженном вагоне, чтобы все остальное время получать такой доход, как т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д.Татьяна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Как бы низко ни пал человек, но в земной жизни у него всегда есть возможность вернуться к Богу, к свету доб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915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2857680" y="320760"/>
            <a:ext cx="60721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НИНА АНАТОЛЬЕВ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-пожилая женщина, дочка билет  на поезд куп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 Полгода уже, как брат умер. Дочка съездила, все оформила на меня. А вещи едут в контейнере. Да и какие у меня вещи? Самое нужное. Дом-то братов не пустой: и мебель, и инструмент, и сараи – все есть. Надо будет курочек завести, огородик садить. Проживу… Сходился три раза, а детей так и не нажил, — начинает объяснять Нина Анатольевна. – Вот так и получилось, что я стала наследницей. Теперь с этажа перееду на землю. Лишь бы Васькина сожительница не устроила скандалу. Никаких прав-то у нее нет на жилье, но, пока дочка не съездила, сидела там хозяй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едалеко от моего дом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храм восстанов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 И название дали – храм Преображения. Ну, и что? Сестра ходит по субботам и воскресеньям и стоит там одна. Она да попадья. Да дети поповские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  <a:ea typeface="Calibri"/>
              </a:rPr>
              <a:t>. Никому она и не нужна, та церков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еня зазывает всякий раз. А я говорю: “А кто ж работать будет?” По выходным я убираюсь. А вдруг внуки придут, дочка с мужем? Приготовить что-то надо. Пусть Бог наказывает лентяев, а меня не за что: я без дела не сижу…пожилым тем более как ходить молиться? Ноги уже больные, выработались. У телевизоров сидят… По праздникам другое дело. На Троицу, на Покров обязательно схожу. А каждое воскресенье стоять там, когда дома куча дел, – это грех. Нельзя бездельнич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168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>
            <a:off x="3000240" y="642960"/>
            <a:ext cx="6143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голодалась я в свое время. После войны. И вот что интересно, ребятки мои, голодали мы здорово, особенно кто поменьше, кто в рост шел и не был работником, а жили дружнее, счастливее. Нас у матери было четверо, еще двоих взяла от погибшего на фронте брата, оставив невестке троих, да еще помогала – где картошечкой, где молочком – сестре, моей тетке, у которой муж погиб на шахте. В сорок восьмом или сорок девятом. Так мы детками друг за дружку держались, в учебе помогали. Приработок кто найдет – все идут на подмог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3000240" y="38577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Обману я ее немножко: оставлю в братовом доме Валю, его вдову, пусть живет. Страшно мне одной в этом поселке: ничего не знаю, никому не нужна… А, пускай живет. Вместе легче будет… двум стару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9"/>
          <p:cNvSpPr/>
          <p:nvPr/>
        </p:nvSpPr>
        <p:spPr>
          <a:xfrm>
            <a:off x="3000240" y="507204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В церковь ходить стану, — возражает старушка. – Церковь-то там, наверное, есть. Где есть люди, должен быть и храм. Вам, молодым, ладно, а мне надо: скоро к 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гнутая вниз стрелка 6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168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tario</cp:lastModifiedBy>
  <dcterms:modified xsi:type="dcterms:W3CDTF">2011-07-12T08:53:57Z</dcterms:modified>
  <cp:revision>107</cp:revision>
  <dc:subject/>
  <dc:title>Слайд 1</dc:title>
</cp:coreProperties>
</file>