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FBD7-39E3-42ED-BC48-7E919428BD55}" type="slidenum"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C6C-A66D-4873-BABB-CDD708EBC98A}" type="slidenum"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FB0-CDC2-487B-A8E6-5760EEF3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4FA-45D4-4119-9FE2-2012B44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DC5-D83A-4410-8BB4-B21B6792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CBF-005F-4302-99D2-A42A4BF1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677-C200-465F-8413-6534827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C6-B0F1-4686-9DFD-807D3E68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05D-B685-4F06-AE4E-F1ABE950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920-56F5-4003-826C-424EA4C8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EF0-297F-4C3A-906D-B3A132C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CCF-103B-41A2-A839-4601241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059-9EB4-4139-95B6-782645D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A05-3DEC-4A67-BD49-88F8B55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339-034A-4C71-A659-1DC9DA39B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133200" y="517680"/>
            <a:ext cx="9169560" cy="1182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42920" y="5857920"/>
            <a:ext cx="90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Выполн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ила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 учени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ца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 10 класса МОУ СОШ № 57 г. Астрахани: Курская Е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гения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Руководитель: Переяслова Наталья Владимировна, учитель математики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11280" y="566280"/>
            <a:ext cx="7678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Copperplate Gothic Bold"/>
              </a:rPr>
              <a:t>Классификация компьютерных игр.</a:t>
            </a:r>
            <a:endParaRPr b="1" i="1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. Аркад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. Стратегии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I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. Головоломки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V. Квест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(англ. Quest - поиск)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V. Компьютерные ролевые игр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9640" y="22860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Исследование началось с проведения  анкетирования. Для этого была составлена анкета из вопросов, требующих простого ответа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55920" y="1774440"/>
            <a:ext cx="7621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нкета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1.Играете ли вы в компьютерные игры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2.Какое время в день вы играете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менее 2 часов б) 3-4 часа в) более 4 часов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3.В какие игры вы предпочитаете играть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головоломки б) стратегии в) квесты г) ролевые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4.Играете ли вы в онлайн игры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5.Какими персонажами вам нравиться играть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люди б) монсты в) сказочные герои г) военные д) всё равно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6.Вы употребляете пищу во время игры за компьютером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7.Ваш возраст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8. Пол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9. Класс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4360" y="1409400"/>
            <a:ext cx="803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Результаты анкетирования, исследований можно представить графически, в виде диаграмм, полигона, гистограмм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о время проведения статистического исследования использовались статистические характеристики: среднее арифметическое, медиана, размах, мода, ранжирование ряда чисе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95280" y="9432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Проводилось анонимное анкетирование, поэтому ответы в большинстве случаев соответствуют действительности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течение недели было опрошено 233 учащихся 5 - 11 классов. Анкеты были обработаны и произведен подсчет ответов. Данные были внесены в таблицы и разбиты по группам для составления графиков. По наиболее интересным данным были составлены столбчатые диаграммы и круговые диаграмм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250920" y="404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Играют в компьютерные игр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70" name="Диаграмма 3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1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img23057"/>
          <p:cNvPicPr/>
          <p:nvPr/>
        </p:nvPicPr>
        <p:blipFill>
          <a:blip r:embed="rId1"/>
          <a:stretch/>
        </p:blipFill>
        <p:spPr>
          <a:xfrm>
            <a:off x="1116000" y="1484280"/>
            <a:ext cx="695340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31080" y="475200"/>
            <a:ext cx="77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Сравнительный анализ в процентах по класса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216000" y="2847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cc"/>
                </a:solidFill>
                <a:latin typeface="Copperplate Gothic Bold"/>
              </a:rPr>
              <a:t>Сколько времени проводят за играми в день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1258920" y="1214280"/>
            <a:ext cx="7099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04885"/>
          <p:cNvPicPr/>
          <p:nvPr/>
        </p:nvPicPr>
        <p:blipFill>
          <a:blip r:embed="rId1"/>
          <a:stretch/>
        </p:blipFill>
        <p:spPr>
          <a:xfrm>
            <a:off x="1763640" y="1989000"/>
            <a:ext cx="5832720" cy="3400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042920" y="3319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Сравнительный анализ времени потраченного на игру в день по параллеля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img17787"/>
          <p:cNvPicPr/>
          <p:nvPr/>
        </p:nvPicPr>
        <p:blipFill>
          <a:blip r:embed="rId1"/>
          <a:stretch/>
        </p:blipFill>
        <p:spPr>
          <a:xfrm>
            <a:off x="1476360" y="1566720"/>
            <a:ext cx="6335640" cy="379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50920" y="2592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В какие игры играют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mg20234"/>
          <p:cNvPicPr/>
          <p:nvPr/>
        </p:nvPicPr>
        <p:blipFill>
          <a:blip r:embed="rId1"/>
          <a:stretch/>
        </p:blipFill>
        <p:spPr>
          <a:xfrm>
            <a:off x="1763640" y="2060640"/>
            <a:ext cx="5505480" cy="3209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003680" y="403560"/>
            <a:ext cx="73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Какими персонажами предпочитают играть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14200" y="30636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современном обществе существует много проблем – это алкогольная зависимость, наркотическая зависимость, к этому же ряду можно отнести и компьютерную зависимость. Игра завлекает человека настолько сильно, что он не живёт в реальном мире, и часто путает мир игры с окружающим миром. Такой человек перестаёт работать приносить пользу обществу, замыкается,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очень редко выходит из дома. Современной России нужны полноценные здоровые люди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Диаграмма 1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524640" cy="408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720520" y="47520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Играют в онлайн игр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Диаграмма 1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71508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476360" y="47520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Употребляете ли Вы пищу за игрой?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24000" y="47052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                              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Заключение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Анализ анкетирования показывает, что учащиеся нашей школы большое количество времени проводят, играя за компьютером. Сравнение по параллелям даёт результат о том, что учащиеся 5 – 8 классов более увлечены компьютерными играми. Но по результатам устного опроса можно сделать вывод, что связано это не с тем, что учащиеся старшего звена понимают вред от долгого просиживания за компьютером, а с тем, что они меньшее количество времени проводят дома, у них больше уроков и факультативных занятий по подготовке к экзамена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500x_istock_aggressive_boy_playing_video_games"/>
          <p:cNvPicPr/>
          <p:nvPr/>
        </p:nvPicPr>
        <p:blipFill>
          <a:blip r:embed="rId1"/>
          <a:stretch/>
        </p:blipFill>
        <p:spPr>
          <a:xfrm>
            <a:off x="3643200" y="2000160"/>
            <a:ext cx="684216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250920" y="5605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Учащихся, у которых игра в день занимает более 4 час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40 человек можно отнести к группе риска. Эти ребята рискуют попасть в полную зависимость от игры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79280" y="2205000"/>
            <a:ext cx="49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Проведённые беседы с классными руководителями данных учащихся, а также со школьным психологом показывают, что у этих учеников наблюдаются резкие перепады в настроении, они более рассеяны, чем другие учащиеся, снижается успеваемость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kid_on_computer"/>
          <p:cNvPicPr/>
          <p:nvPr/>
        </p:nvPicPr>
        <p:blipFill>
          <a:blip r:embed="rId1"/>
          <a:stretch/>
        </p:blipFill>
        <p:spPr>
          <a:xfrm>
            <a:off x="5643720" y="2689200"/>
            <a:ext cx="3500280" cy="2360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57120" y="514800"/>
            <a:ext cx="805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Школьный врач утверждает, что за последние три года количество детей, у которых наблюдается спазм аккомодации и общее ухудшение зрения, повысился в 2,5 раза. Увеличилось количество детей страдающих нарушениями осанки и заболеваниями желудочно-кишечного тракта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Можно сделать вывод о том, что проводя в день более 2 часов за компьютером, учащиеся нашей школы наносят своему здоровью не поправимый вред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24000" y="50220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послеобеденное время в нашей школе работают тридцать творческих объединений, из которых 10 спортивных секций. Здесь каждый учащийся может найти занятия по своему вкусу, используя своё свободное время с пользой. Мы рекомендовали всем учащимся посещать занятия в творческих объединениях для дополнительного развития и образования. А также нами были даны рекомендации о том, что компьютер может использоваться с пользой для посещений интернет – библиотек, музеев; подготовки к экзаменам и урокам; участия в онлайн олимпиадах и конкурсах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Не стоит всё своё свободное время проводить в игровом компьютерном мире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42920" y="100800"/>
            <a:ext cx="9001080" cy="71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Copperplate Gothic Bold"/>
              </a:rPr>
              <a:t>ЛИТЕРАТУРА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. Большев Л.Н., Смирнов Н.В. Таблицы математической статистики.- М.: Наука,1983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2. Боровков А.А. Математическая статистика.- М.: Наука, 1984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3. Бочаров П.П., Печинкин А.В. Теория вероятностей . Математическая статистика – М:ФИЗМАТЛИТ, 2005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4. Ватутин В.А. Теория вероятностей и математическая статистика в задачах – М: Дрофа, 2003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5. Е.А. Буминович, В.А. Булычев «Вероятность и статистика в курсе математики общеобразовательной школы»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6. Козлов М.В., Прохоров А.В. Введение в математическую статистику.- М.: Изд-во МГУ, 1987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7. Крамер Г. Математические методы статистики.- М.: Мир, 1975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8. Мордкович А.Г., Семенов П.В. «События. Вероятности. Статистическая обработка данных.»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9. Симонович С.В., Евсеев Г.А. Занимательный компьютер. Книга для детей, учителей и родителей. – М.: АСТ-ПРЕСС КНИГА, Инфорком-Пресс, 2002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0. Чистяков В.П. Курс теории вероятностей.- М.: Наука, 1982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1. Ширяев А.Н. Вероятность.- М.: Наука, 1980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2. Картинки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gamenapsp.altervista.org/skachat-igru-moya-loshadka/skachat-igru-king-lion.html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mercatos.ru/ads/opisanie-obyavleniya-«secret-disk-serverng»_107215.html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focus.ua/kiev/108483/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news.vdv-s.ru/children/?news=39059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qpig.ru/showTov.asp?Cat_Id=988134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755640" y="1125360"/>
            <a:ext cx="727236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имание!!!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13" descr="E:\Мои рисунки\АНИМАЦИИ\смайлики\smail63.gif"/>
          <p:cNvPicPr/>
          <p:nvPr/>
        </p:nvPicPr>
        <p:blipFill>
          <a:blip r:embed="rId1"/>
          <a:stretch/>
        </p:blipFill>
        <p:spPr>
          <a:xfrm>
            <a:off x="3492360" y="4508640"/>
            <a:ext cx="2240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SCN2691"/>
          <p:cNvPicPr/>
          <p:nvPr/>
        </p:nvPicPr>
        <p:blipFill>
          <a:blip r:embed="rId1"/>
          <a:stretch/>
        </p:blipFill>
        <p:spPr>
          <a:xfrm>
            <a:off x="1857240" y="2786040"/>
            <a:ext cx="5141880" cy="385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12780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Разговаривая с одноклассниками и учениками нашей школы, мы заметили, что многие из них играют в игры, и решили провести исследование. Выяснить какое место в их жизни занимают компьютерные игры. Было спланировано исследование среди учащихся 5 – 11 классов по вопросу компьютерной зависимости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08483"/>
          <p:cNvPicPr/>
          <p:nvPr/>
        </p:nvPicPr>
        <p:blipFill>
          <a:blip r:embed="rId1"/>
          <a:stretch/>
        </p:blipFill>
        <p:spPr>
          <a:xfrm>
            <a:off x="1000080" y="1714680"/>
            <a:ext cx="7394760" cy="4786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000080" y="33768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На наш взгляд обычные компьютерные игры грозят не меньшей опасностью, особенно для юного населения нашей стран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68360" y="496800"/>
            <a:ext cx="796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Объект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статистика как метод исследования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Предмет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использование статистических методов для изучения компьютерной зависимости учащихся школ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Цель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выявить с помощью статистических методов, какое количество времени дети играют в компьютерные игры, с чем это связано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Гипотеза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 компьютерные игры  занимают большое количество времени в жизни учащихся нашей школ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42920" y="11592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Arial"/>
              </a:rPr>
              <a:t>Задачи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: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изучить историю и методы статистики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равнить отношение к компьютерным играм учащихся различного возраста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ыявить проблемы со здоровьем, являющиеся следствием увлечения компьютерными играми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изучить целесообразность привлечения школьников для занятий в творческих объединениях и спортивных секциях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57" name="Picture 4" descr="D:\НАТАША\ВНЕКЛАССНАЯ РАБОТА ПО МАТЕМАТИКЕ\ШКОЛЬНЫЕ КОНФЕРЕНЦИИ\конференция 2011\1.jpg"/>
          <p:cNvPicPr/>
          <p:nvPr/>
        </p:nvPicPr>
        <p:blipFill>
          <a:blip r:embed="rId1"/>
          <a:stretch/>
        </p:blipFill>
        <p:spPr>
          <a:xfrm>
            <a:off x="2071800" y="3429000"/>
            <a:ext cx="4981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42920" y="264240"/>
            <a:ext cx="90010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В ходе проведения исследования использовались следующие 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методы: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анализ литературы и интернет источников, анкетирование учащихся, статистический опрос, статистическая обработка полученных данных, анализ, сравнение и обобщение полученных результатов, беседы со школьным психологом и врачом.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Новизна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Arial"/>
              </a:rPr>
              <a:t> 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работы и её практическая ценность</a:t>
            </a:r>
            <a:r>
              <a:rPr b="1" i="1" lang="ru-RU" sz="2300" spc="-1" strike="noStrike">
                <a:solidFill>
                  <a:srgbClr val="9933ff"/>
                </a:solidFill>
                <a:latin typeface="Copperplate Gothic Bold"/>
              </a:rPr>
              <a:t>.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Показано использование статистики для выявления отношения учащихся к компьютерным играм в МОУ СОШ № 57 г. Астрахани. 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Данную работу можно использовать в методической работе учителей математики при обучении статистике в качестве примера статистического исследования и примеров графического представления результатов исследования, а также руководителей творческих объединений с целью привлечения учащихся к дополнительным занятиям во внеурочное время. 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14200" y="-65520"/>
            <a:ext cx="8715600" cy="619236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pperplate Gothic Bold"/>
              </a:rPr>
              <a:t>Этапы работы: 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1) Анализ литературы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2) Проведение анкетирования среди учащихся 5 - 11 классов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3) Обработка полученных данных, построение графиков и диаграмм с использованием компьютерной программы MS Excel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4) Анализ, обобщение и сравнение полученных результатов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5) Защита работы на школьной научно-практической конференции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6) 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 Всероссийской конферен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рганизация исследовательской деятельности в образовательных учреждениях», в рамках программы «Учёные детям»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ской научно-практической конференции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ых исследователей «Старт в науку»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 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рытой научно-практической конференции Малой Академии Наук ОАОУ ДОД ОЦРТДЮ «Профи +» (Лауреат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епени)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24000" y="1557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далеком шестьдесят первом году двадцатого века в Массачусетском Технологическом институте родилась компьютерная игра под названием SpaceWar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00000" y="620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Copperplate Gothic Bold"/>
              </a:rPr>
              <a:t>Возникновение компьютерных игр.</a:t>
            </a:r>
            <a:endParaRPr b="1" i="1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3213000"/>
            <a:ext cx="849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ть игры-прародительницы была весьма проста: два небольших кораблика летали по экрану и стреляли друг в друга снарядами. Так что первый в мире жанр – это, безуслов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ка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24000" y="501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 название «аркада»  происходит от архитектурной детали, эдакого крытого коридорчика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4:52:41Z</dcterms:created>
  <dc:creator>в</dc:creator>
  <dc:description/>
  <dc:language>en-US</dc:language>
  <cp:lastModifiedBy>Admin</cp:lastModifiedBy>
  <dcterms:modified xsi:type="dcterms:W3CDTF">2011-07-17T08:03:01Z</dcterms:modified>
  <cp:revision>50</cp:revision>
  <dc:subject/>
  <dc:title>Слайд 1</dc:title>
</cp:coreProperties>
</file>