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0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8b7bf"/>
                </a:solidFill>
                <a:latin typeface="Georgia"/>
              </a:rPr>
              <a:t>Click to move the slide</a:t>
            </a: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D848A-38BA-430F-BE6E-964BA6FC598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24EFC-064A-4FCC-ACC6-675BC715F30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7A737-1B57-4659-BCDE-97BFF38289F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AEA90-306C-429D-ADA1-7A6E127B816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35A97-DDCD-4E0B-BAD7-7FB3C155AF1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3CF10-58DB-4782-ADC8-1BE69E418F9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D16F7-6823-4C09-AE31-0BC0EAE9998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CB982-48D4-4C3E-A13A-A6ED09AB29B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43CA2-F712-4C26-B471-C2A2F25B2EE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C6CF2-C5FD-489B-89D6-E5EF963DA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6D48C-2CCA-4B02-973F-DFA4EDD36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248D4CE-27CE-43C4-BF01-28A98CC98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C2D4AFF-F17C-42E9-A980-AE51D6BC7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AC4C67F-F810-4383-B3F3-A2CE4AF0B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BDF4ACF-405E-40F7-BFCD-F697B122C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85B2062-19E8-4660-AD58-512751DF6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D6C2397-C734-4121-BC13-8BB87F2F2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AB02914-F710-40B2-A30C-6CCD245DE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B3398E0-8B27-42D2-BA4E-124D7AD3C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0941F82-1C4F-42AF-8675-5552EF92C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13CFF4E-B4CB-4F41-9937-B40947A03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51E28-4BA5-4056-ACCF-6C849A443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13C3ADD-6BC8-4098-9D81-7E67948E4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BEB5697-7118-486F-A9A6-69FCE7664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B5B754B-1978-43A0-8340-58090DF52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B2D1B39-DBE7-4E7A-BC6C-57EDEBE7D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856C04B-1B48-4E64-BE42-34CDD3217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5834E4C-5919-4654-B696-1E6076C11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5886F60-1070-4617-B219-5597963DC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6A11DEA-313F-4AC0-BD02-8AA53E97B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D31245A-DB57-4216-A12A-5C4C77C73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6D34F7A-9076-4AF8-883A-1709D2343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9CF84-D489-496D-BEB8-CF67987CF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FF52616-F4BA-4B65-9699-770983758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6ABDDD-3FEB-4AD5-BC6D-32A2EF503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56ABB8-B4EC-428A-8BDF-0C150B4FD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3EBB3B-79EF-4E36-BB23-931C137C1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666D72-B92E-4D33-B8AE-959402B15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AA301A-7677-4879-8F6B-5ACD7463D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8C6728-0F28-48AA-B897-A84B23072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E160CD-62F3-478F-AC5E-C9D6EF1D2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E20E03-7257-47F1-925B-EBCF011ED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DF45FE-B9B0-434F-B20D-AA12E14A0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E585D-1B8F-4CD0-9BEC-C419499D4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03D7F1-A774-4EB5-995E-204137B4E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2C8FC2-E901-4021-9226-4BD79A157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0EFFE7-CC99-44B1-AED1-7C68A7679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E2EEA51-139E-4490-8AB1-03855C0AE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D6F342C-014A-41DD-9C6D-D75DEE586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7D591FA-33C7-4FD6-B49A-B0216B44B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D816B2C-A6B4-41BE-852E-F6AA58887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970CA38-7A79-4A7F-968F-B2629C7BB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5118DF5-7062-406C-A028-0244F269F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2ABC8D0-873D-4F49-B89C-B9880163A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53ECF-31F1-454E-A755-CF444C3F3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898337B-A7B8-4233-86D6-99581586C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6049978-203F-41D6-A90C-6A757B713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218C263-2CB6-42BB-A1E1-00165ABCC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B880E42-8903-4BC4-95BB-BDB3F4069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01C66C2-4D60-4378-A87F-BDF62BEAC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0014F-8E15-4ACB-95DB-6F43AF188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E6E70-DC1E-4602-BABA-20067CC15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30763-B675-4D12-8237-E5FBD7F8D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67F9F-B6E4-48E8-AE95-600413EEB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C73A6-52E4-4D20-A681-5D5E5C234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1B82C-72E9-49F3-8708-E7F510705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BE220-B562-40A8-B127-41E07C42C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B22B5-E93D-4BF4-9D88-205932037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8BFA5-AC1E-4A75-9933-3AC1FF1E1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D60FC-E9AC-4787-A3EC-60607378C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BB1E5-DB8F-41BA-90E9-F3039060A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B3B218-4829-44FF-8249-A36519DE3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F798AF-5267-4A3B-9050-E37650539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964A83-9050-4257-943D-C4DEFC5D4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58F122-BA95-4AD9-B4F0-73EBE7246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A94DE4-E366-4275-AA85-B6BB71ED9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FC74D-6B72-4038-9240-C540586B0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B1F0A4-DE60-4B9E-811B-753053F3F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741223-14B6-4919-A53C-DBCC75216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58A5B9-7EBB-4BE5-BDF5-AE85E06CB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CF303D-70BB-4B96-B318-85DD90664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4F9FC2-7047-4AB9-B99B-5554D2C96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FF154B-F44D-4C30-BF68-6453B26AA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27F305-B66D-4485-BD6D-4972CEA2A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0D9FF4-1CC6-49A7-8DF0-848468E1F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80E50D-A71D-491F-852D-2C0AE4854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D39B4B-14C5-41AB-A8BA-197206029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806BD-C327-40DE-8CF6-D8D9E0CE1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B6C7E5-FBEB-4519-A551-61A910AD9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54531B-DA0D-4086-8373-7404513B8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4AFAF5-2082-43C7-B5E3-FD7BF6623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F21B48-B226-4283-A1A4-58597F11D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4F4B39-F1E4-4FB9-99C0-92D31144C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A11AC6-F821-4DCB-91F6-D150F0CDF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EC3D36-6C55-451A-80DA-5E16C5AFF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A3F277-34B5-4947-89CD-A58AC2973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ECB654-DA1B-4F6D-8C13-0BA2B721F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6BA0D5-6696-4FEE-A006-F27555579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1A7E1-BCDB-492F-9E4C-BC0F9B9E3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6EB2E0-9945-48F6-82B3-95AD21E75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AF14CA-75C7-4BF5-91C7-B03BA8282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FB5CB6-0135-43CC-B107-2E68BBFD0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6CC6AA-9047-471F-BDBA-D4700E56D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090329-ACA8-4947-8C8B-2B1020C67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843433-A33A-48CB-8B2D-D223ADC59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C40B03-DFCC-48B2-BB07-9702D173B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8CD057-14B7-4EB2-86D3-0744136BD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835E35-F566-4A23-809B-522890A20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00E2A0-DAB0-45D9-B096-F4885AC32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C865A-14C7-4C4A-999B-C6C89C35C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CCBD69-1DBF-4F83-92F3-359B3CEB1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D52FB6-0B7F-493B-A152-0D3796BC9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365AC7-E6F1-4621-9AC1-D1C700DF6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7AD645-84AF-4C3C-8B12-5A72CACD5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55B00B-81C4-4476-8C5D-F040CA0B3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85F22C-76D0-4050-8A66-110693FC2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E0C92F-83D3-4612-A7DF-49935AF3D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0E79DC-A7C3-4E34-8490-9375A474D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7B156F-1F8E-481D-913C-05DD9A13B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D75C53-5100-4F16-AC91-142EE45EE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A5E86-79FE-42FC-A435-4BB84E5E0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7C585D-0C48-4FD4-A998-2AB2DCEBD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87BDC0-8586-4D21-A884-9428CC331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96C7E4-3115-4697-8247-69C4ED667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F1293B-5E60-4D5D-ADFB-22C442D09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E46A24-7AE6-4C02-AA30-A8AD0645C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6B3A05-E882-4EB5-B515-DD8C6D0A0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610169-CF46-4811-919D-F1236D8B9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20B187-31ED-4C60-BC32-8FE11EED5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1D1E88-61C2-435B-B6C3-901F5DD09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3B2C17-96E2-43D5-B20A-587465407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57797-FA65-497E-810C-D86804E0A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DEFF61-948D-4A72-ACD3-6D219296C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5F2445-4942-43BD-96F7-3D1FF4795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2F7EB5-662F-42EA-AD83-8887DB8B1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9DAAF1-835F-4618-9719-C8EF904E5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FD537D-85F6-466B-BCC5-1DE74D816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370F38-7283-4109-B66E-CD397415E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458F73-2692-448A-B13D-888770C7F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3FC63E-2535-4B19-93EB-0BE753213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805F71-CE3D-4316-884F-159FE9F77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6BAD5B-B3A2-489A-854C-E32E0C22F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651F9-F223-4379-9AFB-BD2D5C74F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5DDD77-5A28-4F64-BF19-8BD1ECB71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456799-F050-4EFD-956E-0421ABF16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B6661C-CA71-45CC-B66D-45FEEB977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7C8967-A546-4AAC-A064-61432A0ED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487863-72E7-41CC-94B8-3D9DC2517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CB3A7D-DD12-40B8-A0A9-EEEC2AE5C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AA05D9-1B23-4162-8D84-3ACE15026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B513E2A-EE34-49E2-9B17-675E7A55D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4A13210-FA3A-407F-9AEE-001F3B1BD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C8FCDDF-F54D-4BF9-B085-8314ABC57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08b7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8b7b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8B18A-204D-4F89-A90D-B1F98641CDE6}" type="slidenum">
              <a:rPr b="0" lang="en-US" sz="1600" spc="-1" strike="noStrike">
                <a:solidFill>
                  <a:srgbClr val="08b7b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8b7bf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009dd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0bd0d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10cf9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7cca62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Прямая соединительная линия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08b7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Прямоугольник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Прямоугольник 25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Прямоугольник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Прямоугольник 2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Овал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Овал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Прямоугольник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8b7bf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009dd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0bd0d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10cf9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7cca62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8b7b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5896D-2645-48FE-AF57-B1E91CAB258E}" type="slidenum">
              <a:rPr b="0" lang="en-US" sz="1600" spc="-1" strike="noStrike">
                <a:solidFill>
                  <a:srgbClr val="08b7b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08b7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8b7bf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009dd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0bd0d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10cf9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7cca62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8b7b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E2FCD-DD45-40A1-97E0-CE2E03B9A882}" type="slidenum">
              <a:rPr b="0" lang="en-US" sz="1600" spc="-1" strike="noStrike">
                <a:solidFill>
                  <a:srgbClr val="08b7b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Прямоугольник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Прямоугольник 21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Прямоугольник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Прямоугольник 25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Прямая соединительная линия 26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08b7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Овал 27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Овал 28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8b7bf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009dd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0bd0d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10cf9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7cca62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8b7b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9B120-77A6-499D-9157-3BF946A1458E}" type="slidenum">
              <a:rPr b="0" lang="en-US" sz="1600" spc="-1" strike="noStrike">
                <a:solidFill>
                  <a:srgbClr val="08b7b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21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23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5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08b7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Овал 27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8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8b7bf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009dd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0bd0d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10cf9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7cca62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8b7b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0D11E-427F-4F78-9AD8-EB4386FD2622}" type="slidenum">
              <a:rPr b="0" lang="en-US" sz="1600" spc="-1" strike="noStrike">
                <a:solidFill>
                  <a:srgbClr val="08b7b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08b7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8b7bf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009dd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0bd0d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10cf9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7cca62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8b7b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B2951-49D1-42EB-956F-2D24E964C381}" type="slidenum">
              <a:rPr b="0" lang="en-US" sz="1600" spc="-1" strike="noStrike">
                <a:solidFill>
                  <a:srgbClr val="08b7b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21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23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24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оугольник 25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оугольник 26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оугольник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8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08b7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Овал 29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Овал 30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8b7bf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009dd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0bd0d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10cf9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7cca62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8b7b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E7F1B-8DAF-4DC8-86A9-7BC1567B5C7F}" type="slidenum">
              <a:rPr b="0" lang="en-US" sz="1600" spc="-1" strike="noStrike">
                <a:solidFill>
                  <a:srgbClr val="08b7b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08b7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ая соединительная линия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04617b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8b7bf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009dd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0bd0d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10cf9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7cca62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8b7b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8155E-1A77-4335-8935-1CFADB7769AD}" type="slidenum">
              <a:rPr b="0" lang="en-US" sz="1600" spc="-1" strike="noStrike">
                <a:solidFill>
                  <a:srgbClr val="08b7b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Прямая соединительная линия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04617b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Прямоугольник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Прямоугольник 21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оугольник 24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оугольник 25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26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27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08b7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Прямоугольник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Овал 29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Овал 30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8b7bf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009dd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0bd0d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10cf9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7cca62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8b7b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B83D9-471D-463A-A794-FF2765C5C95F}" type="slidenum">
              <a:rPr b="0" lang="en-US" sz="1600" spc="-1" strike="noStrike">
                <a:solidFill>
                  <a:srgbClr val="08b7b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08b7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8b7bf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009dd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0bd0d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10cf9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7cca62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8b7b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2DD6E-FFD3-4C78-96DD-D47327742A08}" type="slidenum">
              <a:rPr b="0" lang="en-US" sz="1600" spc="-1" strike="noStrike">
                <a:solidFill>
                  <a:srgbClr val="08b7b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Прямоугольник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Прямоугольник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Прямоугольник 25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8b7bf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009dd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0bd0d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10cf9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7cca62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6C85F-27B9-4A0E-B416-94DF5E84C352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Прямоугольник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Прямоугольник 23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Прямоугольник 25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Прямоугольник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Прямая соединительная линия 27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08b7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Овал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Овал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Прямоугольник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8b7bf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009dd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0bd0d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10cf9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7cca62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8b7b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279D0-0CAB-4DF8-ADEF-7BB0678E4B80}" type="slidenum">
              <a:rPr b="0" lang="en-US" sz="1600" spc="-1" strike="noStrike">
                <a:solidFill>
                  <a:srgbClr val="08b7b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rubtsov.id.ru/photo/p25.htm" TargetMode="External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42920" y="142920"/>
            <a:ext cx="8858160" cy="5286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f6fc6"/>
                </a:solidFill>
                <a:latin typeface="Georgia"/>
              </a:rPr>
              <a:t>Использование технологии критического мышления на уроках русского языка и литературы</a:t>
            </a:r>
            <a:br>
              <a:rPr sz="3500"/>
            </a:br>
            <a:br>
              <a:rPr sz="3500"/>
            </a:br>
            <a:br>
              <a:rPr sz="3500"/>
            </a:br>
            <a:br>
              <a:rPr sz="3500"/>
            </a:br>
            <a:r>
              <a:rPr b="1" lang="en-US" sz="3500" spc="-1" strike="noStrike">
                <a:solidFill>
                  <a:srgbClr val="0f6fc6"/>
                </a:solidFill>
                <a:latin typeface="Georgia"/>
              </a:rPr>
              <a:t>(из опыта работы учителя гимназии № 505 Кологрив Елены Владимировны)</a:t>
            </a:r>
            <a:endParaRPr b="0" lang="en-US" sz="3500" spc="-1" strike="noStrike">
              <a:solidFill>
                <a:srgbClr val="08b7b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8b7bf"/>
                </a:solidFill>
                <a:uFillTx/>
                <a:latin typeface="Georgia"/>
              </a:rPr>
              <a:t>Прием</a:t>
            </a:r>
            <a:br>
              <a:rPr sz="3200"/>
            </a:br>
            <a:r>
              <a:rPr b="1" lang="en-US" sz="3200" spc="-1" strike="noStrike" u="sng">
                <a:solidFill>
                  <a:srgbClr val="08b7bf"/>
                </a:solidFill>
                <a:uFillTx/>
                <a:latin typeface="Georgia"/>
              </a:rPr>
              <a:t>«Знаю – хочу узнать - узнал».</a:t>
            </a:r>
            <a:endParaRPr b="0" lang="en-US" sz="3200" spc="-1" strike="noStrike">
              <a:solidFill>
                <a:srgbClr val="08b7bf"/>
              </a:solidFill>
              <a:latin typeface="Georgia"/>
            </a:endParaRPr>
          </a:p>
        </p:txBody>
      </p:sp>
      <p:graphicFrame>
        <p:nvGraphicFramePr>
          <p:cNvPr id="633" name=""/>
          <p:cNvGraphicFramePr/>
          <p:nvPr/>
        </p:nvGraphicFramePr>
        <p:xfrm>
          <a:off x="1214280" y="2357280"/>
          <a:ext cx="6562800" cy="3251520"/>
        </p:xfrm>
        <a:graphic>
          <a:graphicData uri="http://schemas.openxmlformats.org/drawingml/2006/table">
            <a:tbl>
              <a:tblPr/>
              <a:tblGrid>
                <a:gridCol w="2187720"/>
                <a:gridCol w="2187720"/>
                <a:gridCol w="2187360"/>
              </a:tblGrid>
              <a:tr h="1694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Знаю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вызов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Хочу узна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вызов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Узна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реализация смысла или рефлексия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аботаю в паре: что я знаю о теме урока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тавлю цел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Что я знал, а что узнал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4" name="Picture 2" descr=""/>
          <p:cNvPicPr/>
          <p:nvPr/>
        </p:nvPicPr>
        <p:blipFill>
          <a:blip r:embed="rId1"/>
          <a:stretch/>
        </p:blipFill>
        <p:spPr>
          <a:xfrm>
            <a:off x="4943520" y="1380960"/>
            <a:ext cx="4200480" cy="5477040"/>
          </a:xfrm>
          <a:prstGeom prst="rect">
            <a:avLst/>
          </a:prstGeom>
          <a:ln w="0">
            <a:noFill/>
          </a:ln>
        </p:spPr>
      </p:pic>
      <p:sp>
        <p:nvSpPr>
          <p:cNvPr id="635" name="Rectangle 2"/>
          <p:cNvSpPr/>
          <p:nvPr/>
        </p:nvSpPr>
        <p:spPr>
          <a:xfrm>
            <a:off x="642960" y="642960"/>
            <a:ext cx="77724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Georgia"/>
              </a:rPr>
              <a:t>«ДЕРЕВО ПРЕДСКАЗАНИЙ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Rectangle 3"/>
          <p:cNvSpPr/>
          <p:nvPr/>
        </p:nvSpPr>
        <p:spPr>
          <a:xfrm>
            <a:off x="142920" y="2143080"/>
            <a:ext cx="7986600" cy="47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«Листочки» - это </a:t>
            </a: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ПРОГНО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«Веточки» - эт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АРГУМЕНТЫ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, обоснования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Сама </a:t>
            </a: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ТЕМА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- это «ствол дерев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прогнозо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Rectangle 3"/>
          <p:cNvSpPr/>
          <p:nvPr/>
        </p:nvSpPr>
        <p:spPr>
          <a:xfrm>
            <a:off x="285840" y="311400"/>
            <a:ext cx="8858160" cy="55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Третья стадия урока – рефлексия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Здесь основным являетс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- целостное осмысление, обобщение полученной информации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- присвоение нового знания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- формирование у каждого ученика собственного отношения к изучаемому материалу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53416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8b7bf"/>
                </a:solidFill>
                <a:latin typeface="Georgia"/>
              </a:rPr>
              <a:t>План лингвистического сочинения</a:t>
            </a:r>
            <a:br>
              <a:rPr sz="2900"/>
            </a:br>
            <a:r>
              <a:rPr b="0" lang="en-US" sz="2900" spc="-1" strike="noStrike">
                <a:solidFill>
                  <a:srgbClr val="08b7bf"/>
                </a:solidFill>
                <a:latin typeface="Arial"/>
              </a:rPr>
              <a:t>«Какова роль вводных слов?»</a:t>
            </a:r>
            <a:endParaRPr b="0" lang="en-US" sz="29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639" name=""/>
          <p:cNvSpPr/>
          <p:nvPr/>
        </p:nvSpPr>
        <p:spPr>
          <a:xfrm>
            <a:off x="500040" y="1785960"/>
            <a:ext cx="4071960" cy="906480"/>
          </a:xfrm>
          <a:prstGeom prst="rect">
            <a:avLst/>
          </a:prstGeom>
          <a:solidFill>
            <a:srgbClr val="e7f0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Georgia"/>
                <a:ea typeface="Arial"/>
              </a:rPr>
              <a:t>Вступление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4572000" y="1785960"/>
            <a:ext cx="4071960" cy="906480"/>
          </a:xfrm>
          <a:prstGeom prst="rect">
            <a:avLst/>
          </a:prstGeom>
          <a:solidFill>
            <a:srgbClr val="e7f0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Часто ли мы употребляем вводные слова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Какие они интересные, эти вводные слова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500040" y="2692440"/>
            <a:ext cx="4071960" cy="906480"/>
          </a:xfrm>
          <a:prstGeom prst="rect">
            <a:avLst/>
          </a:prstGeom>
          <a:solidFill>
            <a:srgbClr val="cbdf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  <a:ea typeface="Arial"/>
              </a:rPr>
              <a:t>Тези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4572000" y="2708280"/>
            <a:ext cx="4071960" cy="906480"/>
          </a:xfrm>
          <a:prstGeom prst="rect">
            <a:avLst/>
          </a:prstGeom>
          <a:solidFill>
            <a:srgbClr val="cbdf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Вводные слова играют огромную роль в речи   человек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500040" y="3598920"/>
            <a:ext cx="4071960" cy="1565280"/>
          </a:xfrm>
          <a:prstGeom prst="rect">
            <a:avLst/>
          </a:prstGeom>
          <a:solidFill>
            <a:srgbClr val="e7f0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  <a:ea typeface="Arial"/>
              </a:rPr>
              <a:t>Аргументы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4572000" y="3357720"/>
            <a:ext cx="4071960" cy="2016000"/>
          </a:xfrm>
          <a:prstGeom prst="rect">
            <a:avLst/>
          </a:prstGeom>
          <a:solidFill>
            <a:srgbClr val="e7f0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eorgia"/>
                <a:ea typeface="Arial"/>
              </a:rPr>
              <a:t>1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Онидают возможность собраться с мыслями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.Делают речь логичной, последовательной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3.Показывают отношение к тому, о чем говорят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4.Передают источник информации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5.Выручить человека в трудной ситуации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6.Передать радость, огорч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500040" y="5164200"/>
            <a:ext cx="4071960" cy="906480"/>
          </a:xfrm>
          <a:prstGeom prst="rect">
            <a:avLst/>
          </a:prstGeom>
          <a:solidFill>
            <a:srgbClr val="cbdf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  <a:ea typeface="Arial"/>
              </a:rPr>
              <a:t>вывод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4572000" y="5157720"/>
            <a:ext cx="4071960" cy="906480"/>
          </a:xfrm>
          <a:prstGeom prst="rect">
            <a:avLst/>
          </a:prstGeom>
          <a:solidFill>
            <a:srgbClr val="cbdf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Вводные слова помогают точнее разобраться в написанном, прочитать текст с нужной интонацией. Помогают пишущему более точно передать свои мысли и чувства, сделать высказывание более выразительны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4572000" y="1785960"/>
            <a:ext cx="0" cy="4284720"/>
          </a:xfrm>
          <a:prstGeom prst="line">
            <a:avLst/>
          </a:prstGeom>
          <a:ln w="1260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500040" y="2692440"/>
            <a:ext cx="8143920" cy="0"/>
          </a:xfrm>
          <a:prstGeom prst="line">
            <a:avLst/>
          </a:prstGeom>
          <a:ln w="1260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468360" y="3357720"/>
            <a:ext cx="8143920" cy="0"/>
          </a:xfrm>
          <a:prstGeom prst="line">
            <a:avLst/>
          </a:prstGeom>
          <a:ln w="1260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468360" y="5229360"/>
            <a:ext cx="8143920" cy="0"/>
          </a:xfrm>
          <a:prstGeom prst="line">
            <a:avLst/>
          </a:prstGeom>
          <a:ln w="1260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468360" y="1773360"/>
            <a:ext cx="0" cy="4284720"/>
          </a:xfrm>
          <a:prstGeom prst="line">
            <a:avLst/>
          </a:prstGeom>
          <a:ln w="1260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8643960" y="1785960"/>
            <a:ext cx="0" cy="4284720"/>
          </a:xfrm>
          <a:prstGeom prst="line">
            <a:avLst/>
          </a:prstGeom>
          <a:ln w="1260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539640" y="1628640"/>
            <a:ext cx="8143920" cy="0"/>
          </a:xfrm>
          <a:prstGeom prst="line">
            <a:avLst/>
          </a:prstGeom>
          <a:ln w="1260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468360" y="6308640"/>
            <a:ext cx="8143920" cy="0"/>
          </a:xfrm>
          <a:prstGeom prst="line">
            <a:avLst/>
          </a:prstGeom>
          <a:ln w="1260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Rectangle 4"/>
          <p:cNvSpPr/>
          <p:nvPr/>
        </p:nvSpPr>
        <p:spPr>
          <a:xfrm>
            <a:off x="214200" y="172800"/>
            <a:ext cx="8929800" cy="624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Что дает технология критического мышления дает ученику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вышение эффективности восприятия информации;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повышение интереса как к изучаемому материалу, так и к самому процессу обучения;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умение критически мыслить;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умение ответственно относиться к собственному образованию;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умение работать в сотрудничестве с другими;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повышение качества образования учеников;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желание и умение стать человеком, который учится в течение всей жизн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Rectangle 4"/>
          <p:cNvSpPr/>
          <p:nvPr/>
        </p:nvSpPr>
        <p:spPr>
          <a:xfrm>
            <a:off x="250920" y="170280"/>
            <a:ext cx="8569080" cy="57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Что технология критического мышления дает учителю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мение создать в классе атмосферу открытости и ответственного сотрудничеств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озможность использовать модель обучения и систему эффективных методик, которые способствуют развитию критического мышления и самостоятельности в процессе обуче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тать практиками, которые умеют грамотно анализировать свою деятельность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стать источником ценной профессиональной информации для других учител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9dd9"/>
                </a:solidFill>
                <a:latin typeface="Georgia"/>
              </a:rPr>
              <a:t>СПАСИБО</a:t>
            </a:r>
            <a:r>
              <a:rPr b="1" lang="en-US" sz="6000" spc="-1" strike="noStrike">
                <a:solidFill>
                  <a:srgbClr val="0f6fc6"/>
                </a:solidFill>
                <a:latin typeface="Georgia"/>
              </a:rPr>
              <a:t> </a:t>
            </a:r>
            <a:endParaRPr b="0" lang="en-US" sz="6000" spc="-1" strike="noStrike">
              <a:solidFill>
                <a:srgbClr val="08b7b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4" name="Заголовок 1" descr=""/>
          <p:cNvPicPr/>
          <p:nvPr/>
        </p:nvPicPr>
        <p:blipFill>
          <a:blip r:embed="rId1"/>
          <a:stretch/>
        </p:blipFill>
        <p:spPr>
          <a:xfrm>
            <a:off x="781200" y="476280"/>
            <a:ext cx="8369280" cy="1724040"/>
          </a:xfrm>
          <a:prstGeom prst="rect">
            <a:avLst/>
          </a:prstGeom>
          <a:ln w="0">
            <a:noFill/>
          </a:ln>
        </p:spPr>
      </p:pic>
      <p:pic>
        <p:nvPicPr>
          <p:cNvPr id="615" name="Содержимое 6" descr=""/>
          <p:cNvPicPr/>
          <p:nvPr/>
        </p:nvPicPr>
        <p:blipFill>
          <a:blip r:embed="rId2"/>
          <a:stretch/>
        </p:blipFill>
        <p:spPr>
          <a:xfrm>
            <a:off x="395280" y="2133720"/>
            <a:ext cx="8261280" cy="28954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Rectangle 3"/>
          <p:cNvSpPr/>
          <p:nvPr/>
        </p:nvSpPr>
        <p:spPr>
          <a:xfrm>
            <a:off x="142920" y="172440"/>
            <a:ext cx="8604360" cy="62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Первая стадия – вызов – обязательна на каждом уроке.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Эта стадия позволяе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4492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ктуализировать и обобщить имеющиеся у учащихся знания по тем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4492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492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ызвать интерес к изучаемой теме, мотивировать его к учебной деятельност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4492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492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формулировать вопросы, на которые хотелось бы получить ответ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4492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побудить ученика к активной работе на урок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7" name="Заголовок 1" descr=""/>
          <p:cNvPicPr/>
          <p:nvPr/>
        </p:nvPicPr>
        <p:blipFill>
          <a:blip r:embed="rId1"/>
          <a:stretch/>
        </p:blipFill>
        <p:spPr>
          <a:xfrm>
            <a:off x="-6480" y="6480"/>
            <a:ext cx="9156960" cy="768240"/>
          </a:xfrm>
          <a:prstGeom prst="rect">
            <a:avLst/>
          </a:prstGeom>
          <a:ln w="0">
            <a:noFill/>
          </a:ln>
        </p:spPr>
      </p:pic>
      <p:pic>
        <p:nvPicPr>
          <p:cNvPr id="618" name="Содержимое 4" descr=""/>
          <p:cNvPicPr/>
          <p:nvPr/>
        </p:nvPicPr>
        <p:blipFill>
          <a:blip r:embed="rId2"/>
          <a:stretch/>
        </p:blipFill>
        <p:spPr>
          <a:xfrm>
            <a:off x="639720" y="811080"/>
            <a:ext cx="7785000" cy="56451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9" name="Picture 6" descr="is?FP47n9l5MsoRG3UcgV6Hr4URnX2DWsWqPBv5uqJAWic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71680" y="500040"/>
            <a:ext cx="1984320" cy="2592360"/>
          </a:xfrm>
          <a:prstGeom prst="rect">
            <a:avLst/>
          </a:prstGeom>
          <a:ln w="0">
            <a:noFill/>
          </a:ln>
        </p:spPr>
      </p:pic>
      <p:pic>
        <p:nvPicPr>
          <p:cNvPr id="620" name="Picture 10" descr="is?NKMYcaCuIZUfXjyTQHZ8yHevX5rOdxXv5lmoIZeb7mw"/>
          <p:cNvPicPr/>
          <p:nvPr/>
        </p:nvPicPr>
        <p:blipFill>
          <a:blip r:embed="rId3"/>
          <a:stretch/>
        </p:blipFill>
        <p:spPr>
          <a:xfrm>
            <a:off x="6715080" y="500040"/>
            <a:ext cx="2046240" cy="2448000"/>
          </a:xfrm>
          <a:prstGeom prst="rect">
            <a:avLst/>
          </a:prstGeom>
          <a:ln w="0">
            <a:noFill/>
          </a:ln>
        </p:spPr>
      </p:pic>
      <p:pic>
        <p:nvPicPr>
          <p:cNvPr id="621" name="Picture 20" descr="is?D69AUP-WmJE5fAPAmklxNcHJRKDXSy5sg3vZuGAtpX8"/>
          <p:cNvPicPr/>
          <p:nvPr/>
        </p:nvPicPr>
        <p:blipFill>
          <a:blip r:embed="rId4"/>
          <a:stretch/>
        </p:blipFill>
        <p:spPr>
          <a:xfrm>
            <a:off x="3500280" y="500040"/>
            <a:ext cx="1965600" cy="2521080"/>
          </a:xfrm>
          <a:prstGeom prst="rect">
            <a:avLst/>
          </a:prstGeom>
          <a:ln w="0">
            <a:noFill/>
          </a:ln>
        </p:spPr>
      </p:pic>
      <p:pic>
        <p:nvPicPr>
          <p:cNvPr id="622" name="Picture 24" descr="is?dg24_m9fngMP5YCHV-aMmnIadZZD3jBjUgNxjUxEXQs"/>
          <p:cNvPicPr/>
          <p:nvPr/>
        </p:nvPicPr>
        <p:blipFill>
          <a:blip r:embed="rId5"/>
          <a:stretch/>
        </p:blipFill>
        <p:spPr>
          <a:xfrm>
            <a:off x="6710400" y="3429000"/>
            <a:ext cx="2182680" cy="2664000"/>
          </a:xfrm>
          <a:prstGeom prst="rect">
            <a:avLst/>
          </a:prstGeom>
          <a:ln w="0">
            <a:noFill/>
          </a:ln>
        </p:spPr>
      </p:pic>
      <p:pic>
        <p:nvPicPr>
          <p:cNvPr id="623" name="Picture 26" descr="316_big"/>
          <p:cNvPicPr/>
          <p:nvPr/>
        </p:nvPicPr>
        <p:blipFill>
          <a:blip r:embed="rId6"/>
          <a:stretch/>
        </p:blipFill>
        <p:spPr>
          <a:xfrm>
            <a:off x="3429000" y="3357720"/>
            <a:ext cx="2093760" cy="2735280"/>
          </a:xfrm>
          <a:prstGeom prst="rect">
            <a:avLst/>
          </a:prstGeom>
          <a:ln w="0">
            <a:noFill/>
          </a:ln>
        </p:spPr>
      </p:pic>
      <p:pic>
        <p:nvPicPr>
          <p:cNvPr id="624" name="Picture 9" descr=""/>
          <p:cNvPicPr/>
          <p:nvPr/>
        </p:nvPicPr>
        <p:blipFill>
          <a:blip r:embed="rId7"/>
          <a:stretch/>
        </p:blipFill>
        <p:spPr>
          <a:xfrm>
            <a:off x="500040" y="3429000"/>
            <a:ext cx="2000160" cy="269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8b7bf"/>
                </a:solidFill>
                <a:latin typeface="Georgia"/>
              </a:rPr>
              <a:t>Двойной дневник</a:t>
            </a: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626" name=""/>
          <p:cNvSpPr txBox="1"/>
          <p:nvPr/>
        </p:nvSpPr>
        <p:spPr>
          <a:xfrm>
            <a:off x="301680" y="1371600"/>
            <a:ext cx="403848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+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24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24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Стал ближе к обществу;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24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24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Стал заметнее (о нем заговорили);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24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24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Стал увереннее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7" name=""/>
          <p:cNvSpPr txBox="1"/>
          <p:nvPr/>
        </p:nvSpPr>
        <p:spPr>
          <a:xfrm>
            <a:off x="4800600" y="1371600"/>
            <a:ext cx="403848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 algn="ct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           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-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lnSpc>
                <a:spcPct val="90000"/>
              </a:lnSpc>
              <a:spcBef>
                <a:spcPts val="624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lnSpc>
                <a:spcPct val="90000"/>
              </a:lnSpc>
              <a:spcBef>
                <a:spcPts val="624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Забросил работу;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lnSpc>
                <a:spcPct val="90000"/>
              </a:lnSpc>
              <a:spcBef>
                <a:spcPts val="624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lnSpc>
                <a:spcPct val="90000"/>
              </a:lnSpc>
              <a:spcBef>
                <a:spcPts val="624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Стал делать ошибки;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lnSpc>
                <a:spcPct val="90000"/>
              </a:lnSpc>
              <a:spcBef>
                <a:spcPts val="624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lnSpc>
                <a:spcPct val="90000"/>
              </a:lnSpc>
              <a:spcBef>
                <a:spcPts val="624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Испытал потрясение от встречи со Значительным лицом;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lnSpc>
                <a:spcPct val="90000"/>
              </a:lnSpc>
              <a:spcBef>
                <a:spcPts val="624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lnSpc>
                <a:spcPct val="90000"/>
              </a:lnSpc>
              <a:spcBef>
                <a:spcPts val="624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умер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8" name="Схема 1" descr=""/>
          <p:cNvPicPr/>
          <p:nvPr/>
        </p:nvPicPr>
        <p:blipFill>
          <a:blip r:embed="rId1"/>
          <a:stretch/>
        </p:blipFill>
        <p:spPr>
          <a:xfrm>
            <a:off x="-6480" y="-42840"/>
            <a:ext cx="9156960" cy="699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Rectangle 4"/>
          <p:cNvSpPr/>
          <p:nvPr/>
        </p:nvSpPr>
        <p:spPr>
          <a:xfrm>
            <a:off x="611280" y="732600"/>
            <a:ext cx="788976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Вторая стадия урока по технологии критического мышления – осмысление.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Эта стадия позволяет ученик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получить новую информацию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осмыслить е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соотнести с имеющимися знаниям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искать ответы на поставленные ранее вопрос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0" name=""/>
          <p:cNvGraphicFramePr/>
          <p:nvPr/>
        </p:nvGraphicFramePr>
        <p:xfrm>
          <a:off x="1000080" y="857160"/>
          <a:ext cx="7313760" cy="5589720"/>
        </p:xfrm>
        <a:graphic>
          <a:graphicData uri="http://schemas.openxmlformats.org/drawingml/2006/table">
            <a:tbl>
              <a:tblPr/>
              <a:tblGrid>
                <a:gridCol w="3657600"/>
                <a:gridCol w="3656160"/>
              </a:tblGrid>
              <a:tr h="1672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Тонкие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опросы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Толстые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опросы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1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то...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Что...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огда...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ак звать...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Было ли...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айте три объяснения, почему...?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бъясните, почему...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очему, вы думаете...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 чём различие ...?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редположите, что будет, если ...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огласны ли вы ...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ерно ли ...?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31" name="Rectangle 27"/>
          <p:cNvSpPr/>
          <p:nvPr/>
        </p:nvSpPr>
        <p:spPr>
          <a:xfrm>
            <a:off x="1547640" y="333360"/>
            <a:ext cx="583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dd9"/>
                </a:solidFill>
                <a:latin typeface="Arial"/>
              </a:rPr>
              <a:t>ЗАДАЕМ ВОПРОС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30T16:30:45Z</dcterms:created>
  <dc:creator>пк</dc:creator>
  <dc:description/>
  <dc:language>en-US</dc:language>
  <cp:lastModifiedBy>пк</cp:lastModifiedBy>
  <dcterms:modified xsi:type="dcterms:W3CDTF">2010-11-02T06:16:38Z</dcterms:modified>
  <cp:revision>29</cp:revision>
  <dc:subject/>
  <dc:title>Слайд 1</dc:title>
</cp:coreProperties>
</file>