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9CAB-8F46-40B4-B494-D97420C81F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78DB-F5D7-4EC0-832A-F38F3A90D4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7601-6216-4C5D-B617-0F8FF321FC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FF5E-2727-4668-B841-BEFFA64F0F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0E75-FC5E-4E64-991D-AFF71E4FA2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4B7A-151D-4E96-BBFD-CFBA0802C9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8518-DF2E-45A2-9C51-12DD56D82A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54D2-1ACA-403C-8994-CE28551364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9C4C-A026-49BB-AF20-A372798602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DC9-446D-4192-8362-9B5112F0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805-5F36-44E1-95CE-8E1B3D94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50FD3-5787-4C9B-9B27-F93F9E21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3A9D40-76BC-4826-8E10-F5551823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8EE3F-C4B7-4196-8C34-CE62EA42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774A6-13C9-498B-94A0-BC6046CD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3C56AC-0627-4DE8-99E2-9870E263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C823D-C161-45E0-A829-CEB135E6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335D7-DB50-453A-B0EA-7A4D9414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EFFB9-87BD-4496-98C5-A8681B71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B89FC-7B55-4452-AB20-43CA5B63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FAB24-46A4-496F-8F2D-4C450323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AB6-4628-4F08-BA8B-A5FFE24D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2169B-E85B-4DD5-9C64-F7BA5F6C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C342F-66E1-4298-BF99-AE3E51FE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647D5-70F3-4601-8E5B-8C605ECF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4F6EC-8CD8-49BF-9112-88A80A32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D2478-92D1-41F1-A71D-BDE93958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115F64-C53C-4291-9330-96D5809D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273D7-B95A-4CCD-BD5D-6DD206A2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8756A-5264-4F92-8B7C-5F19F7C4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2CAD2-D915-4471-A857-58C6FC4D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1FB56-E88B-4E58-BBC6-AC7F392A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A9B-D48E-49C7-B630-434879A8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CC69D9-181B-4A2A-9DBB-549AB490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0DED1-CA0C-4F84-9B15-E4A7F352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F4261-62ED-4CAC-B269-B487AA5D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398D8-159E-4D7F-B3C2-7ACBC99B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CF3A2-56FD-47A8-A393-5203C42C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276BC-7C8C-4770-8793-6E13E90D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7BFED-7DD0-477F-894D-7D5F2F22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C59FA-BDCA-4A29-91C7-A9580C26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6BA7C-F0F8-4568-B53D-77FE7C01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DFAA5-ACD5-41FA-9294-11EA75BA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EA64-F29A-4F66-A6AC-A3633A06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629CE-26DA-47E1-BE22-B3035260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43704-AB48-44AA-AB75-783B2447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08492-374E-48A6-AFFB-3327800E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15E85-A3D7-44FD-B485-81773C6B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46284-E5E8-4910-BE25-3DD53283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50D02-E15A-4623-952E-6C42B218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7AEBA1-3972-484E-ABFD-D51E0D84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7479A-2465-4BE7-A350-94C2AFF8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E54F4-3A65-4713-9B96-DEF5554C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AD4B7A-37D0-4367-957C-C9A6BFF4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74E4-A2F3-43D0-ABD6-4E507977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3F9F5-21AB-430E-9EA4-E75D6A42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F34882-7BA3-4C0A-B739-3671BCC5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9EA0E-A297-42CC-B2AF-E7F59242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7ACC6-E6D4-4AB7-9C06-7B69CC14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F25AB5-6941-4E7A-90BD-99C3859D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9B7C-CC32-4D65-AE8E-AF15FE51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CE73-7D3A-4D31-990F-93D4BA2E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935E-B8C9-4FC2-B63C-CAEAA1CE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E090-76EB-41C3-9861-68F88FBF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59BB-CEA3-4EC1-8F93-2BA1A3B3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1D4-C7CF-4ACD-B1B9-9ED4C92D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03F1-C8C7-45E3-B135-B8232690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09B8-E282-41E7-9888-6F36453A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1D16-1C55-49C4-A286-779FCF21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3567-1D53-4AF3-9D1C-D4454618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0768-8C57-4790-87C2-FF642509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2E9A-F2F3-45B8-8AF5-59CC8596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4EE22-ED9A-4DF1-A618-38A6C3DD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B107-1878-4911-BC81-6160EE85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E6C5F-43D0-44F9-8199-5C7F736F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B0258-8B2F-4689-931F-4690EC05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A20F-6CA4-44AA-955A-4ED47BE6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69133-C1F2-44F9-9113-AEFACA3C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5B48D-ACED-4DCA-B8CB-8C302D37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B633B-EE3F-417F-A654-29534F1E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A7E33-26C4-4A35-838D-93CA1DB6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CDBF0-4BF3-4F7C-B843-C6D6B40A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56228-F697-4AF5-95AA-C8CBAEDA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C6A19-2D8B-499F-94E0-BA9284D2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BCC9D-DE9D-4162-ACFB-717A4226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6ABAA-39AA-4334-AD6E-625663EC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01860-2532-4472-B615-EEA8F1B9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C62-9271-4CF6-B668-4444718F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03AE3-D9D1-4AFC-8744-703FED65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09D20-48B6-445A-8930-03363179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71975-91DE-4D8E-81AE-08872F1A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FD06C-821C-4F36-8F8D-6D92355A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E216B-9EF8-4F77-B5AA-E15B1C5B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4894C-AC16-4F16-8755-A95BBB23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A8D1B-FF20-4871-95AF-5D976A8D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C8707-FF17-4C0D-B3D1-1BC09AEB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2444C-97D0-435B-9F30-E9B805CE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37DA0-473D-4FA7-B33D-2B85B4ED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6CC-5936-4950-A8ED-3DED2635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B1BB3-D435-4170-BBDD-8F336977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3F9A5-13AD-4D12-BFDF-31FABD6F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B1F2A-3A04-4FFD-8AAD-3CD1A9A0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9EF9D-8A6C-4CDB-A0C7-23B09402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374C6-156A-40D3-81BB-6A4A0237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03343-4B50-4E6E-AF4E-9D52D079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02843-F988-4941-8AF9-7562D36C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6D669-3FA6-4870-B9F9-971739AC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99BE8-DEF6-47E3-8FDA-2ADFCBF5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B145C-CD9D-4652-B0E3-360C77DB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CF8-0D84-447F-9C8F-A2C16472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F6653-72CF-4D5A-8825-10F007F1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9BEE9-2647-4842-B71B-0DF8FDBA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5A806-4F6A-48F6-955C-675137D4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41ADA-F3A9-4EB7-B428-CA5BF8DE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D60A4-B743-47B2-B04E-DD38922E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CB7C3-F0BE-4061-B1C7-08F70CE6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819F7-59C8-413A-B17E-58468EAB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4DD37-8CFE-4FC4-9398-D20EAF24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82BAD-8FFF-4C30-8230-DE0959CC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C2B34-FAB1-4845-AF87-859BD35A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699-C942-42B3-B7AC-9DDB0EF0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BE429-3C8E-4507-9375-FF7E0E2F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E2CDE-D704-45A9-825E-0F70161E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9BC5E-352C-406A-86DA-2F36953D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8F31C-4DE5-4A37-B2B0-3122E38F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EF498-81BF-4573-8912-41CB2F21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2C74C-62C1-453A-B977-83FB136C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8F1B3-1F33-4B0A-92D5-1A875919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D6F3B-447B-4230-BDBF-E4D0D5FA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DDE98-ACC6-4A54-A6E7-DE06F7C4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A1E0A-ECF5-49D9-8FD9-038FDC71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76F-8DB5-422B-9D64-6512C611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0BEBF-68A8-4A1E-8559-56B50B25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FBD83-0CE1-4340-99F1-750B4A01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8F6FC-6403-4DCF-9A9A-FB79EC3C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662DC-2DDF-4188-ABF5-532FF54B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745F6-F3DE-4845-BA16-440CEC33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7E7A0-AC25-43CF-A349-2FA4B821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5745A-6C2C-4F83-861B-737747F5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508A3-564A-4A97-823E-D9D4FB61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F035E-5E84-41D1-9ED3-434DC624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B1991-11E4-499C-93A3-31D4562F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49C-4E39-40BC-B7B6-10DDD621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0EDE0-0513-4F3A-9023-22A4FFB0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A8452-D1AA-4C53-8C44-26D9A30E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EDDA5-626E-4BD5-B7D0-12D81D96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DE634-6281-4246-B0F3-BFFDD752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1181F-5C6C-407B-9F93-82917E05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DDEC9-DC92-4A5B-9FC6-41F0EDAB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1CF21-0DE8-4D2D-A384-6BA4D7D1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4C79F6-D3FA-41DD-8E8B-E94A28E6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BC90F-E291-44C2-A25F-0D67F5C9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54936-E7DF-4C76-9441-E7EA2E3E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4BA9-52B3-4798-98BF-28E216347EAC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D48B-987D-44E3-8C35-8E632B38D7F4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453E-3A6F-493E-A018-64EA038B0477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0879-6435-453A-9272-B0F66EDF4AD1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905C-B818-4342-919E-658229BE236F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4BA6-C25A-480C-A489-724F39B10E07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5534-173A-4742-96C5-2E54E4A8C5E9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EC4E-2DE9-4777-99FF-1EBEC50B9FCC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36A1-C45A-42A3-8C1A-3B6B29C4721B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C77D-B889-41B2-B713-251E00BEB907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8F32-9142-47B8-9879-E4044BD016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A810-88DC-45B7-B8B5-F23B8C3A6F4A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btsov.id.ru/photo/p25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f6fc6"/>
                </a:solidFill>
                <a:latin typeface="Georgia"/>
              </a:rPr>
              <a:t>Использование технологии критического мышления на уроках русского языка и литературы</a:t>
            </a: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f6fc6"/>
                </a:solidFill>
                <a:latin typeface="Georgia"/>
              </a:rPr>
              <a:t>(из опыта работы учителя гимназии № 505 Кологрив Елены Владимировны)</a:t>
            </a:r>
            <a:endParaRPr b="0" lang="en-US" sz="3500" spc="-1" strike="noStrike">
              <a:solidFill>
                <a:srgbClr val="08b7b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b7bf"/>
                </a:solidFill>
                <a:uFillTx/>
                <a:latin typeface="Georgia"/>
              </a:rPr>
              <a:t>Прием</a:t>
            </a:r>
            <a:br>
              <a:rPr sz="3200"/>
            </a:br>
            <a:r>
              <a:rPr b="1" lang="en-US" sz="3200" spc="-1" strike="noStrike" u="sng">
                <a:solidFill>
                  <a:srgbClr val="08b7bf"/>
                </a:solidFill>
                <a:uFillTx/>
                <a:latin typeface="Georgia"/>
              </a:rPr>
              <a:t>«Знаю – хочу узнать - узнал».</a:t>
            </a:r>
            <a:endParaRPr b="0" lang="en-US" sz="3200" spc="-1" strike="noStrike">
              <a:solidFill>
                <a:srgbClr val="08b7bf"/>
              </a:solidFill>
              <a:latin typeface="Georgia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214280" y="2357280"/>
          <a:ext cx="6562800" cy="3251520"/>
        </p:xfrm>
        <a:graphic>
          <a:graphicData uri="http://schemas.openxmlformats.org/drawingml/2006/table">
            <a:tbl>
              <a:tblPr/>
              <a:tblGrid>
                <a:gridCol w="2187720"/>
                <a:gridCol w="2187720"/>
                <a:gridCol w="2187360"/>
              </a:tblGrid>
              <a:tr h="169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ызо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очу узн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вызо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реализация смысла или рефлекс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ботаю в паре: что я знаю о теме урок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влю ц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то я знал, а что узнал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4943520" y="1380960"/>
            <a:ext cx="4200480" cy="547704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2"/>
          <p:cNvSpPr/>
          <p:nvPr/>
        </p:nvSpPr>
        <p:spPr>
          <a:xfrm>
            <a:off x="642960" y="64296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Georgia"/>
              </a:rPr>
              <a:t>«ДЕРЕВО ПРЕДСКАЗАН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142920" y="2143080"/>
            <a:ext cx="79866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«Листочки» - это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ПРОГН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«Веточки» -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АРГУМЕНТЫ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, обоснования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Сама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ТЕМА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- это «ствол дере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рогноз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3"/>
          <p:cNvSpPr/>
          <p:nvPr/>
        </p:nvSpPr>
        <p:spPr>
          <a:xfrm>
            <a:off x="285840" y="311400"/>
            <a:ext cx="885816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Третья стадия урока – рефлекс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десь основным явля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целостное осмысление, обобщение полученной информац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присвоение нового зн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формирование у каждого ученика собственного отношения к изучаемому материал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8b7bf"/>
                </a:solidFill>
                <a:latin typeface="Georgia"/>
              </a:rPr>
              <a:t>План лингвистического сочинения</a:t>
            </a:r>
            <a:br>
              <a:rPr sz="2900"/>
            </a:br>
            <a:r>
              <a:rPr b="0" lang="en-US" sz="2900" spc="-1" strike="noStrike">
                <a:solidFill>
                  <a:srgbClr val="08b7bf"/>
                </a:solidFill>
                <a:latin typeface="Arial"/>
              </a:rPr>
              <a:t>«Какова роль вводных слов?»</a:t>
            </a:r>
            <a:endParaRPr b="0" lang="en-US" sz="29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9" name=""/>
          <p:cNvSpPr/>
          <p:nvPr/>
        </p:nvSpPr>
        <p:spPr>
          <a:xfrm>
            <a:off x="500040" y="1785960"/>
            <a:ext cx="4071960" cy="906480"/>
          </a:xfrm>
          <a:prstGeom prst="rect">
            <a:avLst/>
          </a:prstGeom>
          <a:solidFill>
            <a:srgbClr val="e7f0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  <a:ea typeface="Arial"/>
              </a:rPr>
              <a:t>Вступле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572000" y="1785960"/>
            <a:ext cx="4071960" cy="906480"/>
          </a:xfrm>
          <a:prstGeom prst="rect">
            <a:avLst/>
          </a:prstGeom>
          <a:solidFill>
            <a:srgbClr val="e7f0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Часто ли мы употребляем вводные слов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Какие они интересные, эти вводные слов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00040" y="2692440"/>
            <a:ext cx="4071960" cy="906480"/>
          </a:xfrm>
          <a:prstGeom prst="rect">
            <a:avLst/>
          </a:prstGeom>
          <a:solidFill>
            <a:srgbClr val="cbd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Arial"/>
              </a:rPr>
              <a:t>Тези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2708280"/>
            <a:ext cx="4071960" cy="906480"/>
          </a:xfrm>
          <a:prstGeom prst="rect">
            <a:avLst/>
          </a:prstGeom>
          <a:solidFill>
            <a:srgbClr val="cbd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Вводные слова играют огромную роль в речи  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00040" y="3598920"/>
            <a:ext cx="4071960" cy="1565280"/>
          </a:xfrm>
          <a:prstGeom prst="rect">
            <a:avLst/>
          </a:prstGeom>
          <a:solidFill>
            <a:srgbClr val="e7f0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Arial"/>
              </a:rPr>
              <a:t>Аргумент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72000" y="3357720"/>
            <a:ext cx="4071960" cy="2016000"/>
          </a:xfrm>
          <a:prstGeom prst="rect">
            <a:avLst/>
          </a:prstGeom>
          <a:solidFill>
            <a:srgbClr val="e7f0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нидают возможность собраться с мыслям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Делают речь логичной, последовательн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.Показывают отношение к тому, о чем говоря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.Передают источник информ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.Выручить человека в трудной ситуа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.Передать радость, огор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00040" y="5164200"/>
            <a:ext cx="4071960" cy="906480"/>
          </a:xfrm>
          <a:prstGeom prst="rect">
            <a:avLst/>
          </a:prstGeom>
          <a:solidFill>
            <a:srgbClr val="cbd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Arial"/>
              </a:rPr>
              <a:t>выв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572000" y="5157720"/>
            <a:ext cx="4071960" cy="906480"/>
          </a:xfrm>
          <a:prstGeom prst="rect">
            <a:avLst/>
          </a:prstGeom>
          <a:solidFill>
            <a:srgbClr val="cbd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Вводные слова помогают точнее разобраться в написанном, прочитать текст с нужной интонацией. Помогают пишущему более точно передать свои мысли и чувства, сделать высказывание более выразитель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1785960"/>
            <a:ext cx="0" cy="4284720"/>
          </a:xfrm>
          <a:prstGeom prst="line">
            <a:avLst/>
          </a:prstGeom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00040" y="2692440"/>
            <a:ext cx="8143920" cy="0"/>
          </a:xfrm>
          <a:prstGeom prst="line">
            <a:avLst/>
          </a:prstGeom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68360" y="3357720"/>
            <a:ext cx="8143920" cy="0"/>
          </a:xfrm>
          <a:prstGeom prst="line">
            <a:avLst/>
          </a:prstGeom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68360" y="5229360"/>
            <a:ext cx="8143920" cy="0"/>
          </a:xfrm>
          <a:prstGeom prst="line">
            <a:avLst/>
          </a:prstGeom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8360" y="1773360"/>
            <a:ext cx="0" cy="4284720"/>
          </a:xfrm>
          <a:prstGeom prst="line">
            <a:avLst/>
          </a:prstGeom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643960" y="1785960"/>
            <a:ext cx="0" cy="4284720"/>
          </a:xfrm>
          <a:prstGeom prst="line">
            <a:avLst/>
          </a:prstGeom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39640" y="1628640"/>
            <a:ext cx="8143920" cy="0"/>
          </a:xfrm>
          <a:prstGeom prst="line">
            <a:avLst/>
          </a:prstGeom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8360" y="6308640"/>
            <a:ext cx="8143920" cy="0"/>
          </a:xfrm>
          <a:prstGeom prst="line">
            <a:avLst/>
          </a:prstGeom>
          <a:ln w="1260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214200" y="172800"/>
            <a:ext cx="892980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Что дает технология критического мышления дает ученику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ие эффективности восприятия информации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вышение интереса как к изучаемому материалу, так и к самому процессу обучения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мение критически мыслить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мение ответственно относиться к собственному образованию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мение работать в сотрудничестве с другими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вышение качества образования учеников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желание и умение стать человеком, который учится в течение все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4"/>
          <p:cNvSpPr/>
          <p:nvPr/>
        </p:nvSpPr>
        <p:spPr>
          <a:xfrm>
            <a:off x="250920" y="170280"/>
            <a:ext cx="85690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Что технология критического мышления дает учител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ие создать в классе атмосферу открытости и ответственного сотрудни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сть использовать модель обучения и систему эффективных методик, которые способствуют развитию критического мышления и самостоятельности в процессе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ь практиками, которые умеют грамотно анализировать свою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тать источником ценной профессиональной информации для других уч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dd9"/>
                </a:solidFill>
                <a:latin typeface="Georgia"/>
              </a:rPr>
              <a:t>СПАСИБО</a:t>
            </a:r>
            <a:r>
              <a:rPr b="1" lang="en-US" sz="6000" spc="-1" strike="noStrike">
                <a:solidFill>
                  <a:srgbClr val="0f6fc6"/>
                </a:solidFill>
                <a:latin typeface="Georgia"/>
              </a:rPr>
              <a:t> </a:t>
            </a:r>
            <a:endParaRPr b="0" lang="en-US" sz="6000" spc="-1" strike="noStrike">
              <a:solidFill>
                <a:srgbClr val="08b7b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Заголовок 1" descr=""/>
          <p:cNvPicPr/>
          <p:nvPr/>
        </p:nvPicPr>
        <p:blipFill>
          <a:blip r:embed="rId1"/>
          <a:stretch/>
        </p:blipFill>
        <p:spPr>
          <a:xfrm>
            <a:off x="781200" y="476280"/>
            <a:ext cx="8369280" cy="1724040"/>
          </a:xfrm>
          <a:prstGeom prst="rect">
            <a:avLst/>
          </a:prstGeom>
          <a:ln w="0">
            <a:noFill/>
          </a:ln>
        </p:spPr>
      </p:pic>
      <p:pic>
        <p:nvPicPr>
          <p:cNvPr id="615" name="Содержимое 6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2612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3"/>
          <p:cNvSpPr/>
          <p:nvPr/>
        </p:nvSpPr>
        <p:spPr>
          <a:xfrm>
            <a:off x="142920" y="172440"/>
            <a:ext cx="860436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ервая стадия – вызов – обязательна на каждом уроке.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а стадия позволя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уализировать и обобщить имеющиеся у учащихся знания по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звать интерес к изучаемой теме, мотивировать его к учеб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улировать вопросы, на которые хотелось бы получить отве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будить ученика к активной работе на у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Заголовок 1" descr=""/>
          <p:cNvPicPr/>
          <p:nvPr/>
        </p:nvPicPr>
        <p:blipFill>
          <a:blip r:embed="rId1"/>
          <a:stretch/>
        </p:blipFill>
        <p:spPr>
          <a:xfrm>
            <a:off x="-6480" y="6480"/>
            <a:ext cx="9156960" cy="768240"/>
          </a:xfrm>
          <a:prstGeom prst="rect">
            <a:avLst/>
          </a:prstGeom>
          <a:ln w="0">
            <a:noFill/>
          </a:ln>
        </p:spPr>
      </p:pic>
      <p:pic>
        <p:nvPicPr>
          <p:cNvPr id="618" name="Содержимое 4" descr=""/>
          <p:cNvPicPr/>
          <p:nvPr/>
        </p:nvPicPr>
        <p:blipFill>
          <a:blip r:embed="rId2"/>
          <a:stretch/>
        </p:blipFill>
        <p:spPr>
          <a:xfrm>
            <a:off x="639720" y="811080"/>
            <a:ext cx="7785000" cy="564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is?FP47n9l5MsoRG3UcgV6Hr4URnX2DWsWqPBv5uqJAWi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500040"/>
            <a:ext cx="1984320" cy="25923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0" descr="is?NKMYcaCuIZUfXjyTQHZ8yHevX5rOdxXv5lmoIZeb7mw"/>
          <p:cNvPicPr/>
          <p:nvPr/>
        </p:nvPicPr>
        <p:blipFill>
          <a:blip r:embed="rId3"/>
          <a:stretch/>
        </p:blipFill>
        <p:spPr>
          <a:xfrm>
            <a:off x="6715080" y="500040"/>
            <a:ext cx="2046240" cy="24480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20" descr="is?D69AUP-WmJE5fAPAmklxNcHJRKDXSy5sg3vZuGAtpX8"/>
          <p:cNvPicPr/>
          <p:nvPr/>
        </p:nvPicPr>
        <p:blipFill>
          <a:blip r:embed="rId4"/>
          <a:stretch/>
        </p:blipFill>
        <p:spPr>
          <a:xfrm>
            <a:off x="3500280" y="500040"/>
            <a:ext cx="1965600" cy="25210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4" descr="is?dg24_m9fngMP5YCHV-aMmnIadZZD3jBjUgNxjUxEXQs"/>
          <p:cNvPicPr/>
          <p:nvPr/>
        </p:nvPicPr>
        <p:blipFill>
          <a:blip r:embed="rId5"/>
          <a:stretch/>
        </p:blipFill>
        <p:spPr>
          <a:xfrm>
            <a:off x="6710400" y="3429000"/>
            <a:ext cx="2182680" cy="2664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6" descr="316_big"/>
          <p:cNvPicPr/>
          <p:nvPr/>
        </p:nvPicPr>
        <p:blipFill>
          <a:blip r:embed="rId6"/>
          <a:stretch/>
        </p:blipFill>
        <p:spPr>
          <a:xfrm>
            <a:off x="3429000" y="3357720"/>
            <a:ext cx="2093760" cy="27352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9" descr=""/>
          <p:cNvPicPr/>
          <p:nvPr/>
        </p:nvPicPr>
        <p:blipFill>
          <a:blip r:embed="rId7"/>
          <a:stretch/>
        </p:blipFill>
        <p:spPr>
          <a:xfrm>
            <a:off x="500040" y="3429000"/>
            <a:ext cx="20001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Двойной дневник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Стал ближе к обществу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Стал заметнее (о нем заговорили)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Стал увереннее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-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Забросил работу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Стал делать ошибки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Испытал потрясение от встречи со Значительным лицом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умер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Схема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915696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4"/>
          <p:cNvSpPr/>
          <p:nvPr/>
        </p:nvSpPr>
        <p:spPr>
          <a:xfrm>
            <a:off x="611280" y="732600"/>
            <a:ext cx="7889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торая стадия урока по технологии критического мышления – осмысление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 стадия позволяет уче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олучить новую информац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смыслить е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оотнести с имеющимися знания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искать ответы на поставленные ране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0" name=""/>
          <p:cNvGraphicFramePr/>
          <p:nvPr/>
        </p:nvGraphicFramePr>
        <p:xfrm>
          <a:off x="1000080" y="857160"/>
          <a:ext cx="7313760" cy="5589720"/>
        </p:xfrm>
        <a:graphic>
          <a:graphicData uri="http://schemas.openxmlformats.org/drawingml/2006/table">
            <a:tbl>
              <a:tblPr/>
              <a:tblGrid>
                <a:gridCol w="3657600"/>
                <a:gridCol w="3656160"/>
              </a:tblGrid>
              <a:tr h="167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онк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прос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олст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прос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то..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то..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гда..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к звать..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ыло ли..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йте три объяснения, почему...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ясните, почему...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чему, вы думаете...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чём различие ...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положите, что будет, если ...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гласны ли вы ...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рно ли ...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1" name="Rectangle 27"/>
          <p:cNvSpPr/>
          <p:nvPr/>
        </p:nvSpPr>
        <p:spPr>
          <a:xfrm>
            <a:off x="1547640" y="33336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dd9"/>
                </a:solidFill>
                <a:latin typeface="Arial"/>
              </a:rPr>
              <a:t>ЗАДАЕМ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16:30:45Z</dcterms:created>
  <dc:creator>пк</dc:creator>
  <dc:description/>
  <dc:language>en-US</dc:language>
  <cp:lastModifiedBy>пк</cp:lastModifiedBy>
  <dcterms:modified xsi:type="dcterms:W3CDTF">2010-11-02T06:16:38Z</dcterms:modified>
  <cp:revision>29</cp:revision>
  <dc:subject/>
  <dc:title>Слайд 1</dc:title>
</cp:coreProperties>
</file>