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E1C-6C05-48E1-8F5E-2873A754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A1F-9A7F-4445-9E97-C155D33D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1EA-3EF5-4018-BEC9-5AB1E2ED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A3B-23E7-40EB-AEC2-74A9961F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2225-3F0B-47E3-A294-7E7645FE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F3C8-EAD8-480B-828D-D5F69762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E616-28C5-4EAA-AC18-D75552A1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E20B-2548-40CC-9E26-E125180D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2F9F-EF20-4378-9266-1F330C23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7E1C-FF70-492B-93A2-A3457B28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DB85-D547-4ECB-B01B-AE08BDBD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B84-5700-41E1-95E4-B1E976F7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9D46-98B5-4C3D-A616-F35D2038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5490-3260-4A75-8A9E-1FCA87E3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6259-0BA8-419A-9830-38C02C44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7C7C-964C-441B-BB57-9878668D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DC46-EB18-4772-9CBF-0364883C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825-8040-4B53-A2BB-06702C1F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2BC-FF07-4676-B220-CF6C4EF7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4DE-6102-4962-929E-C6CFE438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45C-FFB6-434F-A98E-B798F7FA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AA4-FCB3-4637-9609-6E328893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62A-57D1-4E75-AF6C-4EC84313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9F3-7524-4FB5-8D77-06CADCD2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5264-8218-4DF8-A275-4CA6EE1E64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B429-5977-4147-9B9D-84B61C7A62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 rot="192600">
            <a:off x="1835280" y="692280"/>
            <a:ext cx="439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гол</a:t>
            </a:r>
            <a:endParaRPr b="0" lang="en-US" sz="1800" spc="1" strike="noStrike">
              <a:ln w="1584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9640" y="3500280"/>
            <a:ext cx="8280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  углов</a:t>
            </a:r>
            <a:endParaRPr b="0" lang="en-US" sz="1800" spc="1" strike="noStrike">
              <a:ln w="15840">
                <a:solidFill>
                  <a:srgbClr val="0000ff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И таких примеров в жизни очень много. </a:t>
            </a:r>
            <a:br>
              <a:rPr sz="2800"/>
            </a:b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А в настоящее время, где же используются углы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Tahoma"/>
              </a:rPr>
              <a:t>Сейчас существует множество приборов: высотомеры, дальномеры, угломеры и т.д. Они определяют углы и позволяют находить высоту недоступных предметов, расстояние до недоступных предметов. Артиллеристы не стреляют вслепую. Они используют тоже углом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А как красиво в комнате, когда на полу сделан паркет с оригинальным узором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Чем сложнее комбинация острых, тупых и прямых углов в многоугольниках, тем интереснее узор парк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66978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116000" y="1773360"/>
            <a:ext cx="7056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Tahoma"/>
              </a:rPr>
              <a:t>Природа говорит языком математики: буквы этого языка -  круги, треугольники иные математические фигуры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Гали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V="1">
            <a:off x="2627280" y="1267920"/>
            <a:ext cx="2592360" cy="259236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3789360"/>
            <a:ext cx="144360" cy="14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3860640"/>
            <a:ext cx="381636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105800">
            <a:off x="2591640" y="3353040"/>
            <a:ext cx="86256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55840" y="3994200"/>
            <a:ext cx="4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17360" y="91116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44480" y="393372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57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Вершина уг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3933720"/>
            <a:ext cx="32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ffff"/>
                </a:solidFill>
                <a:latin typeface="Tahoma"/>
              </a:rPr>
              <a:t>Сторона угл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8955200">
            <a:off x="2553120" y="2206080"/>
            <a:ext cx="202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ffff"/>
                </a:solidFill>
                <a:latin typeface="Tahoma"/>
              </a:rPr>
              <a:t>Сторона угл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5661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означение: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ОВ или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404640"/>
            <a:ext cx="2737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г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15023400">
            <a:off x="2207520" y="2237760"/>
            <a:ext cx="3008160" cy="3644640"/>
          </a:xfrm>
          <a:prstGeom prst="triangle">
            <a:avLst>
              <a:gd name="adj" fmla="val 4303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629440" y="3429720"/>
            <a:ext cx="141840" cy="14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3357720"/>
            <a:ext cx="1447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7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27280" y="21337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5805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51120" y="4859280"/>
            <a:ext cx="41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17002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2997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57340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1989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213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3860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050920" y="1731960"/>
            <a:ext cx="3154320" cy="3137040"/>
          </a:xfrm>
          <a:prstGeom prst="line">
            <a:avLst/>
          </a:prstGeom>
          <a:ln w="381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4869000"/>
            <a:ext cx="4464000" cy="0"/>
          </a:xfrm>
          <a:prstGeom prst="line">
            <a:avLst/>
          </a:prstGeom>
          <a:ln w="381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429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421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2349360"/>
            <a:ext cx="3095640" cy="792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Внутренняя область уг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516640"/>
            <a:ext cx="2449440" cy="863640"/>
          </a:xfrm>
          <a:prstGeom prst="wedgeRoundRectCallout">
            <a:avLst>
              <a:gd name="adj1" fmla="val -57064"/>
              <a:gd name="adj2" fmla="val -238421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Внешняя область уг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00000" y="404640"/>
            <a:ext cx="720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положение точе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79520" y="3824280"/>
            <a:ext cx="202428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268360" y="220464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47640" y="476280"/>
            <a:ext cx="576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иды уг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5300640"/>
            <a:ext cx="4176720" cy="0"/>
          </a:xfrm>
          <a:prstGeom prst="line">
            <a:avLst/>
          </a:prstGeom>
          <a:ln w="284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5229360"/>
            <a:ext cx="14436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373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537372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53737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4869000"/>
            <a:ext cx="1656000" cy="431640"/>
          </a:xfrm>
          <a:custGeom>
            <a:avLst/>
            <a:gdLst>
              <a:gd name="textAreaLeft" fmla="*/ 289800 w 1656000"/>
              <a:gd name="textAreaRight" fmla="*/ 1200600 w 1656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71628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508720" y="1773000"/>
            <a:ext cx="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5640" y="3645000"/>
            <a:ext cx="144360" cy="14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17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3716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3716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5509080" y="3140280"/>
            <a:ext cx="576360" cy="574560"/>
          </a:xfrm>
          <a:custGeom>
            <a:avLst/>
            <a:gdLst>
              <a:gd name="textAreaLeft" fmla="*/ 192240 w 576360"/>
              <a:gd name="textAreaRight" fmla="*/ 493920 w 57636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3789360"/>
            <a:ext cx="2016360" cy="0"/>
          </a:xfrm>
          <a:prstGeom prst="line">
            <a:avLst/>
          </a:prstGeom>
          <a:ln w="284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755640" y="2349360"/>
            <a:ext cx="1512720" cy="1440000"/>
          </a:xfrm>
          <a:prstGeom prst="line">
            <a:avLst/>
          </a:prstGeom>
          <a:ln w="284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5640" y="3716280"/>
            <a:ext cx="142920" cy="14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3716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7162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6403800">
            <a:off x="2123280" y="2852280"/>
            <a:ext cx="576360" cy="1008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0" y="6165720"/>
            <a:ext cx="2521080" cy="0"/>
          </a:xfrm>
          <a:prstGeom prst="line">
            <a:avLst/>
          </a:prstGeom>
          <a:ln w="284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796000" y="4508280"/>
            <a:ext cx="1655640" cy="1657080"/>
          </a:xfrm>
          <a:prstGeom prst="line">
            <a:avLst/>
          </a:prstGeom>
          <a:ln w="284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6093000"/>
            <a:ext cx="142920" cy="142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9640" y="42210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6093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609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9807600">
            <a:off x="6516360" y="5299920"/>
            <a:ext cx="503280" cy="79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6202440"/>
            <a:ext cx="2449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796000" y="4437000"/>
            <a:ext cx="0" cy="165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Угол это геометрическая фигура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Геометрия наука, возникшая в глубокой древности из потребности практической деятельност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065560" y="1981080"/>
            <a:ext cx="3203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А где раньше можно было встретиться с углами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Tahoma"/>
              </a:rPr>
              <a:t>Астрономы, наблюдавшие за небом и дававшие на основе этих наблюдений указания, когда начинать полевые работы, должны были научиться определять положение звезд на небе. Для этого понадобилось измерять угл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388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 6 веке до новой эры Фалес из Милета ответил на трудную задачу египтян: Как найти высоту одной из громадных пирамид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алес нашел простое и красивое решение задачи:    « Когда тень от этой палки будет той же длины, что и сама палка, тень от пирамиды будет иметь ту же длину, что и высота пирамиды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7201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Вернувшись в свой родной город Фалес еще раз удивил всех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ahoma"/>
              </a:rPr>
              <a:t>Далеко от берега стоял на якоре корабль, И он сумел измерить расстояние от берега до корабля, стоя на берег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11280" y="3716280"/>
            <a:ext cx="8137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6:00:00Z</dcterms:created>
  <dc:creator>admin</dc:creator>
  <dc:description/>
  <dc:language>en-US</dc:language>
  <cp:lastModifiedBy>admin</cp:lastModifiedBy>
  <dcterms:modified xsi:type="dcterms:W3CDTF">2007-03-27T12:00:4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