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1A51-11C3-48F7-90C9-33095070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5D6-775C-42A7-A68E-593D54A9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27E6-3A26-4208-81D3-9784B101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9DA-0FA7-4A4E-BC66-CC84A80C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2315-C4FD-4C6B-B066-3B994776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905E3-B3FB-4122-A6D0-37355B88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8A4-E540-41AA-BE10-4592F19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E621-7F0B-48E3-8B7B-1BC6E59E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A0F2-08FA-4B36-87F9-04AB87BD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DB37-35D5-434E-836C-50D0D8C0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3289-DACF-47DD-95F8-6BF030DD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F55-C9F0-40A7-9D10-F7389FF8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FF38-981D-466D-9494-2668A340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F5A1-DB41-44C5-A758-57AE3DE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6B05-070D-45A9-A209-52E47596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05D9-7BD9-4BD7-B959-B4F04B8F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06D7-1CAA-488C-B6ED-31569A53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DBB-EF1F-4239-AFC0-355364C2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CDB-52AB-4981-87F9-9B7B2667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971-610F-442B-84FC-F188F756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CFF-E9E9-4B2B-B905-03983CD1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6BB-3759-488C-93CE-8B31D493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18E-7143-4CB6-B0F2-50BC38B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C297-7686-4AEA-8B58-5CCD3923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717B-7C24-4E2D-9A7D-FC38D9D1B3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498-9E1C-4669-8E83-154BA55744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 rot="192600">
            <a:off x="1835280" y="692280"/>
            <a:ext cx="439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гол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39640" y="3500280"/>
            <a:ext cx="8280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ды  углов</a:t>
            </a:r>
            <a:endParaRPr b="0" lang="en-US" sz="1800" spc="1" strike="noStrike">
              <a:ln w="15840">
                <a:solidFill>
                  <a:srgbClr val="0000ff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И таких примеров в жизни очень много. </a:t>
            </a: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Tahoma"/>
              </a:rPr>
              <a:t>А в настоящее время, где же используются углы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00"/>
                </a:solidFill>
                <a:latin typeface="Tahoma"/>
              </a:rPr>
              <a:t>Сейчас существует множество приборов: высотомеры, дальномеры, угломеры и т.д. Они определяют углы и позволяют находить высоту недоступных предметов, расстояние до недоступных предметов. Артиллеристы не стреляют вслепую. Они используют тоже угломе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А как красиво в комнате, когда на полу сделан паркет с оригинальным узором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ahoma"/>
              </a:rPr>
              <a:t>Чем сложнее комбинация острых, тупых и прямых углов в многоугольниках, тем интереснее узор парк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69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116000" y="1773360"/>
            <a:ext cx="7056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Tahoma"/>
              </a:rPr>
              <a:t>Природа говорит языком математики: буквы этого языка -  круги, треугольники иные математические фиг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i="1" lang="ru-RU" sz="3200" spc="-1" strike="noStrike">
                <a:solidFill>
                  <a:srgbClr val="ffff00"/>
                </a:solidFill>
                <a:latin typeface="Tahoma"/>
              </a:rPr>
              <a:t>Гали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flipV="1">
            <a:off x="2627280" y="1267920"/>
            <a:ext cx="2592360" cy="25923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378936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860640"/>
            <a:ext cx="38163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105800">
            <a:off x="2591640" y="3353040"/>
            <a:ext cx="86256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55840" y="3994200"/>
            <a:ext cx="4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17360" y="911160"/>
            <a:ext cx="4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44480" y="393372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Вершина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933720"/>
            <a:ext cx="32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ffff"/>
                </a:solidFill>
                <a:latin typeface="Tahoma"/>
              </a:rPr>
              <a:t>Сторона угла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8955200">
            <a:off x="2553120" y="2206080"/>
            <a:ext cx="202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ffff"/>
                </a:solidFill>
                <a:latin typeface="Tahoma"/>
              </a:rPr>
              <a:t>Сторона угл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5661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означение: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ОВ ил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404640"/>
            <a:ext cx="2737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го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5023400">
            <a:off x="2207520" y="2237760"/>
            <a:ext cx="3008160" cy="3644640"/>
          </a:xfrm>
          <a:prstGeom prst="triangle">
            <a:avLst>
              <a:gd name="adj" fmla="val 4303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9440" y="3429720"/>
            <a:ext cx="141840" cy="143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3357720"/>
            <a:ext cx="1447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7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2133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805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51120" y="4859280"/>
            <a:ext cx="41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1700280"/>
            <a:ext cx="3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2997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3860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050920" y="1731960"/>
            <a:ext cx="3154320" cy="3137040"/>
          </a:xfrm>
          <a:prstGeom prst="line">
            <a:avLst/>
          </a:prstGeom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4000" y="4869000"/>
            <a:ext cx="4464000" cy="0"/>
          </a:xfrm>
          <a:prstGeom prst="line">
            <a:avLst/>
          </a:prstGeom>
          <a:ln w="381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421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2349360"/>
            <a:ext cx="3095640" cy="79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нутренняя область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516640"/>
            <a:ext cx="2449440" cy="863640"/>
          </a:xfrm>
          <a:prstGeom prst="wedgeRoundRectCallout">
            <a:avLst>
              <a:gd name="adj1" fmla="val -57064"/>
              <a:gd name="adj2" fmla="val -238421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Внешняя область уг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0000" y="404640"/>
            <a:ext cx="7201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оложение точек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79520" y="3824280"/>
            <a:ext cx="202428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268360" y="2204640"/>
            <a:ext cx="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47640" y="476280"/>
            <a:ext cx="5761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ды уг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5300640"/>
            <a:ext cx="417672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5229360"/>
            <a:ext cx="144360" cy="142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73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537372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3737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4869000"/>
            <a:ext cx="1656000" cy="431640"/>
          </a:xfrm>
          <a:custGeom>
            <a:avLst/>
            <a:gdLst>
              <a:gd name="textAreaLeft" fmla="*/ 289800 w 1656000"/>
              <a:gd name="textAreaRight" fmla="*/ 1200600 w 1656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71628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08720" y="1773000"/>
            <a:ext cx="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35640" y="3645000"/>
            <a:ext cx="14436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1700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3716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7162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09080" y="3140280"/>
            <a:ext cx="576360" cy="574560"/>
          </a:xfrm>
          <a:custGeom>
            <a:avLst/>
            <a:gdLst>
              <a:gd name="textAreaLeft" fmla="*/ 192240 w 576360"/>
              <a:gd name="textAreaRight" fmla="*/ 493920 w 57636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201636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755640" y="2349360"/>
            <a:ext cx="1512720" cy="144000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5640" y="3716280"/>
            <a:ext cx="14292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716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6403800">
            <a:off x="2123280" y="2852280"/>
            <a:ext cx="576360" cy="1008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6000" y="6165720"/>
            <a:ext cx="2521080" cy="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96000" y="4508280"/>
            <a:ext cx="1655640" cy="1657080"/>
          </a:xfrm>
          <a:prstGeom prst="line">
            <a:avLst/>
          </a:prstGeom>
          <a:ln w="2844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6093000"/>
            <a:ext cx="142920" cy="1425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4221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609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609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9807600">
            <a:off x="6516360" y="5299920"/>
            <a:ext cx="503280" cy="792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6202440"/>
            <a:ext cx="2449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6000" y="4437000"/>
            <a:ext cx="0" cy="165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Угол это геометрическая фигур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Геометрия наука, возникшая в глубокой древности из потребности практическ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065560" y="1981080"/>
            <a:ext cx="320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А где раньше можно было встретиться с углами?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Tahoma"/>
              </a:rPr>
              <a:t>Астрономы, наблюдавшие за небом и дававшие на основе этих наблюдений указания, когда начинать полевые работы, должны были научиться определять положение звезд на небе. Для этого понадобилось измерять угл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0388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В 6 веке до новой эры Фалес из Милета ответил на трудную задачу египтян: Как найти высоту одной из громадных пирамид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алес нашел простое и красивое решение задачи:    « Когда тень от этой палки будет той же длины, что и сама палка, тень от пирамиды будет иметь ту же длину, что и высота пирамиды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7201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Вернувшись в свой родной город Фалес еще раз удивил всех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ahoma"/>
              </a:rPr>
              <a:t>Далеко от берега стоял на якоре корабль, И он сумел измерить расстояние от берега до корабля, стоя на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8137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6:00:00Z</dcterms:created>
  <dc:creator>admin</dc:creator>
  <dc:description/>
  <dc:language>en-US</dc:language>
  <cp:lastModifiedBy>admin</cp:lastModifiedBy>
  <dcterms:modified xsi:type="dcterms:W3CDTF">2007-03-27T12:00:4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