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55A-35C2-4C69-9300-75DFD416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C47-FF70-4E44-8FC1-B66A5F2F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095-38A0-41D9-9315-04CF6199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55C-9D48-4E13-8FFE-FD563334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0E5-B41B-406B-B914-C98BD796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A99-B990-49F4-9DD3-F1E99C48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F61-E78D-4713-BD7C-A373DEFC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5330-A3B0-48A0-81A3-773586C0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6BA-9465-405B-A02F-DBD84CA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9BF-0B9B-4FF0-A4D7-24019F0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35E-252A-41B0-BD6A-72DA980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E4B-E816-435B-B9E9-2F85F0D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E873-7248-4EAC-971D-7853CE16C1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ldomvybor.ru/index.php" TargetMode="External"/><Relationship Id="rId2" Type="http://schemas.openxmlformats.org/officeDocument/2006/relationships/hyperlink" Target="http://gym6.narod.ru/1/63/ord_1.htm" TargetMode="External"/><Relationship Id="rId3" Type="http://schemas.openxmlformats.org/officeDocument/2006/relationships/hyperlink" Target="http://savok.name/vov/page/4" TargetMode="External"/><Relationship Id="rId4" Type="http://schemas.openxmlformats.org/officeDocument/2006/relationships/hyperlink" Target="http://okeaniya.skazochnaya.ru/" TargetMode="External"/><Relationship Id="rId5" Type="http://schemas.openxmlformats.org/officeDocument/2006/relationships/hyperlink" Target="http://images.yandex.ru/" TargetMode="External"/><Relationship Id="rId6" Type="http://schemas.openxmlformats.org/officeDocument/2006/relationships/hyperlink" Target="http://www.liveinternet.ru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сский парен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парень в Венгрии лежи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её свободу он уб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росился под танк с гранатами ге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погиб, взорвав его с соб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иначе поступить не мог…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пустить фашистов на восток?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его родные и земля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лдомская, русская, своя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есь он бегал в детстве босико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камень тут ему знако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чка звонкая и светлая Дуб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Ширь полей, небес голубизна…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ту землю он пахал и сея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ждый колосок на ней лелея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бирал зерно и молот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равы на лугах её коси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ПАРЕНЬ В Венгрии леж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 свободу всей Земли уб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нчился давно последний 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бессмертны подвиг и герой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0" descr=""/>
          <p:cNvPicPr/>
          <p:nvPr/>
        </p:nvPicPr>
        <p:blipFill>
          <a:blip r:embed="rId1"/>
          <a:stretch/>
        </p:blipFill>
        <p:spPr>
          <a:xfrm>
            <a:off x="6143760" y="4419720"/>
            <a:ext cx="3000240" cy="243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2357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лонимся низко всем нашим дедам и прадедам, отцам и матерям, сестрам и братьям, ковавшим нашу такую долгожданную, но такую нелегкую Победу.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Пламя Вечного огня, зажженного по всей России от Вечного огня у могилы Неизвестного солдата, пламя ваших сердец всегда будет гореть в наших сердцах... </a:t>
            </a:r>
            <a:br>
              <a:rPr sz="18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628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 и источников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смертный подвиг комсомольца Ивана Шишунова // Прикрыли сердцем родину свою: рассказы о героях, воспоминания фронтовиков, жителей Талдом. р-на / сост. и ред. Л.А. Соболева; отв. за вып. Ф.М. Мустафина.– Талдом (Моск. обл.), 2000.– С. 58.– (55 Великой Победы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юков А. Ему было двадцать лет: к 30-летию Великой Победы / А. Дюков // Заря, Талдом.- 1975.- 27 марта.- (Талдомчане в Великой Отечественной войне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алилов С. Сыновья нашего века / С. Палилов // Заря, Талдом.- 1966.- 7 мая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лебянкина Т.А. Русский парень: стихотворение: И.А. Шишунову посвящ. / Т.А. Хлебянкина // Прикрыли сердцем родину свою: рассказы о героях, воспоминания фронтовиков, жителей Талдом. р-на / сост. и ред. Л.А. Соболева; отв. за вып. Ф.М. Мустафина.– Талдом (Моск. обл.), 2000.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С.60.– (55 Великой Победы).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aldomvybor.ru/index.php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ym6.narod.ru/1/63/ord_1.htm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avok.name/vov/page/4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keaniya.skazochnaya.ru</a:t>
            </a:r>
            <a:br>
              <a:rPr sz="1400"/>
            </a:b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mages.yandex.ru</a:t>
            </a:r>
            <a:br>
              <a:rPr sz="1400"/>
            </a:b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liveinternet.ru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ы моего отца:  Шишунова Евгения Викторовича.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23:44:12Z</dcterms:created>
  <dc:creator>Мама</dc:creator>
  <dc:description/>
  <dc:language>en-US</dc:language>
  <cp:lastModifiedBy>Мама</cp:lastModifiedBy>
  <dcterms:modified xsi:type="dcterms:W3CDTF">2011-07-19T00:08:35Z</dcterms:modified>
  <cp:revision>6</cp:revision>
  <dc:subject/>
  <dc:title>Проект  по теме: Герои былых времён моей семьи. Ценою жизни… (3-я часть) </dc:title>
</cp:coreProperties>
</file>