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DD9-5450-4044-B2DF-910B63BC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968-61EF-47A4-A0FB-29D7051F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953A-92C2-45F4-876C-FA1740FE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34B-DE8F-444E-B497-206DA90D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E3E-100C-4250-80B3-75DC40F7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44B-3C9C-4233-A317-3058505D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FF3-E8DF-4AE6-A6C8-1F19FD29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97C8-E4FD-4067-B88C-884F90ED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370-6D41-4C70-8079-F2C03EA5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362-2D88-4DB7-88B0-134F6572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41B3-AB1E-464A-9DCC-A7092667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DCC-7A91-468E-9C94-38C46E06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2CAB-F90C-4D22-9A30-F322156C1E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ldomvybor.ru/index.php" TargetMode="External"/><Relationship Id="rId2" Type="http://schemas.openxmlformats.org/officeDocument/2006/relationships/hyperlink" Target="http://gym6.narod.ru/1/63/ord_1.htm" TargetMode="External"/><Relationship Id="rId3" Type="http://schemas.openxmlformats.org/officeDocument/2006/relationships/hyperlink" Target="http://savok.name/vov/page/4" TargetMode="External"/><Relationship Id="rId4" Type="http://schemas.openxmlformats.org/officeDocument/2006/relationships/hyperlink" Target="http://okeaniya.skazochnaya.ru/" TargetMode="External"/><Relationship Id="rId5" Type="http://schemas.openxmlformats.org/officeDocument/2006/relationships/hyperlink" Target="http://images.yandex.ru/" TargetMode="External"/><Relationship Id="rId6" Type="http://schemas.openxmlformats.org/officeDocument/2006/relationships/hyperlink" Target="http://www.liveinternet.ru/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усский парен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сский парень в Венгрии лежит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 её свободу он уби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росился под танк с гранатами гер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погиб, взорвав его с собо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иначе поступить не мог…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пустить фашистов на восток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м его родные и земля –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лдомская, русская, своя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десь он бегал в детстве босико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ждый камень тут ему знаком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чка звонкая и светлая Дубн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Ширь полей, небес голубизна…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у землю он пахал и сея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ждый колосок на ней лелея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бирал зерно и молоти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Травы на лугах её косил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ССКИЙ ПАРЕНЬ В Венгрии лежи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 свободу всей Земли уби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нчился давно последний б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 бессмертны подвиг и герой!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10" descr=""/>
          <p:cNvPicPr/>
          <p:nvPr/>
        </p:nvPicPr>
        <p:blipFill>
          <a:blip r:embed="rId1"/>
          <a:stretch/>
        </p:blipFill>
        <p:spPr>
          <a:xfrm>
            <a:off x="6143760" y="4419720"/>
            <a:ext cx="3000240" cy="243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23572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клонимся низко всем нашим дедам и прадедам, отцам и матерям, сестрам и братьям, ковавшим нашу такую долгожданную, но такую нелегкую Победу.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ламя Вечного огня, зажженного по всей России от Вечного огня у могилы Неизвестного солдата, пламя ваших сердец всегда будет гореть в наших сердцах... 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"/>
          <p:cNvPicPr/>
          <p:nvPr/>
        </p:nvPicPr>
        <p:blipFill>
          <a:blip r:embed="rId1"/>
          <a:stretch/>
        </p:blipFill>
        <p:spPr>
          <a:xfrm>
            <a:off x="1714680" y="2786040"/>
            <a:ext cx="6286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 и источников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ссмертный подвиг комсомольца Ивана Шишунова // Прикрыли сердцем родину свою: рассказы о героях, воспоминания фронтовиков, жителей Талдом. р-на / сост. и ред. Л.А. Соболева; отв. за вып. Ф.М. Мустафина.– Талдом (Моск. обл.), 2000.– С. 58.– (55 Великой Победы)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юков А. Ему было двадцать лет: к 30-летию Великой Победы / А. Дюков // Заря, Талдом.- 1975.- 27 марта.- (Талдомчане в Великой Отечественной войне)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алилов С. Сыновья нашего века / С. Палилов // Заря, Талдом.- 1966.- 7 мая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лебянкина Т.А. Русский парень: стихотворение: И.А. Шишунову посвящ. / Т.А. Хлебянкина // Прикрыли сердцем родину свою: рассказы о героях, воспоминания фронтовиков, жителей Талдом. р-на / сост. и ред. Л.А. Соболева; отв. за вып. Ф.М. Мустафина.– Талдом (Моск. обл.), 2000.–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С.60.– (55 Великой Победы).</a:t>
            </a:r>
            <a:br>
              <a:rPr sz="1400"/>
            </a:b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aldomvybor.ru/index.php</a:t>
            </a:r>
            <a:br>
              <a:rPr sz="1400"/>
            </a:b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gym6.narod.ru/1/63/ord_1.htm</a:t>
            </a:r>
            <a:br>
              <a:rPr sz="1400"/>
            </a:b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avok.name/vov/page/4</a:t>
            </a:r>
            <a:br>
              <a:rPr sz="1400"/>
            </a:b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okeaniya.skazochnaya.ru</a:t>
            </a:r>
            <a:br>
              <a:rPr sz="1400"/>
            </a:b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images.yandex.ru</a:t>
            </a:r>
            <a:br>
              <a:rPr sz="1400"/>
            </a:b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liveinternet.ru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казы моего отца:  Шишунова Евгения Викторовича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23:44:12Z</dcterms:created>
  <dc:creator>Мама</dc:creator>
  <dc:description/>
  <dc:language>en-US</dc:language>
  <cp:lastModifiedBy>Мама</cp:lastModifiedBy>
  <dcterms:modified xsi:type="dcterms:W3CDTF">2011-07-19T00:08:35Z</dcterms:modified>
  <cp:revision>6</cp:revision>
  <dc:subject/>
  <dc:title>Проект  по теме: Герои былых времён моей семьи. Ценою жизни… (3-я часть) </dc:title>
</cp:coreProperties>
</file>