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486-99BE-451E-A2A7-FA7628AD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81B-349E-4AD3-A1DF-1DDE195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AD4-733A-4BB5-A720-61031C91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500-0E07-4A1C-AFDD-CA41C9D5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FFD-F95C-4763-A767-E945088B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307-1CF0-48A8-85EC-F24F1765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138-EA4B-4E8E-A4E1-0296B52A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8A2-47EB-4D34-A2E6-473A482F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C95-3B74-4E14-991F-A8AA83FF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7A7-5D48-4DBB-8501-DFBCD6ED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9C3-B6E1-4073-BE75-ECC98915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777-BFA4-4F2E-B07B-D64E794C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D193-6170-4FF8-8D0B-78DEB24E6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hyperlink" Target="file:///&#1047;&#1048;&#1059;.doc" TargetMode="External"/><Relationship Id="rId4" Type="http://schemas.openxmlformats.org/officeDocument/2006/relationships/hyperlink" Target="file:///&#1074;&#1074;&#1086;&#1076;&#1085;&#1072;&#1103;%20&#1072;&#1085;&#1082;&#1077;&#1090;&#1072;%20&#1076;&#1083;&#1103;%20&#1091;&#1095;&#1072;&#1097;&#1080;&#1093;&#1089;&#1103;.doc" TargetMode="External"/><Relationship Id="rId5" Type="http://schemas.openxmlformats.org/officeDocument/2006/relationships/hyperlink" Target="file:///&#1051;&#1080;&#1089;&#1090;%20&#1087;&#1083;&#1072;&#1085;&#1080;&#1088;&#1086;&#1074;&#1072;&#1085;&#1080;&#1103;.doc" TargetMode="External"/><Relationship Id="rId6" Type="http://schemas.openxmlformats.org/officeDocument/2006/relationships/hyperlink" Target="file:///&#1057;&#1086;&#1074;&#1077;&#1090;&#1099;%20&#1076;&#1083;&#1103;%20&#1084;&#1086;&#1090;&#1080;&#1074;&#1072;&#1094;&#1080;&#1080;%20&#1085;&#1072;&#1076;%20&#1087;&#1088;&#1086;&#1077;&#1082;&#1090;&#1086;&#1084;.doc" TargetMode="External"/><Relationship Id="rId7" Type="http://schemas.openxmlformats.org/officeDocument/2006/relationships/hyperlink" Target="file:///&#1041;&#1083;&#1072;&#1085;&#1082;%20&#1086;&#1094;&#1077;&#1085;&#1080;&#1074;&#1072;&#1085;&#1080;&#1103;%20&#1089;&#1073;&#1086;&#1088;&#1072;%20&#1076;&#1072;&#1085;&#1085;&#1099;&#1093;.doc" TargetMode="External"/><Relationship Id="rId8" Type="http://schemas.openxmlformats.org/officeDocument/2006/relationships/hyperlink" Target="file:///&#1082;&#1088;&#1080;&#1090;&#1077;&#1088;&#1080;&#1080;%20&#1086;&#1094;&#1077;&#1085;&#1080;&#1074;&#1072;&#1085;&#1080;&#1103;%20&#1087;&#1088;&#1077;&#1079;&#1077;&#1085;&#1090;&#1072;&#1094;&#1080;&#1080;.doc" TargetMode="External"/><Relationship Id="rId9" Type="http://schemas.openxmlformats.org/officeDocument/2006/relationships/hyperlink" Target="file:///&#1082;&#1088;&#1080;&#1090;&#1077;&#1088;&#1080;&#1080;%20&#1086;&#1094;&#1077;&#1085;&#1080;&#1074;&#1072;&#1085;&#1080;&#1103;%20&#1089;&#1090;&#1072;&#1090;&#1100;&#1080;.doc" TargetMode="External"/><Relationship Id="rId10" Type="http://schemas.openxmlformats.org/officeDocument/2006/relationships/hyperlink" Target="file:///&#1082;&#1088;&#1080;&#1090;&#1077;&#1088;&#1080;&#1080;%20&#1086;&#1094;&#1077;&#1085;&#1080;&#1074;&#1072;&#1085;&#1080;&#1103;%20&#1073;&#1091;&#1082;&#1083;&#1077;&#1090;&#1072;.doc" TargetMode="External"/><Relationship Id="rId11" Type="http://schemas.openxmlformats.org/officeDocument/2006/relationships/hyperlink" Target="file:///&#1041;&#1083;&#1072;&#1085;&#1082;%20&#1088;&#1091;&#1073;&#1088;&#1080;&#1082;%20&#1086;&#1087;&#1088;&#1077;&#1076;&#1077;&#1083;&#1077;&#1085;&#1080;&#1103;%20&#1080;%20&#1086;&#1087;&#1080;&#1089;&#1072;&#1085;&#1080;&#1103;%20&#1087;&#1088;&#1086;&#1073;&#1083;&#1077;&#1084;&#1099;.doc" TargetMode="External"/><Relationship Id="rId12" Type="http://schemas.openxmlformats.org/officeDocument/2006/relationships/hyperlink" Target="file:///&#1041;&#1083;&#1072;&#1085;&#1082;%20&#1089;&#1086;&#1074;&#1084;&#1077;&#1089;&#1090;&#1085;&#1086;&#1081;%20&#1088;&#1072;&#1073;&#1086;&#1090;&#1099;.doc" TargetMode="External"/><Relationship Id="rId13" Type="http://schemas.openxmlformats.org/officeDocument/2006/relationships/hyperlink" Target="file:///&#1041;&#1083;&#1072;&#1085;&#1082;%20&#1089;&#1086;&#1074;&#1084;&#1077;&#1089;&#1090;&#1085;&#1086;&#1081;%20&#1088;&#1072;&#1073;&#1086;&#1090;&#1099;.doc" TargetMode="External"/><Relationship Id="rId14" Type="http://schemas.openxmlformats.org/officeDocument/2006/relationships/hyperlink" Target="file:///&#1048;&#1090;&#1086;&#1075;&#1086;&#1074;&#1072;&#1103;%20&#1072;&#1085;&#1082;&#1077;&#1090;&#1072;%20&#1076;&#1083;&#1103;%20&#1091;&#1095;&#1072;&#1097;&#1080;&#1093;&#1089;&#1103;.doc" TargetMode="External"/><Relationship Id="rId15" Type="http://schemas.openxmlformats.org/officeDocument/2006/relationships/hyperlink" Target="file:///&#1048;&#1090;&#1086;&#1075;&#1086;&#1074;&#1072;&#1103;%20&#1072;&#1085;&#1082;&#1077;&#1090;&#1072;%20&#1076;&#1083;&#1103;%20&#1091;&#1095;&#1072;&#1097;&#1080;&#1093;&#1089;&#1103;.doc" TargetMode="External"/><Relationship Id="rId16" Type="http://schemas.openxmlformats.org/officeDocument/2006/relationships/hyperlink" Target="file:///&#1078;&#1091;&#1088;&#1085;&#1072;&#1083;%20&#1089;&#1072;&#1084;&#1086;&#1094;&#1077;&#1085;&#1082;&#1080;%20&#1075;&#1088;&#1091;&#1087;&#1087;&#1099;.doc" TargetMode="External"/><Relationship Id="rId17" Type="http://schemas.openxmlformats.org/officeDocument/2006/relationships/hyperlink" Target="file:///&#1056;&#1077;&#1092;&#1083;&#1077;&#1082;&#1089;&#1080;&#1103;.doc" TargetMode="External"/><Relationship Id="rId18" Type="http://schemas.openxmlformats.org/officeDocument/2006/relationships/hyperlink" Target="file:///&#1088;&#1091;&#1073;&#1088;&#1080;&#1082;&#1072;%20&#1086;&#1094;&#1077;&#1085;&#1080;&#1074;&#1072;&#1085;&#1080;&#1103;%20&#1091;&#1073;&#1077;&#1076;&#1080;&#1090;&#1077;&#1083;&#1100;&#1085;&#1086;&#1089;&#1090;&#1080;%20&#1088;&#1077;&#1095;&#1080;.doc" TargetMode="External"/><Relationship Id="rId19" Type="http://schemas.openxmlformats.org/officeDocument/2006/relationships/hyperlink" Target="file:///&#1088;&#1091;&#1073;&#1088;&#1080;&#1082;&#1072;%20&#1086;&#1094;&#1077;&#1085;&#1080;&#1074;&#1072;&#1085;&#1080;&#1103;%20&#1091;&#1073;&#1077;&#1076;&#1080;&#1090;&#1077;&#1083;&#1100;&#1085;&#1086;&#1089;&#1090;&#1080;%20&#1088;&#1077;&#1095;&#1080;.doc" TargetMode="External"/><Relationship Id="rId2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d4f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87"/>
          <p:cNvGrpSpPr/>
          <p:nvPr/>
        </p:nvGrpSpPr>
        <p:grpSpPr>
          <a:xfrm>
            <a:off x="-828720" y="-6840"/>
            <a:ext cx="8591400" cy="6723720"/>
            <a:chOff x="-828720" y="-6840"/>
            <a:chExt cx="8591400" cy="6723720"/>
          </a:xfrm>
        </p:grpSpPr>
        <p:grpSp>
          <p:nvGrpSpPr>
            <p:cNvPr id="42" name="Полилиния 382"/>
            <p:cNvGrpSpPr/>
            <p:nvPr/>
          </p:nvGrpSpPr>
          <p:grpSpPr>
            <a:xfrm>
              <a:off x="-488520" y="-6840"/>
              <a:ext cx="8251200" cy="3590280"/>
              <a:chOff x="-488520" y="-6840"/>
              <a:chExt cx="8251200" cy="3590280"/>
            </a:xfrm>
          </p:grpSpPr>
          <p:pic>
            <p:nvPicPr>
              <p:cNvPr id="43" name="Полилиния 382" descr=""/>
              <p:cNvPicPr/>
              <p:nvPr/>
            </p:nvPicPr>
            <p:blipFill>
              <a:blip r:embed="rId1"/>
              <a:stretch/>
            </p:blipFill>
            <p:spPr>
              <a:xfrm>
                <a:off x="-357840" y="-3240"/>
                <a:ext cx="8115840" cy="358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 rot="1218600">
                <a:off x="-641160" y="1458000"/>
                <a:ext cx="855720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Полилиния 383"/>
            <p:cNvGrpSpPr/>
            <p:nvPr/>
          </p:nvGrpSpPr>
          <p:grpSpPr>
            <a:xfrm>
              <a:off x="-132480" y="226440"/>
              <a:ext cx="7531920" cy="4505760"/>
              <a:chOff x="-132480" y="226440"/>
              <a:chExt cx="7531920" cy="4505760"/>
            </a:xfrm>
          </p:grpSpPr>
          <p:pic>
            <p:nvPicPr>
              <p:cNvPr id="46" name="Полилиния 383" descr=""/>
              <p:cNvPicPr/>
              <p:nvPr/>
            </p:nvPicPr>
            <p:blipFill>
              <a:blip r:embed="rId2"/>
              <a:stretch/>
            </p:blipFill>
            <p:spPr>
              <a:xfrm>
                <a:off x="44640" y="226440"/>
                <a:ext cx="7337880" cy="450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1635000">
                <a:off x="-434880" y="2144160"/>
                <a:ext cx="813672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Полилиния 384"/>
            <p:cNvGrpSpPr/>
            <p:nvPr/>
          </p:nvGrpSpPr>
          <p:grpSpPr>
            <a:xfrm>
              <a:off x="194760" y="462600"/>
              <a:ext cx="6497640" cy="5482080"/>
              <a:chOff x="194760" y="462600"/>
              <a:chExt cx="6497640" cy="5482080"/>
            </a:xfrm>
          </p:grpSpPr>
          <p:pic>
            <p:nvPicPr>
              <p:cNvPr id="49" name="Полилиния 384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080" y="462600"/>
                <a:ext cx="6238800" cy="548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2119800">
                <a:off x="-307440" y="2863800"/>
                <a:ext cx="750276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Полилиния 385"/>
            <p:cNvGrpSpPr/>
            <p:nvPr/>
          </p:nvGrpSpPr>
          <p:grpSpPr>
            <a:xfrm>
              <a:off x="-10080" y="232560"/>
              <a:ext cx="5138280" cy="6484320"/>
              <a:chOff x="-10080" y="232560"/>
              <a:chExt cx="5138280" cy="6484320"/>
            </a:xfrm>
          </p:grpSpPr>
          <p:pic>
            <p:nvPicPr>
              <p:cNvPr id="52" name="Полилиния 385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200" y="232560"/>
                <a:ext cx="4810320" cy="648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683800">
                <a:off x="-734760" y="3135240"/>
                <a:ext cx="658800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386"/>
            <p:cNvGrpSpPr/>
            <p:nvPr/>
          </p:nvGrpSpPr>
          <p:grpSpPr>
            <a:xfrm>
              <a:off x="-828720" y="446760"/>
              <a:ext cx="4478760" cy="5845320"/>
              <a:chOff x="-828720" y="446760"/>
              <a:chExt cx="4478760" cy="5845320"/>
            </a:xfrm>
          </p:grpSpPr>
          <p:pic>
            <p:nvPicPr>
              <p:cNvPr id="55" name="Полилиния 386" descr=""/>
              <p:cNvPicPr/>
              <p:nvPr/>
            </p:nvPicPr>
            <p:blipFill>
              <a:blip r:embed="rId5"/>
              <a:stretch/>
            </p:blipFill>
            <p:spPr>
              <a:xfrm>
                <a:off x="-828720" y="514800"/>
                <a:ext cx="4478760" cy="573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3406800">
                <a:off x="-2018520" y="3029040"/>
                <a:ext cx="654156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Группа 218"/>
          <p:cNvGrpSpPr/>
          <p:nvPr/>
        </p:nvGrpSpPr>
        <p:grpSpPr>
          <a:xfrm>
            <a:off x="0" y="3774960"/>
            <a:ext cx="9248760" cy="3083040"/>
            <a:chOff x="0" y="3774960"/>
            <a:chExt cx="9248760" cy="3083040"/>
          </a:xfrm>
        </p:grpSpPr>
        <p:grpSp>
          <p:nvGrpSpPr>
            <p:cNvPr id="58" name="Полилиния 116"/>
            <p:cNvGrpSpPr/>
            <p:nvPr/>
          </p:nvGrpSpPr>
          <p:grpSpPr>
            <a:xfrm>
              <a:off x="54720" y="5534640"/>
              <a:ext cx="9169920" cy="1323360"/>
              <a:chOff x="54720" y="5534640"/>
              <a:chExt cx="9169920" cy="1323360"/>
            </a:xfrm>
          </p:grpSpPr>
          <p:pic>
            <p:nvPicPr>
              <p:cNvPr id="59" name="Полилиния 116" descr=""/>
              <p:cNvPicPr/>
              <p:nvPr/>
            </p:nvPicPr>
            <p:blipFill>
              <a:blip r:embed="rId6"/>
              <a:stretch/>
            </p:blipFill>
            <p:spPr>
              <a:xfrm>
                <a:off x="54720" y="5684040"/>
                <a:ext cx="9169920" cy="11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70560" y="5534640"/>
                <a:ext cx="9140040" cy="13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Группа 119"/>
            <p:cNvGrpSpPr/>
            <p:nvPr/>
          </p:nvGrpSpPr>
          <p:grpSpPr>
            <a:xfrm>
              <a:off x="511200" y="4059360"/>
              <a:ext cx="1107360" cy="1702080"/>
              <a:chOff x="511200" y="4059360"/>
              <a:chExt cx="1107360" cy="1702080"/>
            </a:xfrm>
          </p:grpSpPr>
          <p:grpSp>
            <p:nvGrpSpPr>
              <p:cNvPr id="62" name="Равнобедренный треугольник 117"/>
              <p:cNvGrpSpPr/>
              <p:nvPr/>
            </p:nvGrpSpPr>
            <p:grpSpPr>
              <a:xfrm>
                <a:off x="894600" y="4554720"/>
                <a:ext cx="212760" cy="819000"/>
                <a:chOff x="894600" y="4554720"/>
                <a:chExt cx="212760" cy="819000"/>
              </a:xfrm>
            </p:grpSpPr>
            <p:pic>
              <p:nvPicPr>
                <p:cNvPr id="63" name="Равнобедренный треугольник 1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94600" y="4554720"/>
                  <a:ext cx="21276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>
                  <a:off x="955800" y="4966920"/>
                  <a:ext cx="936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Полилиния 118"/>
              <p:cNvGrpSpPr/>
              <p:nvPr/>
            </p:nvGrpSpPr>
            <p:grpSpPr>
              <a:xfrm>
                <a:off x="511200" y="4059360"/>
                <a:ext cx="1107360" cy="1702080"/>
                <a:chOff x="511200" y="4059360"/>
                <a:chExt cx="1107360" cy="1702080"/>
              </a:xfrm>
            </p:grpSpPr>
            <p:pic>
              <p:nvPicPr>
                <p:cNvPr id="66" name="Полилиния 1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11200" y="4125240"/>
                  <a:ext cx="1107360" cy="163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532440" y="4059360"/>
                  <a:ext cx="969120" cy="12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" name="Группа 120"/>
            <p:cNvGrpSpPr/>
            <p:nvPr/>
          </p:nvGrpSpPr>
          <p:grpSpPr>
            <a:xfrm>
              <a:off x="7927200" y="4557240"/>
              <a:ext cx="927000" cy="1327320"/>
              <a:chOff x="7927200" y="4557240"/>
              <a:chExt cx="927000" cy="1327320"/>
            </a:xfrm>
          </p:grpSpPr>
          <p:grpSp>
            <p:nvGrpSpPr>
              <p:cNvPr id="69" name="Равнобедренный треугольник 121"/>
              <p:cNvGrpSpPr/>
              <p:nvPr/>
            </p:nvGrpSpPr>
            <p:grpSpPr>
              <a:xfrm>
                <a:off x="8245800" y="4861080"/>
                <a:ext cx="166680" cy="682200"/>
                <a:chOff x="8245800" y="4861080"/>
                <a:chExt cx="166680" cy="682200"/>
              </a:xfrm>
            </p:grpSpPr>
            <p:pic>
              <p:nvPicPr>
                <p:cNvPr id="70" name="Равнобедренный треугольник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245800" y="4861080"/>
                  <a:ext cx="166680" cy="68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>
                  <a:off x="8296200" y="5203440"/>
                  <a:ext cx="720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Полилиния 122"/>
              <p:cNvGrpSpPr/>
              <p:nvPr/>
            </p:nvGrpSpPr>
            <p:grpSpPr>
              <a:xfrm>
                <a:off x="7927200" y="4557240"/>
                <a:ext cx="927000" cy="1327320"/>
                <a:chOff x="7927200" y="4557240"/>
                <a:chExt cx="927000" cy="1327320"/>
              </a:xfrm>
            </p:grpSpPr>
            <p:pic>
              <p:nvPicPr>
                <p:cNvPr id="73" name="Полилиния 12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27200" y="4602240"/>
                  <a:ext cx="927000" cy="128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7970040" y="4557240"/>
                  <a:ext cx="747360" cy="89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" name="Группа 123"/>
            <p:cNvGrpSpPr/>
            <p:nvPr/>
          </p:nvGrpSpPr>
          <p:grpSpPr>
            <a:xfrm>
              <a:off x="4575600" y="3774960"/>
              <a:ext cx="1354680" cy="1959120"/>
              <a:chOff x="4575600" y="3774960"/>
              <a:chExt cx="1354680" cy="1959120"/>
            </a:xfrm>
          </p:grpSpPr>
          <p:grpSp>
            <p:nvGrpSpPr>
              <p:cNvPr id="76" name="Равнобедренный треугольник 124"/>
              <p:cNvGrpSpPr/>
              <p:nvPr/>
            </p:nvGrpSpPr>
            <p:grpSpPr>
              <a:xfrm>
                <a:off x="5038560" y="4355640"/>
                <a:ext cx="277920" cy="974520"/>
                <a:chOff x="5038560" y="4355640"/>
                <a:chExt cx="277920" cy="974520"/>
              </a:xfrm>
            </p:grpSpPr>
            <p:pic>
              <p:nvPicPr>
                <p:cNvPr id="77" name="Равнобедренный треугольник 12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038560" y="4355640"/>
                  <a:ext cx="27792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"/>
                <p:cNvSpPr/>
                <p:nvPr/>
              </p:nvSpPr>
              <p:spPr>
                <a:xfrm>
                  <a:off x="5121000" y="4843800"/>
                  <a:ext cx="1245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Полилиния 125"/>
              <p:cNvGrpSpPr/>
              <p:nvPr/>
            </p:nvGrpSpPr>
            <p:grpSpPr>
              <a:xfrm>
                <a:off x="4575600" y="3774960"/>
                <a:ext cx="1354680" cy="1959120"/>
                <a:chOff x="4575600" y="3774960"/>
                <a:chExt cx="1354680" cy="1959120"/>
              </a:xfrm>
            </p:grpSpPr>
            <p:pic>
              <p:nvPicPr>
                <p:cNvPr id="80" name="Полилиния 12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592520" y="3856680"/>
                  <a:ext cx="1337760" cy="187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4575600" y="3774960"/>
                  <a:ext cx="1272960" cy="14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Полилиния 115"/>
            <p:cNvGrpSpPr/>
            <p:nvPr/>
          </p:nvGrpSpPr>
          <p:grpSpPr>
            <a:xfrm>
              <a:off x="0" y="5917320"/>
              <a:ext cx="9248760" cy="940680"/>
              <a:chOff x="0" y="5917320"/>
              <a:chExt cx="9248760" cy="940680"/>
            </a:xfrm>
          </p:grpSpPr>
          <p:pic>
            <p:nvPicPr>
              <p:cNvPr id="83" name="Полилиния 115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5973120"/>
                <a:ext cx="9248760" cy="8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8000" y="5917320"/>
                <a:ext cx="9230760" cy="92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98560" y="628128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 проекта: Павлова Фаи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640" y="1700280"/>
            <a:ext cx="802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Magneto"/>
              </a:rPr>
              <a:t>С лукошком за гриб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250920" y="5373720"/>
            <a:ext cx="927000" cy="1171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8458200" y="0"/>
            <a:ext cx="685800" cy="866880"/>
          </a:xfrm>
          <a:prstGeom prst="rect">
            <a:avLst/>
          </a:prstGeom>
          <a:ln w="0">
            <a:noFill/>
          </a:ln>
        </p:spPr>
      </p:pic>
      <p:grpSp>
        <p:nvGrpSpPr>
          <p:cNvPr id="89" name="Облако 107"/>
          <p:cNvGrpSpPr/>
          <p:nvPr/>
        </p:nvGrpSpPr>
        <p:grpSpPr>
          <a:xfrm>
            <a:off x="1476360" y="404640"/>
            <a:ext cx="2736720" cy="454320"/>
            <a:chOff x="1476360" y="404640"/>
            <a:chExt cx="2736720" cy="454320"/>
          </a:xfrm>
        </p:grpSpPr>
        <p:pic>
          <p:nvPicPr>
            <p:cNvPr id="90" name="Облако 107" descr=""/>
            <p:cNvPicPr/>
            <p:nvPr/>
          </p:nvPicPr>
          <p:blipFill>
            <a:blip r:embed="rId16"/>
            <a:stretch/>
          </p:blipFill>
          <p:spPr>
            <a:xfrm>
              <a:off x="1476360" y="404640"/>
              <a:ext cx="273672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867320" y="479160"/>
              <a:ext cx="177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Облако 106"/>
          <p:cNvGrpSpPr/>
          <p:nvPr/>
        </p:nvGrpSpPr>
        <p:grpSpPr>
          <a:xfrm>
            <a:off x="4140360" y="333360"/>
            <a:ext cx="3278160" cy="385920"/>
            <a:chOff x="4140360" y="333360"/>
            <a:chExt cx="3278160" cy="385920"/>
          </a:xfrm>
        </p:grpSpPr>
        <p:pic>
          <p:nvPicPr>
            <p:cNvPr id="93" name="Облако 106" descr=""/>
            <p:cNvPicPr/>
            <p:nvPr/>
          </p:nvPicPr>
          <p:blipFill>
            <a:blip r:embed="rId17"/>
            <a:stretch/>
          </p:blipFill>
          <p:spPr>
            <a:xfrm>
              <a:off x="4140360" y="333360"/>
              <a:ext cx="32781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03680" y="397080"/>
              <a:ext cx="21240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Овал 393"/>
          <p:cNvGrpSpPr/>
          <p:nvPr/>
        </p:nvGrpSpPr>
        <p:grpSpPr>
          <a:xfrm>
            <a:off x="0" y="0"/>
            <a:ext cx="1438200" cy="1371600"/>
            <a:chOff x="0" y="0"/>
            <a:chExt cx="1438200" cy="1371600"/>
          </a:xfrm>
        </p:grpSpPr>
        <p:pic>
          <p:nvPicPr>
            <p:cNvPr id="96" name="Овал 393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1438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15640" y="204840"/>
              <a:ext cx="100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0" y="5373720"/>
            <a:ext cx="5014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0"/>
          <a:stretch/>
        </p:blipFill>
        <p:spPr>
          <a:xfrm>
            <a:off x="324000" y="5589720"/>
            <a:ext cx="50148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1"/>
          <a:stretch/>
        </p:blipFill>
        <p:spPr>
          <a:xfrm>
            <a:off x="611280" y="5589720"/>
            <a:ext cx="50148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2"/>
          <a:stretch/>
        </p:blipFill>
        <p:spPr>
          <a:xfrm>
            <a:off x="8532720" y="260280"/>
            <a:ext cx="331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4568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105264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Monotype Corsiva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381400"/>
            <a:ext cx="7129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Творческое название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onotype Corsiva"/>
              </a:rPr>
              <a:t>С лукошком за гриб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Предмет:</a:t>
            </a: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  Окружающий мир, б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38048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Участ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70028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onotype Corsiva"/>
              </a:rPr>
              <a:t>Царство гриб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82920" y="4941720"/>
            <a:ext cx="53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Monotype Corsiva"/>
              </a:rPr>
              <a:t>Учащиеся  пришкольного интерната МОУ «Чихачев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308720" y="0"/>
            <a:ext cx="1451160" cy="183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5353200"/>
            <a:ext cx="2666880" cy="150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908000" y="5589720"/>
            <a:ext cx="5018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Ожидаемые результаты: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завершения проекта учащиеся научатся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ностные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важительно относиться к родному краю, природе нашей стран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овать для решения познавательных и коммуникативных задач различные источники информации (словари, энциклопедии, Интернет-ресурсы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завершения проекта учащиеся науча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а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ть проблему, поставленную воспитател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ть компетентность в сфере самостоятельной познавательной деяте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тически мысл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стоятельно организовывать собственную деятельность, оценивать ее, определять сферу своих интерес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ать с разными источниками информации, находить ее, анализировать, использовать в самостоятельной деятельности: создавать презентации, документы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S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ord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S Publish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S Power Poi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мещать их в сети Интер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 того, чтоб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чать съедобные и ядовитые гриб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навать какую пользу приносят ядовитые грибы и где они используют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навать виды гриб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азывать  первую  помощь  при  отравлении  гриб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готовить  простейшие блюда из гриб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 охранять грибное царство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знакомиться с правилами сбора гриб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завершения проекта учащиеся должны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ль грибов в природе и жизни человека, особенности строения, правила сбора и хра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меть выделять признаки грибов ,отличать их от других царств живой природы, уметь отличать съедобные грибы от несъедобн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завершения проекта учащиеся должны уме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водить примеры представителей разных видов гриб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крывать особенности их внешнего ви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авливать зависимость между поведением людей в природе и его последствиями; оценивать воздействие человека на природу (положительное и отрицательное), выполнять правила поведения в приро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План оценивания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836640"/>
          <a:ext cx="8351640" cy="6048360"/>
        </p:xfrm>
        <a:graphic>
          <a:graphicData uri="http://schemas.openxmlformats.org/drawingml/2006/table">
            <a:tbl>
              <a:tblPr/>
              <a:tblGrid>
                <a:gridCol w="1871640"/>
                <a:gridCol w="4254480"/>
                <a:gridCol w="222552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начала проек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ходе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завершения проек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«Мозговой штур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 по материал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овой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умать- Объединяться- Дел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Таблица З–И–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Вводная анкета для учащихся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бсуждение плана проведения проек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ое обсуждение предложенной информации. (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Лист планирова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амят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Советы для мотивации над проек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, отбор и изучение необходимой информации в научной литературе и се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(Памятка – поиск информ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амооценка качества проведенного исследования. (Формирующее 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оценивание сбора данных и их интерпретац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ценивание навыков работы над проек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Оценочные листы для групп учащихся для создания 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презентац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вики-стать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букле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Демонстрация результатов проделанной работы каждой проектной группой. (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Бланк рубрик определения и описания проблемы 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ланировани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7. Самооценка совместной работы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Промежуточная таб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Защита проекта учащихся. Итоговое оценивание учени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формление результатов анкет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Итоговая анкета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Журнал самооценки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Рефлекс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Итоговое заня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Написание эсс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Итоговое оценивание навыков устного выступления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56000" y="549360"/>
            <a:ext cx="46972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4360" y="750960"/>
            <a:ext cx="633708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, 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24:36Z</dcterms:created>
  <dc:creator>фам</dc:creator>
  <dc:description/>
  <dc:language>en-US</dc:language>
  <cp:lastModifiedBy>Фёдорова</cp:lastModifiedBy>
  <dcterms:modified xsi:type="dcterms:W3CDTF">2010-12-08T18:54:23Z</dcterms:modified>
  <cp:revision>50</cp:revision>
  <dc:subject/>
  <dc:title>Слайд 1</dc:title>
</cp:coreProperties>
</file>