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2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5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EA9A-59F1-4F8C-A1F2-1EB456F8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EA89-C027-4288-82A0-3BBCCF4F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6D9C-A472-41E1-85CD-A341DF55A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05A9-D73A-403F-97AC-FE78C06C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C43A-F24C-44BB-8374-3AACD511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DA8B-5414-4E7B-864C-CD809ED2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6674-4747-46CC-8419-9A7E78C7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69DC-0A79-40F2-B675-9C8CA3AA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8D4E-BA08-42A6-A289-16F380C9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26E1-8544-4007-9B98-637A0418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2926-E18F-475F-B354-53EBF047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0C68-5CEF-4048-B8E5-D3801FFC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5EE9-626D-4DCA-B06B-A02500B43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9.wmf"/><Relationship Id="rId3" Type="http://schemas.openxmlformats.org/officeDocument/2006/relationships/hyperlink" Target="file:///&#1047;&#1048;&#1059;.doc" TargetMode="External"/><Relationship Id="rId4" Type="http://schemas.openxmlformats.org/officeDocument/2006/relationships/hyperlink" Target="file:///&#1074;&#1074;&#1086;&#1076;&#1085;&#1072;&#1103;%20&#1072;&#1085;&#1082;&#1077;&#1090;&#1072;%20&#1076;&#1083;&#1103;%20&#1091;&#1095;&#1072;&#1097;&#1080;&#1093;&#1089;&#1103;.doc" TargetMode="External"/><Relationship Id="rId5" Type="http://schemas.openxmlformats.org/officeDocument/2006/relationships/hyperlink" Target="file:///&#1051;&#1080;&#1089;&#1090;%20&#1087;&#1083;&#1072;&#1085;&#1080;&#1088;&#1086;&#1074;&#1072;&#1085;&#1080;&#1103;.doc" TargetMode="External"/><Relationship Id="rId6" Type="http://schemas.openxmlformats.org/officeDocument/2006/relationships/hyperlink" Target="file:///&#1057;&#1086;&#1074;&#1077;&#1090;&#1099;%20&#1076;&#1083;&#1103;%20&#1084;&#1086;&#1090;&#1080;&#1074;&#1072;&#1094;&#1080;&#1080;%20&#1085;&#1072;&#1076;%20&#1087;&#1088;&#1086;&#1077;&#1082;&#1090;&#1086;&#1084;.doc" TargetMode="External"/><Relationship Id="rId7" Type="http://schemas.openxmlformats.org/officeDocument/2006/relationships/hyperlink" Target="file:///&#1041;&#1083;&#1072;&#1085;&#1082;%20&#1086;&#1094;&#1077;&#1085;&#1080;&#1074;&#1072;&#1085;&#1080;&#1103;%20&#1089;&#1073;&#1086;&#1088;&#1072;%20&#1076;&#1072;&#1085;&#1085;&#1099;&#1093;.doc" TargetMode="External"/><Relationship Id="rId8" Type="http://schemas.openxmlformats.org/officeDocument/2006/relationships/hyperlink" Target="file:///&#1082;&#1088;&#1080;&#1090;&#1077;&#1088;&#1080;&#1080;%20&#1086;&#1094;&#1077;&#1085;&#1080;&#1074;&#1072;&#1085;&#1080;&#1103;%20&#1087;&#1088;&#1077;&#1079;&#1077;&#1085;&#1090;&#1072;&#1094;&#1080;&#1080;.doc" TargetMode="External"/><Relationship Id="rId9" Type="http://schemas.openxmlformats.org/officeDocument/2006/relationships/hyperlink" Target="file:///&#1082;&#1088;&#1080;&#1090;&#1077;&#1088;&#1080;&#1080;%20&#1086;&#1094;&#1077;&#1085;&#1080;&#1074;&#1072;&#1085;&#1080;&#1103;%20&#1089;&#1090;&#1072;&#1090;&#1100;&#1080;.doc" TargetMode="External"/><Relationship Id="rId10" Type="http://schemas.openxmlformats.org/officeDocument/2006/relationships/hyperlink" Target="file:///&#1082;&#1088;&#1080;&#1090;&#1077;&#1088;&#1080;&#1080;%20&#1086;&#1094;&#1077;&#1085;&#1080;&#1074;&#1072;&#1085;&#1080;&#1103;%20&#1073;&#1091;&#1082;&#1083;&#1077;&#1090;&#1072;.doc" TargetMode="External"/><Relationship Id="rId11" Type="http://schemas.openxmlformats.org/officeDocument/2006/relationships/hyperlink" Target="file:///&#1041;&#1083;&#1072;&#1085;&#1082;%20&#1088;&#1091;&#1073;&#1088;&#1080;&#1082;%20&#1086;&#1087;&#1088;&#1077;&#1076;&#1077;&#1083;&#1077;&#1085;&#1080;&#1103;%20&#1080;%20&#1086;&#1087;&#1080;&#1089;&#1072;&#1085;&#1080;&#1103;%20&#1087;&#1088;&#1086;&#1073;&#1083;&#1077;&#1084;&#1099;.doc" TargetMode="External"/><Relationship Id="rId12" Type="http://schemas.openxmlformats.org/officeDocument/2006/relationships/hyperlink" Target="file:///&#1041;&#1083;&#1072;&#1085;&#1082;%20&#1089;&#1086;&#1074;&#1084;&#1077;&#1089;&#1090;&#1085;&#1086;&#1081;%20&#1088;&#1072;&#1073;&#1086;&#1090;&#1099;.doc" TargetMode="External"/><Relationship Id="rId13" Type="http://schemas.openxmlformats.org/officeDocument/2006/relationships/hyperlink" Target="file:///&#1041;&#1083;&#1072;&#1085;&#1082;%20&#1089;&#1086;&#1074;&#1084;&#1077;&#1089;&#1090;&#1085;&#1086;&#1081;%20&#1088;&#1072;&#1073;&#1086;&#1090;&#1099;.doc" TargetMode="External"/><Relationship Id="rId14" Type="http://schemas.openxmlformats.org/officeDocument/2006/relationships/hyperlink" Target="file:///&#1048;&#1090;&#1086;&#1075;&#1086;&#1074;&#1072;&#1103;%20&#1072;&#1085;&#1082;&#1077;&#1090;&#1072;%20&#1076;&#1083;&#1103;%20&#1091;&#1095;&#1072;&#1097;&#1080;&#1093;&#1089;&#1103;.doc" TargetMode="External"/><Relationship Id="rId15" Type="http://schemas.openxmlformats.org/officeDocument/2006/relationships/hyperlink" Target="file:///&#1048;&#1090;&#1086;&#1075;&#1086;&#1074;&#1072;&#1103;%20&#1072;&#1085;&#1082;&#1077;&#1090;&#1072;%20&#1076;&#1083;&#1103;%20&#1091;&#1095;&#1072;&#1097;&#1080;&#1093;&#1089;&#1103;.doc" TargetMode="External"/><Relationship Id="rId16" Type="http://schemas.openxmlformats.org/officeDocument/2006/relationships/hyperlink" Target="file:///&#1078;&#1091;&#1088;&#1085;&#1072;&#1083;%20&#1089;&#1072;&#1084;&#1086;&#1094;&#1077;&#1085;&#1082;&#1080;%20&#1075;&#1088;&#1091;&#1087;&#1087;&#1099;.doc" TargetMode="External"/><Relationship Id="rId17" Type="http://schemas.openxmlformats.org/officeDocument/2006/relationships/hyperlink" Target="file:///&#1056;&#1077;&#1092;&#1083;&#1077;&#1082;&#1089;&#1080;&#1103;.doc" TargetMode="External"/><Relationship Id="rId18" Type="http://schemas.openxmlformats.org/officeDocument/2006/relationships/hyperlink" Target="file:///&#1088;&#1091;&#1073;&#1088;&#1080;&#1082;&#1072;%20&#1086;&#1094;&#1077;&#1085;&#1080;&#1074;&#1072;&#1085;&#1080;&#1103;%20&#1091;&#1073;&#1077;&#1076;&#1080;&#1090;&#1077;&#1083;&#1100;&#1085;&#1086;&#1089;&#1090;&#1080;%20&#1088;&#1077;&#1095;&#1080;.doc" TargetMode="External"/><Relationship Id="rId19" Type="http://schemas.openxmlformats.org/officeDocument/2006/relationships/hyperlink" Target="file:///&#1088;&#1091;&#1073;&#1088;&#1080;&#1082;&#1072;%20&#1086;&#1094;&#1077;&#1085;&#1080;&#1074;&#1072;&#1085;&#1080;&#1103;%20&#1091;&#1073;&#1077;&#1076;&#1080;&#1090;&#1077;&#1083;&#1100;&#1085;&#1086;&#1089;&#1090;&#1080;%20&#1088;&#1077;&#1095;&#1080;.doc" TargetMode="External"/><Relationship Id="rId2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9.wm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d4f0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387"/>
          <p:cNvGrpSpPr/>
          <p:nvPr/>
        </p:nvGrpSpPr>
        <p:grpSpPr>
          <a:xfrm>
            <a:off x="-828720" y="-6840"/>
            <a:ext cx="8591400" cy="6723720"/>
            <a:chOff x="-828720" y="-6840"/>
            <a:chExt cx="8591400" cy="6723720"/>
          </a:xfrm>
        </p:grpSpPr>
        <p:grpSp>
          <p:nvGrpSpPr>
            <p:cNvPr id="42" name="Полилиния 382"/>
            <p:cNvGrpSpPr/>
            <p:nvPr/>
          </p:nvGrpSpPr>
          <p:grpSpPr>
            <a:xfrm>
              <a:off x="-488520" y="-6840"/>
              <a:ext cx="8251200" cy="3590280"/>
              <a:chOff x="-488520" y="-6840"/>
              <a:chExt cx="8251200" cy="3590280"/>
            </a:xfrm>
          </p:grpSpPr>
          <p:pic>
            <p:nvPicPr>
              <p:cNvPr id="43" name="Полилиния 382" descr=""/>
              <p:cNvPicPr/>
              <p:nvPr/>
            </p:nvPicPr>
            <p:blipFill>
              <a:blip r:embed="rId1"/>
              <a:stretch/>
            </p:blipFill>
            <p:spPr>
              <a:xfrm>
                <a:off x="-357840" y="-3240"/>
                <a:ext cx="8115840" cy="358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" name=""/>
              <p:cNvSpPr/>
              <p:nvPr/>
            </p:nvSpPr>
            <p:spPr>
              <a:xfrm rot="1218600">
                <a:off x="-641160" y="1458000"/>
                <a:ext cx="8557200" cy="65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Полилиния 383"/>
            <p:cNvGrpSpPr/>
            <p:nvPr/>
          </p:nvGrpSpPr>
          <p:grpSpPr>
            <a:xfrm>
              <a:off x="-132480" y="226440"/>
              <a:ext cx="7531920" cy="4505760"/>
              <a:chOff x="-132480" y="226440"/>
              <a:chExt cx="7531920" cy="4505760"/>
            </a:xfrm>
          </p:grpSpPr>
          <p:pic>
            <p:nvPicPr>
              <p:cNvPr id="46" name="Полилиния 383" descr=""/>
              <p:cNvPicPr/>
              <p:nvPr/>
            </p:nvPicPr>
            <p:blipFill>
              <a:blip r:embed="rId2"/>
              <a:stretch/>
            </p:blipFill>
            <p:spPr>
              <a:xfrm>
                <a:off x="44640" y="226440"/>
                <a:ext cx="7337880" cy="450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 rot="1635000">
                <a:off x="-434880" y="2144160"/>
                <a:ext cx="8136720" cy="65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Полилиния 384"/>
            <p:cNvGrpSpPr/>
            <p:nvPr/>
          </p:nvGrpSpPr>
          <p:grpSpPr>
            <a:xfrm>
              <a:off x="194760" y="462600"/>
              <a:ext cx="6497640" cy="5482080"/>
              <a:chOff x="194760" y="462600"/>
              <a:chExt cx="6497640" cy="5482080"/>
            </a:xfrm>
          </p:grpSpPr>
          <p:pic>
            <p:nvPicPr>
              <p:cNvPr id="49" name="Полилиния 384" descr=""/>
              <p:cNvPicPr/>
              <p:nvPr/>
            </p:nvPicPr>
            <p:blipFill>
              <a:blip r:embed="rId3"/>
              <a:stretch/>
            </p:blipFill>
            <p:spPr>
              <a:xfrm>
                <a:off x="415080" y="462600"/>
                <a:ext cx="6238800" cy="548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 rot="2119800">
                <a:off x="-307440" y="2863800"/>
                <a:ext cx="7502760" cy="65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Полилиния 385"/>
            <p:cNvGrpSpPr/>
            <p:nvPr/>
          </p:nvGrpSpPr>
          <p:grpSpPr>
            <a:xfrm>
              <a:off x="-10080" y="232560"/>
              <a:ext cx="5138280" cy="6484320"/>
              <a:chOff x="-10080" y="232560"/>
              <a:chExt cx="5138280" cy="6484320"/>
            </a:xfrm>
          </p:grpSpPr>
          <p:pic>
            <p:nvPicPr>
              <p:cNvPr id="52" name="Полилиния 385" descr=""/>
              <p:cNvPicPr/>
              <p:nvPr/>
            </p:nvPicPr>
            <p:blipFill>
              <a:blip r:embed="rId4"/>
              <a:stretch/>
            </p:blipFill>
            <p:spPr>
              <a:xfrm>
                <a:off x="250200" y="232560"/>
                <a:ext cx="4810320" cy="648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 rot="2683800">
                <a:off x="-734760" y="3135240"/>
                <a:ext cx="6588000" cy="65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Полилиния 386"/>
            <p:cNvGrpSpPr/>
            <p:nvPr/>
          </p:nvGrpSpPr>
          <p:grpSpPr>
            <a:xfrm>
              <a:off x="-828720" y="446760"/>
              <a:ext cx="4478760" cy="5845320"/>
              <a:chOff x="-828720" y="446760"/>
              <a:chExt cx="4478760" cy="5845320"/>
            </a:xfrm>
          </p:grpSpPr>
          <p:pic>
            <p:nvPicPr>
              <p:cNvPr id="55" name="Полилиния 386" descr=""/>
              <p:cNvPicPr/>
              <p:nvPr/>
            </p:nvPicPr>
            <p:blipFill>
              <a:blip r:embed="rId5"/>
              <a:stretch/>
            </p:blipFill>
            <p:spPr>
              <a:xfrm>
                <a:off x="-828720" y="514800"/>
                <a:ext cx="4478760" cy="573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3406800">
                <a:off x="-2018520" y="3029040"/>
                <a:ext cx="6541560" cy="68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Группа 218"/>
          <p:cNvGrpSpPr/>
          <p:nvPr/>
        </p:nvGrpSpPr>
        <p:grpSpPr>
          <a:xfrm>
            <a:off x="0" y="3774960"/>
            <a:ext cx="9248760" cy="3083040"/>
            <a:chOff x="0" y="3774960"/>
            <a:chExt cx="9248760" cy="3083040"/>
          </a:xfrm>
        </p:grpSpPr>
        <p:grpSp>
          <p:nvGrpSpPr>
            <p:cNvPr id="58" name="Полилиния 116"/>
            <p:cNvGrpSpPr/>
            <p:nvPr/>
          </p:nvGrpSpPr>
          <p:grpSpPr>
            <a:xfrm>
              <a:off x="54720" y="5534640"/>
              <a:ext cx="9169920" cy="1323360"/>
              <a:chOff x="54720" y="5534640"/>
              <a:chExt cx="9169920" cy="1323360"/>
            </a:xfrm>
          </p:grpSpPr>
          <p:pic>
            <p:nvPicPr>
              <p:cNvPr id="59" name="Полилиния 116" descr=""/>
              <p:cNvPicPr/>
              <p:nvPr/>
            </p:nvPicPr>
            <p:blipFill>
              <a:blip r:embed="rId6"/>
              <a:stretch/>
            </p:blipFill>
            <p:spPr>
              <a:xfrm>
                <a:off x="54720" y="5684040"/>
                <a:ext cx="9169920" cy="117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>
                <a:off x="70560" y="5534640"/>
                <a:ext cx="9140040" cy="131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Группа 119"/>
            <p:cNvGrpSpPr/>
            <p:nvPr/>
          </p:nvGrpSpPr>
          <p:grpSpPr>
            <a:xfrm>
              <a:off x="511200" y="4059360"/>
              <a:ext cx="1107360" cy="1702080"/>
              <a:chOff x="511200" y="4059360"/>
              <a:chExt cx="1107360" cy="1702080"/>
            </a:xfrm>
          </p:grpSpPr>
          <p:grpSp>
            <p:nvGrpSpPr>
              <p:cNvPr id="62" name="Равнобедренный треугольник 117"/>
              <p:cNvGrpSpPr/>
              <p:nvPr/>
            </p:nvGrpSpPr>
            <p:grpSpPr>
              <a:xfrm>
                <a:off x="894600" y="4554720"/>
                <a:ext cx="212760" cy="819000"/>
                <a:chOff x="894600" y="4554720"/>
                <a:chExt cx="212760" cy="819000"/>
              </a:xfrm>
            </p:grpSpPr>
            <p:pic>
              <p:nvPicPr>
                <p:cNvPr id="63" name="Равнобедренный треугольник 1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94600" y="4554720"/>
                  <a:ext cx="212760" cy="81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" name=""/>
                <p:cNvSpPr/>
                <p:nvPr/>
              </p:nvSpPr>
              <p:spPr>
                <a:xfrm>
                  <a:off x="955800" y="4966920"/>
                  <a:ext cx="936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" name="Полилиния 118"/>
              <p:cNvGrpSpPr/>
              <p:nvPr/>
            </p:nvGrpSpPr>
            <p:grpSpPr>
              <a:xfrm>
                <a:off x="511200" y="4059360"/>
                <a:ext cx="1107360" cy="1702080"/>
                <a:chOff x="511200" y="4059360"/>
                <a:chExt cx="1107360" cy="1702080"/>
              </a:xfrm>
            </p:grpSpPr>
            <p:pic>
              <p:nvPicPr>
                <p:cNvPr id="66" name="Полилиния 11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11200" y="4125240"/>
                  <a:ext cx="1107360" cy="163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532440" y="4059360"/>
                  <a:ext cx="969120" cy="121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" name="Группа 120"/>
            <p:cNvGrpSpPr/>
            <p:nvPr/>
          </p:nvGrpSpPr>
          <p:grpSpPr>
            <a:xfrm>
              <a:off x="7927200" y="4557240"/>
              <a:ext cx="927000" cy="1327320"/>
              <a:chOff x="7927200" y="4557240"/>
              <a:chExt cx="927000" cy="1327320"/>
            </a:xfrm>
          </p:grpSpPr>
          <p:grpSp>
            <p:nvGrpSpPr>
              <p:cNvPr id="69" name="Равнобедренный треугольник 121"/>
              <p:cNvGrpSpPr/>
              <p:nvPr/>
            </p:nvGrpSpPr>
            <p:grpSpPr>
              <a:xfrm>
                <a:off x="8245800" y="4861080"/>
                <a:ext cx="166680" cy="682200"/>
                <a:chOff x="8245800" y="4861080"/>
                <a:chExt cx="166680" cy="682200"/>
              </a:xfrm>
            </p:grpSpPr>
            <p:pic>
              <p:nvPicPr>
                <p:cNvPr id="70" name="Равнобедренный треугольник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245800" y="4861080"/>
                  <a:ext cx="166680" cy="68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>
                  <a:off x="8296200" y="5203440"/>
                  <a:ext cx="72000" cy="32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Полилиния 122"/>
              <p:cNvGrpSpPr/>
              <p:nvPr/>
            </p:nvGrpSpPr>
            <p:grpSpPr>
              <a:xfrm>
                <a:off x="7927200" y="4557240"/>
                <a:ext cx="927000" cy="1327320"/>
                <a:chOff x="7927200" y="4557240"/>
                <a:chExt cx="927000" cy="1327320"/>
              </a:xfrm>
            </p:grpSpPr>
            <p:pic>
              <p:nvPicPr>
                <p:cNvPr id="73" name="Полилиния 12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927200" y="4602240"/>
                  <a:ext cx="927000" cy="1282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>
                  <a:off x="7970040" y="4557240"/>
                  <a:ext cx="747360" cy="89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" name="Группа 123"/>
            <p:cNvGrpSpPr/>
            <p:nvPr/>
          </p:nvGrpSpPr>
          <p:grpSpPr>
            <a:xfrm>
              <a:off x="4575600" y="3774960"/>
              <a:ext cx="1354680" cy="1959120"/>
              <a:chOff x="4575600" y="3774960"/>
              <a:chExt cx="1354680" cy="1959120"/>
            </a:xfrm>
          </p:grpSpPr>
          <p:grpSp>
            <p:nvGrpSpPr>
              <p:cNvPr id="76" name="Равнобедренный треугольник 124"/>
              <p:cNvGrpSpPr/>
              <p:nvPr/>
            </p:nvGrpSpPr>
            <p:grpSpPr>
              <a:xfrm>
                <a:off x="5038560" y="4355640"/>
                <a:ext cx="277920" cy="974520"/>
                <a:chOff x="5038560" y="4355640"/>
                <a:chExt cx="277920" cy="974520"/>
              </a:xfrm>
            </p:grpSpPr>
            <p:pic>
              <p:nvPicPr>
                <p:cNvPr id="77" name="Равнобедренный треугольник 12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038560" y="4355640"/>
                  <a:ext cx="277920" cy="974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" name=""/>
                <p:cNvSpPr/>
                <p:nvPr/>
              </p:nvSpPr>
              <p:spPr>
                <a:xfrm>
                  <a:off x="5121000" y="4843800"/>
                  <a:ext cx="124560" cy="47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" name="Полилиния 125"/>
              <p:cNvGrpSpPr/>
              <p:nvPr/>
            </p:nvGrpSpPr>
            <p:grpSpPr>
              <a:xfrm>
                <a:off x="4575600" y="3774960"/>
                <a:ext cx="1354680" cy="1959120"/>
                <a:chOff x="4575600" y="3774960"/>
                <a:chExt cx="1354680" cy="1959120"/>
              </a:xfrm>
            </p:grpSpPr>
            <p:pic>
              <p:nvPicPr>
                <p:cNvPr id="80" name="Полилиния 125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592520" y="3856680"/>
                  <a:ext cx="1337760" cy="187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" name=""/>
                <p:cNvSpPr/>
                <p:nvPr/>
              </p:nvSpPr>
              <p:spPr>
                <a:xfrm>
                  <a:off x="4575600" y="3774960"/>
                  <a:ext cx="1272960" cy="143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" name="Полилиния 115"/>
            <p:cNvGrpSpPr/>
            <p:nvPr/>
          </p:nvGrpSpPr>
          <p:grpSpPr>
            <a:xfrm>
              <a:off x="0" y="5917320"/>
              <a:ext cx="9248760" cy="940680"/>
              <a:chOff x="0" y="5917320"/>
              <a:chExt cx="9248760" cy="940680"/>
            </a:xfrm>
          </p:grpSpPr>
          <p:pic>
            <p:nvPicPr>
              <p:cNvPr id="83" name="Полилиния 115" descr=""/>
              <p:cNvPicPr/>
              <p:nvPr/>
            </p:nvPicPr>
            <p:blipFill>
              <a:blip r:embed="rId13"/>
              <a:stretch/>
            </p:blipFill>
            <p:spPr>
              <a:xfrm>
                <a:off x="0" y="5973120"/>
                <a:ext cx="9248760" cy="88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"/>
              <p:cNvSpPr/>
              <p:nvPr/>
            </p:nvSpPr>
            <p:spPr>
              <a:xfrm>
                <a:off x="18000" y="5917320"/>
                <a:ext cx="9230760" cy="92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3598560" y="628128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втор проекта: Павлова Фаина Ив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640" y="1700280"/>
            <a:ext cx="802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Magneto"/>
              </a:rPr>
              <a:t>С лукошком за грибам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4"/>
          <a:stretch/>
        </p:blipFill>
        <p:spPr>
          <a:xfrm>
            <a:off x="250920" y="5373720"/>
            <a:ext cx="927000" cy="1171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5"/>
          <a:stretch/>
        </p:blipFill>
        <p:spPr>
          <a:xfrm>
            <a:off x="8458200" y="0"/>
            <a:ext cx="685800" cy="866880"/>
          </a:xfrm>
          <a:prstGeom prst="rect">
            <a:avLst/>
          </a:prstGeom>
          <a:ln w="0">
            <a:noFill/>
          </a:ln>
        </p:spPr>
      </p:pic>
      <p:grpSp>
        <p:nvGrpSpPr>
          <p:cNvPr id="89" name="Облако 107"/>
          <p:cNvGrpSpPr/>
          <p:nvPr/>
        </p:nvGrpSpPr>
        <p:grpSpPr>
          <a:xfrm>
            <a:off x="1476360" y="404640"/>
            <a:ext cx="2736720" cy="454320"/>
            <a:chOff x="1476360" y="404640"/>
            <a:chExt cx="2736720" cy="454320"/>
          </a:xfrm>
        </p:grpSpPr>
        <p:pic>
          <p:nvPicPr>
            <p:cNvPr id="90" name="Облако 107" descr=""/>
            <p:cNvPicPr/>
            <p:nvPr/>
          </p:nvPicPr>
          <p:blipFill>
            <a:blip r:embed="rId16"/>
            <a:stretch/>
          </p:blipFill>
          <p:spPr>
            <a:xfrm>
              <a:off x="1476360" y="404640"/>
              <a:ext cx="2736720" cy="4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867320" y="479160"/>
              <a:ext cx="17704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Облако 106"/>
          <p:cNvGrpSpPr/>
          <p:nvPr/>
        </p:nvGrpSpPr>
        <p:grpSpPr>
          <a:xfrm>
            <a:off x="4140360" y="333360"/>
            <a:ext cx="3278160" cy="385920"/>
            <a:chOff x="4140360" y="333360"/>
            <a:chExt cx="3278160" cy="385920"/>
          </a:xfrm>
        </p:grpSpPr>
        <p:pic>
          <p:nvPicPr>
            <p:cNvPr id="93" name="Облако 106" descr=""/>
            <p:cNvPicPr/>
            <p:nvPr/>
          </p:nvPicPr>
          <p:blipFill>
            <a:blip r:embed="rId17"/>
            <a:stretch/>
          </p:blipFill>
          <p:spPr>
            <a:xfrm>
              <a:off x="4140360" y="333360"/>
              <a:ext cx="3278160" cy="3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603680" y="397080"/>
              <a:ext cx="212400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Овал 393"/>
          <p:cNvGrpSpPr/>
          <p:nvPr/>
        </p:nvGrpSpPr>
        <p:grpSpPr>
          <a:xfrm>
            <a:off x="0" y="0"/>
            <a:ext cx="1438200" cy="1371600"/>
            <a:chOff x="0" y="0"/>
            <a:chExt cx="1438200" cy="1371600"/>
          </a:xfrm>
        </p:grpSpPr>
        <p:pic>
          <p:nvPicPr>
            <p:cNvPr id="96" name="Овал 393" descr=""/>
            <p:cNvPicPr/>
            <p:nvPr/>
          </p:nvPicPr>
          <p:blipFill>
            <a:blip r:embed="rId18"/>
            <a:stretch/>
          </p:blipFill>
          <p:spPr>
            <a:xfrm>
              <a:off x="0" y="0"/>
              <a:ext cx="14382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15640" y="204840"/>
              <a:ext cx="100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" descr=""/>
          <p:cNvPicPr/>
          <p:nvPr/>
        </p:nvPicPr>
        <p:blipFill>
          <a:blip r:embed="rId19"/>
          <a:stretch/>
        </p:blipFill>
        <p:spPr>
          <a:xfrm>
            <a:off x="0" y="5373720"/>
            <a:ext cx="501480" cy="533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0"/>
          <a:stretch/>
        </p:blipFill>
        <p:spPr>
          <a:xfrm>
            <a:off x="324000" y="5589720"/>
            <a:ext cx="501480" cy="533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1"/>
          <a:stretch/>
        </p:blipFill>
        <p:spPr>
          <a:xfrm>
            <a:off x="611280" y="5589720"/>
            <a:ext cx="501480" cy="533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2"/>
          <a:stretch/>
        </p:blipFill>
        <p:spPr>
          <a:xfrm>
            <a:off x="8532720" y="260280"/>
            <a:ext cx="33192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44568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92360" y="1052640"/>
            <a:ext cx="56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Monotype Corsiva"/>
              </a:rPr>
              <a:t>Тема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2381400"/>
            <a:ext cx="7129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Monotype Corsiva"/>
              </a:rPr>
              <a:t>Творческое название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Monotype Corsiva"/>
              </a:rPr>
              <a:t>С лукошком за гриб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Monotype Corsiva"/>
              </a:rPr>
              <a:t>Предмет:</a:t>
            </a:r>
            <a:r>
              <a:rPr b="1" lang="en-US" sz="3200" spc="-1" strike="noStrike">
                <a:solidFill>
                  <a:srgbClr val="000099"/>
                </a:solidFill>
                <a:latin typeface="Monotype Corsiva"/>
              </a:rPr>
              <a:t>  Окружающий мир, би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87280" y="4380480"/>
            <a:ext cx="252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Monotype Corsiva"/>
              </a:rPr>
              <a:t>Участн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11280" y="1700280"/>
            <a:ext cx="439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Monotype Corsiva"/>
              </a:rPr>
              <a:t>Царство гриб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82920" y="4941720"/>
            <a:ext cx="536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Monotype Corsiva"/>
              </a:rPr>
              <a:t>Учащиеся  пришкольного интерната МОУ «Чихачевская средня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7308720" y="0"/>
            <a:ext cx="1451160" cy="1832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0" y="5353200"/>
            <a:ext cx="2666880" cy="1504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908000" y="5589720"/>
            <a:ext cx="50184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a50021"/>
                </a:solidFill>
                <a:latin typeface="Arial"/>
              </a:rPr>
              <a:t>Ожидаемые результаты:</a:t>
            </a:r>
            <a:endParaRPr b="0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ле завершения проекта учащиеся научатся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ичностные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важительно относиться к родному краю, природе нашей страны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пользовать для решения познавательных и коммуникативных задач различные источники информации (словари, энциклопедии, Интернет-ресурсы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50021"/>
                </a:solidFill>
                <a:latin typeface="Arial"/>
              </a:rPr>
              <a:t>Ожидаемые результаты: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е завершения проекта учащиеся науча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тапредм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имать проблему, поставленную воспитателе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мировать компетентность в сфере самостоятельной познавательной деятельност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итически мыслить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амостоятельно организовывать собственную деятельность, оценивать ее, определять сферу своих интересов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ботать с разными источниками информации, находить ее, анализировать, использовать в самостоятельной деятельности: создавать презентации, документы в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S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Word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S Publish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S Power Poin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размещать их в сети Интерн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a50021"/>
                </a:solidFill>
                <a:latin typeface="Arial"/>
              </a:rPr>
              <a:t>Использовать приобретенные знания и умения в практической деятельности и повседневной жизни для того, чтоб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зличать съедобные и ядовитые грибы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знавать какую пользу приносят ядовитые грибы и где они используютс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знавать виды гриб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казывать  первую  помощь  при  отравлении  грибам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готовить  простейшие блюда из гриб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к охранять грибное царство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знакомиться с правилами сбора гриб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a50021"/>
                </a:solidFill>
                <a:latin typeface="Arial"/>
              </a:rPr>
              <a:t>Ожидаемые результаты: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дмет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ле завершения проекта учащиеся должны зн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оль грибов в природе и жизни человека, особенности строения, правила сбора и хран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меть выделять признаки грибов ,отличать их от других царств живой природы, уметь отличать съедобные грибы от несъедобных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ле завершения проекта учащиеся должны уме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водить примеры представителей разных видов грибов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скрывать особенности их внешнего вид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станавливать зависимость между поведением людей в природе и его последствиями; оценивать воздействие человека на природу (положительное и отрицательное), выполнять правила поведения в природ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a50021"/>
                </a:solidFill>
                <a:latin typeface="Arial"/>
              </a:rPr>
              <a:t>План оценивания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836640"/>
          <a:ext cx="8351640" cy="6048360"/>
        </p:xfrm>
        <a:graphic>
          <a:graphicData uri="http://schemas.openxmlformats.org/drawingml/2006/table">
            <a:tbl>
              <a:tblPr/>
              <a:tblGrid>
                <a:gridCol w="1871640"/>
                <a:gridCol w="4254480"/>
                <a:gridCol w="2225520"/>
              </a:tblGrid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начала проект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ходе про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завершения проект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«Мозговой штур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еда по материала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товой презен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Думать- Объединяться- Дели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Таблица З–И–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Вводная анкета для учащихся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Обсуждение плана проведения проект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лективное обсуждение предложенной информации. (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Лист планирования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памят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/>
                        </a:rPr>
                        <a:t>Советы для мотивации над проек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иск, отбор и изучение необходимой информации в научной литературе и сети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(Памятка – поиск информаци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Самооценка качества проведенного исследования. (Формирующее 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/>
                        </a:rPr>
                        <a:t>оценивание сбора данных и их интерпретаци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Оценивание навыков работы над проект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Оценочные листы для групп учащихся для создания 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/>
                        </a:rPr>
                        <a:t>презентаци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/>
                        </a:rPr>
                        <a:t>вики-стать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/>
                        </a:rPr>
                        <a:t>букле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Демонстрация результатов проделанной работы каждой проектной группой. (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/>
                        </a:rPr>
                        <a:t>Бланк рубрик определения и описания проблемы 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ланирование вы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/>
                        </a:rPr>
                        <a:t>7. Самооценка совместной работы</a:t>
                      </a: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Промежуточная табл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Защита проекта учащихся. Итоговое оценивание ученических рабо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Оформление результатов анкетир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/>
                        </a:rPr>
                        <a:t>Итоговая анкета д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/>
                        </a:rPr>
                        <a:t>учащих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/>
                        </a:rPr>
                        <a:t>Журнал самооценки груп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/>
                        </a:rPr>
                        <a:t>Рефлекс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Итоговое занят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Написание эсс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</a:t>
                      </a: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/>
                        </a:rPr>
                        <a:t>Итоговое оценивание навыков устного выступления</a:t>
                      </a: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556000" y="549360"/>
            <a:ext cx="4697280" cy="5867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684360" y="750960"/>
            <a:ext cx="6337080" cy="25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8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, </a:t>
            </a:r>
            <a:endParaRPr b="0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8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00808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 внимание!</a:t>
            </a:r>
            <a:endParaRPr b="0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00808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6:24:36Z</dcterms:created>
  <dc:creator>фам</dc:creator>
  <dc:description/>
  <dc:language>en-US</dc:language>
  <cp:lastModifiedBy>Фёдорова</cp:lastModifiedBy>
  <dcterms:modified xsi:type="dcterms:W3CDTF">2010-12-08T18:54:23Z</dcterms:modified>
  <cp:revision>50</cp:revision>
  <dc:subject/>
  <dc:title>Слайд 1</dc:title>
</cp:coreProperties>
</file>