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1E7A-CEA1-42AA-B796-F8634A2C4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40AB-AAE0-4693-B370-7A0713E9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00A0-BC80-471B-968F-1483CCEEF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AB25-46B0-4C00-A9B5-E3A333A4B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D85C-192A-45DA-9F70-B601EF31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98C0-BACF-4258-A6FF-CDF80DDA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FC5E-128B-4BBD-9021-82960AF2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2D50-D8D6-417F-93C7-5BC7DB2D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DBAB-1C59-44A0-B504-207C3939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184D-09A7-46D5-AB68-2F10AA45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B5A0-8CAC-4EC7-9EA5-924025C0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4954-0A3B-4663-A9C8-6765FD20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1994-B1EA-4512-86C5-9EFF48873F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Admin\Рабочий стол\оапоа\photos0-800x600.jpeg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ЭЛЕКТРИЧЕСК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ПРОВО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Admin\Рабочий стол\оапоа\Stranded_lamp_wire.jpg"/>
          <p:cNvPicPr/>
          <p:nvPr/>
        </p:nvPicPr>
        <p:blipFill>
          <a:blip r:embed="rId1"/>
          <a:stretch/>
        </p:blipFill>
        <p:spPr>
          <a:xfrm>
            <a:off x="4716360" y="2349360"/>
            <a:ext cx="3932280" cy="3951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РАЗНОВИДНОСТЬ ПРОВОД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9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Разновидности проводов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)одножильны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)многожильны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3280" y="1412640"/>
            <a:ext cx="404208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Электрические провода бывают без изоляции (голые) и с изоляционным покрыт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Участок провода, по которому проходит электрический ток называется  токоведущей жил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Их делают из меди и алюминия- металлов, обладающих хорошей электропровод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C:\Documents and Settings\Admin\Рабочий стол\оапоа\5.1.jpg"/>
          <p:cNvPicPr/>
          <p:nvPr/>
        </p:nvPicPr>
        <p:blipFill>
          <a:blip r:embed="rId2"/>
          <a:stretch/>
        </p:blipFill>
        <p:spPr>
          <a:xfrm>
            <a:off x="457200" y="2536920"/>
            <a:ext cx="404028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равила электротехнических рабо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4040280" cy="8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При выполнении электротехнических работ для изоляции мест  соединения проводов дуг с другом  и их оголенных участков используют изоляционную ленту и изолирующие трубку- кембрики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Марки проводов имеют буквенно-цифровое обозначение, указывающее на основное назначение прово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211280" y="2174760"/>
            <a:ext cx="47530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)Ш- шну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)П- пров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)Б- бытов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)Р- резиновая изоля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)В- изоляция полихлорвинилов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)Г- гибк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)Д- двойная изоляц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)О- изолированные жилы заключены в общую оплет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Documents and Settings\Admin\Рабочий стол\оапоа\F2A5FCF92C944C7791B3F51A2AC45BFD.jpg"/>
          <p:cNvPicPr/>
          <p:nvPr/>
        </p:nvPicPr>
        <p:blipFill>
          <a:blip r:embed="rId1"/>
          <a:stretch/>
        </p:blipFill>
        <p:spPr>
          <a:xfrm>
            <a:off x="457200" y="2743200"/>
            <a:ext cx="375444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Назначение проводов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140000" y="1268280"/>
            <a:ext cx="4546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)Установочные провода- используют для выполнения электропровод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)Монтажные провода – применяют для внутреннего монтажа электрических приборов и аппара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)Обмоточные провода – применяются для изготовления компактных обмоток электрических машин, электроприборов , аппара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Documents and Settings\Admin\Рабочий стол\оапоа\foto_18450.jpg"/>
          <p:cNvPicPr/>
          <p:nvPr/>
        </p:nvPicPr>
        <p:blipFill>
          <a:blip r:embed="rId1"/>
          <a:stretch/>
        </p:blipFill>
        <p:spPr>
          <a:xfrm>
            <a:off x="0" y="1773360"/>
            <a:ext cx="393048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Виды соединения провод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708000" y="1197000"/>
            <a:ext cx="54356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953735"/>
                </a:solidFill>
                <a:latin typeface="Calibri"/>
              </a:rPr>
              <a:t>Разъемны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единения выполняются с помощь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тов и винтов в специальных ответвительны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робка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953735"/>
                </a:solidFill>
                <a:latin typeface="Calibri"/>
              </a:rPr>
              <a:t>Неразъемны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оединения – это сращивани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ветвление и пай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953735"/>
                </a:solidFill>
                <a:latin typeface="Calibri"/>
              </a:rPr>
              <a:t>Сращива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соединение между собой дву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ее проводов с последующей их изоляци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Calibri"/>
              </a:rPr>
              <a:t>Ответвле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это присоединение пут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ращивания  дополнительных проводов к главной электрической линии без нарушения ее целост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Documents and Settings\Admin\Рабочий стол\оапоа\soed_and_otvetlen_prov.gif"/>
          <p:cNvPicPr/>
          <p:nvPr/>
        </p:nvPicPr>
        <p:blipFill>
          <a:blip r:embed="rId1"/>
          <a:stretch/>
        </p:blipFill>
        <p:spPr>
          <a:xfrm>
            <a:off x="0" y="1413000"/>
            <a:ext cx="363528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Пай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53735"/>
                </a:solidFill>
                <a:latin typeface="Calibri"/>
              </a:rPr>
              <a:t>Паяни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или, выражаяс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рофессиональны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языком, </a:t>
            </a:r>
            <a:r>
              <a:rPr b="0" lang="en-US" sz="1800" spc="-1" strike="noStrike">
                <a:solidFill>
                  <a:srgbClr val="953735"/>
                </a:solidFill>
                <a:latin typeface="Calibri"/>
              </a:rPr>
              <a:t>пайк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- это процес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оединения деталей или част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асплавленным металлом  - </a:t>
            </a:r>
            <a:r>
              <a:rPr b="0" lang="en-US" sz="1800" spc="-1" strike="noStrike">
                <a:solidFill>
                  <a:srgbClr val="953735"/>
                </a:solidFill>
                <a:latin typeface="Calibri"/>
              </a:rPr>
              <a:t>припое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 качестве </a:t>
            </a:r>
            <a:r>
              <a:rPr b="0" lang="en-US" sz="1800" spc="-1" strike="noStrike">
                <a:solidFill>
                  <a:srgbClr val="953735"/>
                </a:solidFill>
                <a:latin typeface="Calibri"/>
              </a:rPr>
              <a:t>припо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используют спла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винца с оловом. Температу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лавления такого припоя около 20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айку выполняют при помощ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53735"/>
                </a:solidFill>
                <a:latin typeface="Calibri"/>
              </a:rPr>
              <a:t>электрического паяльни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Documents and Settings\Admin\Рабочий стол\оапоа\268784b979caf390b5.jpg"/>
          <p:cNvPicPr/>
          <p:nvPr/>
        </p:nvPicPr>
        <p:blipFill>
          <a:blip r:embed="rId1"/>
          <a:stretch/>
        </p:blipFill>
        <p:spPr>
          <a:xfrm>
            <a:off x="4648320" y="1863720"/>
            <a:ext cx="403848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Техника безопас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1267920"/>
            <a:ext cx="403848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)На рабочем столе должны находит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лько те материалы, детали 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струменты, которые используются 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бот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)Срезать изоляцию с провода  следуе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подкладной доске, перемеща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нтажный нож от себя, что б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бежать порез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)Работать нужно с исправны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струмент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)Использовать электро-монтаж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струменты только по назначени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)С инструментом и материал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ращаться бережно, не ранять и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)Работы с паяльником выполня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лько под руководство с учител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)При работе с паяльником во врем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рывов кладите его на подстав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)Нагретые детали при пайк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держивайте на подкладной доске 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мощью пинцета или щипц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9)По окончании работы весь электо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струмент нужно сложить в уклад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0)По окончании работы вымыть ру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мыл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0T12:19:48Z</dcterms:created>
  <dc:creator>Admin</dc:creator>
  <dc:description/>
  <dc:language>en-US</dc:language>
  <cp:lastModifiedBy>1</cp:lastModifiedBy>
  <dcterms:modified xsi:type="dcterms:W3CDTF">2011-01-23T14:12:17Z</dcterms:modified>
  <cp:revision>31</cp:revision>
  <dc:subject/>
  <dc:title>ЭЛЕКТРИЧЕСКИЕ</dc:title>
</cp:coreProperties>
</file>