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A59-0072-4C33-B2A2-9BA2F961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27F-1CE0-4401-8DDD-0AB0F416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D17-A5D4-4514-B468-12D49E3B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8F5-762D-449A-BA93-0A596B04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6FB-56B2-491C-92D3-15BB1FE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C55-D05D-4FA6-A3C5-B30D04A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F76-1C8C-429B-A148-F5EFF23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099-6243-4EA5-99C0-7BEA022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DBB-B73F-4A92-869F-70F87CB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AAD-768E-4750-BD2C-C3F8BBF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7E6-3508-430E-92DC-13E572D3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ABD-7ACD-4CAB-B2D1-E3DF063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F7D3-8766-413A-95FB-26ECD9319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Рабочий стол\оапоа\photos0-800x600.jpe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ЭЛЕКТРИЧЕСК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ПРОВ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Admin\Рабочий стол\оапоа\Stranded_lamp_wire.jpg"/>
          <p:cNvPicPr/>
          <p:nvPr/>
        </p:nvPicPr>
        <p:blipFill>
          <a:blip r:embed="rId1"/>
          <a:stretch/>
        </p:blipFill>
        <p:spPr>
          <a:xfrm>
            <a:off x="4716360" y="2349360"/>
            <a:ext cx="3932280" cy="3951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АЗНОВИДНОСТЬ ПРОВ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Разновидности провод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)одножиль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)многожи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3280" y="1412640"/>
            <a:ext cx="404208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лектрические провода бывают без изоляции (голые) и с изоляционным покрыт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часток провода, по которому проходит электрический ток называется  токоведущей ж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х делают из меди и алюминия- металлов, обладающих хорошей электропрово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Documents and Settings\Admin\Рабочий стол\оапоа\5.1.jpg"/>
          <p:cNvPicPr/>
          <p:nvPr/>
        </p:nvPicPr>
        <p:blipFill>
          <a:blip r:embed="rId2"/>
          <a:stretch/>
        </p:blipFill>
        <p:spPr>
          <a:xfrm>
            <a:off x="457200" y="2536920"/>
            <a:ext cx="40402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ила электротехнических рабо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8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При выполнении электротехнических работ для изоляции мест  соединения проводов дуг с другом  и их оголенных участков используют изоляционную ленту и изолирующие трубку- кембр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Марки проводов имеют буквенно-цифровое обозначение, указывающее на основное назначение провода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11280" y="2174760"/>
            <a:ext cx="4753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Ш- шн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П- про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Б- быт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Р- резиновая изоля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В- изоляция полихлорвинилов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Г- гиб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Д- двойная изоля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О- изолированные жилы заключены в общую оплет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\Рабочий стол\оапоа\F2A5FCF92C944C7791B3F51A2AC45BFD.jpg"/>
          <p:cNvPicPr/>
          <p:nvPr/>
        </p:nvPicPr>
        <p:blipFill>
          <a:blip r:embed="rId1"/>
          <a:stretch/>
        </p:blipFill>
        <p:spPr>
          <a:xfrm>
            <a:off x="457200" y="2743200"/>
            <a:ext cx="37544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Назначение провод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40000" y="126828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Установочные провода- используют для выполнения электропровод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Монтажные провода – применяют для внутреннего монтажа электрических приборов и аппа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Обмоточные провода – применяются для изготовления компактных обмоток электрических машин, электроприборов , аппар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\Рабочий стол\оапоа\foto_18450.jpg"/>
          <p:cNvPicPr/>
          <p:nvPr/>
        </p:nvPicPr>
        <p:blipFill>
          <a:blip r:embed="rId1"/>
          <a:stretch/>
        </p:blipFill>
        <p:spPr>
          <a:xfrm>
            <a:off x="0" y="1773360"/>
            <a:ext cx="39304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Виды соединения провод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08000" y="1197000"/>
            <a:ext cx="5435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Разъемны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единения выполняются с помощ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тов и винтов в специальных ответвитель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об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Неразъем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оединения – это сращивани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вление и пай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Сращива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соединение между собой дв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е проводов с последующей их изоляци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</a:rPr>
              <a:t>Ответв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присоединение пу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ащивания  дополнительных проводов к главной электрической линии без нарушения ее целост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Admin\Рабочий стол\оапоа\soed_and_otvetlen_prov.gif"/>
          <p:cNvPicPr/>
          <p:nvPr/>
        </p:nvPicPr>
        <p:blipFill>
          <a:blip r:embed="rId1"/>
          <a:stretch/>
        </p:blipFill>
        <p:spPr>
          <a:xfrm>
            <a:off x="0" y="1413000"/>
            <a:ext cx="3635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Па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аяни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или, выражая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фессиональ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зыком,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ай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- это проце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единения деталей или ча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сплавленным металлом  -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рипо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качестве </a:t>
            </a: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припо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используют спла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инца с оловом. Темп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лавления такого припоя около 2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йку выполняют при помощ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электрического паяль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\Рабочий стол\оапоа\268784b979caf390b5.jpg"/>
          <p:cNvPicPr/>
          <p:nvPr/>
        </p:nvPicPr>
        <p:blipFill>
          <a:blip r:embed="rId1"/>
          <a:stretch/>
        </p:blipFill>
        <p:spPr>
          <a:xfrm>
            <a:off x="4648320" y="1863720"/>
            <a:ext cx="40384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Техника безопас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267920"/>
            <a:ext cx="40384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На рабочем столе должны находи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те материалы, детали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ы, которые используются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Срезать изоляцию с провода  следу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одкладной доске, перемещ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тажный нож от себя, что б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ежать порез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Работать нужно с исправн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Использовать электро-монтаж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ы только по назначе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)С инструментом и матери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аться бережно, не раня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)Работы с паяльником выполня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под руководство с учи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)При работе с паяльником во врем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рывов кладите его на подста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)Нагретые детали при пай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держивайте на подкладной доске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щью пинцета или щипц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)По окончании работы весь электо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мент нужно сложить в уклад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)По окончании работы вымыть ру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мыл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2:19:48Z</dcterms:created>
  <dc:creator>Admin</dc:creator>
  <dc:description/>
  <dc:language>en-US</dc:language>
  <cp:lastModifiedBy>1</cp:lastModifiedBy>
  <dcterms:modified xsi:type="dcterms:W3CDTF">2011-01-23T14:12:17Z</dcterms:modified>
  <cp:revision>31</cp:revision>
  <dc:subject/>
  <dc:title>ЭЛЕКТРИЧЕСКИЕ</dc:title>
</cp:coreProperties>
</file>